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907588" cy="6858000"/>
  <p:notesSz cx="6804025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6804000" cy="993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15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Img"/>
          </p:nvPr>
        </p:nvSpPr>
        <p:spPr>
          <a:xfrm>
            <a:off x="712800" y="745920"/>
            <a:ext cx="537840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Y헤드라인M"/>
              </a:rPr>
              <a:t>Click to move the slide</a:t>
            </a:r>
            <a:endParaRPr b="0" lang="en-US" sz="2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678960" y="471960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16"/>
          </p:nvPr>
        </p:nvSpPr>
        <p:spPr>
          <a:xfrm>
            <a:off x="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17"/>
          </p:nvPr>
        </p:nvSpPr>
        <p:spPr>
          <a:xfrm>
            <a:off x="385452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2289E0F0-F437-42D1-A0B7-4172FC3EF9B1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54520" y="943596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0B66AB65-DE39-46AA-A439-C228408EECD7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78960" y="471960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78960" y="471960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dd_int64, Subtract_int64: decision coverage 100%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ransform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ondition coverag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불가능한 조합 존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UN_Get_lookup: dead cod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UN_Get_Sqrt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나하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pression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너무 크고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loating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으로 인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ut-of-memory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 인한 낮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over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5" name="슬라이드 번호 개체 틀 3"/>
          <p:cNvSpPr/>
          <p:nvPr/>
        </p:nvSpPr>
        <p:spPr>
          <a:xfrm>
            <a:off x="3854520" y="943596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26421EBB-BA4E-4A4A-8D18-CE7F000A2C9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54520" y="943596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1A4DE4DD-4E83-42DB-8910-613A30D55632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2560" y="4718160"/>
            <a:ext cx="543888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54520" y="943596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F1AA2D18-C915-4F11-B4EA-6A0730461F5B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78960" y="471960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표는 먼저 본 연구의 개요에 대해 말씀 드린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구의 결과물 중심으로 상세 연구 결과를 말씀드리겠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끝으로 본 연구의 결론 및 향후 일정에 대하여 간단히 언급하겠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A868-D4F2-46AC-B2F8-AB7E5ACE4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10148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0BBE-7154-492B-A895-C9D46E74D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340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BFAE-857B-495B-8A6C-C517EBC87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7408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6272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7408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6272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411C-6DA1-4E5C-AFA4-F63A078B3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B4723-980F-4AC4-9EB9-E9356A6726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F9933-2D47-4324-812E-9994458689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B3AB-9B9C-4B2D-972A-96A5DBAAB1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E591-11EE-42AA-A915-38063429E4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A5B1-0EE3-4FA5-9BE4-3DD304CA54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44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BA8B6-2C1B-4D5A-8329-5394EC62FB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52A7-2D6C-4C11-AD3F-8266994BF0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D3EE-8EB1-4F73-909B-69A5FD872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D20B-B8B1-4210-BAF7-9166367675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33D0-A8A7-4C99-9443-9E3B24ADBE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440" y="410148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58E46-868B-4493-BD84-0821BBFFAA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18C4-B72E-4EF1-A3DF-4A80BF1681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7408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6272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44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7408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6272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875DA-690B-4ABD-A08C-D99CEF816D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CC277-EACA-4650-BC31-0F6E11C5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52E1A-DBAB-4452-A118-BDC6B77A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C2983-12E0-44C1-B6AD-B6347054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7D649-905B-4B97-93D8-F33AB98B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50024-FB9E-4ED7-9BAF-C24E1123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A2AE-2BF3-446C-B536-4BE863F756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44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3D17A-4560-434F-A633-08F17406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7303F-BF0B-4453-96A6-9659861F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340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C23DE-C5F0-4379-8704-1769A88A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39C13-D8FB-4913-BD22-79C9B79E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440" y="410148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04564-1F72-4E78-B7C6-23A484BE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340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33A8B-5C76-4880-9866-6E9999B4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7408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6272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44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7408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46272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CE4CD-C42C-4688-875C-ED151950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E4A85-FABF-49C8-BF10-72324735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4ADA0-40F7-40AB-B8A9-3F0E71AC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40202-0B93-412C-B568-E5AD5A89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D5D7-E0EF-4E37-98A6-2D1A9CC9E0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DCD9E-C1FD-4B92-895B-D1B3F06F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EF70B-D394-45EC-89FC-46A71343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544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358B8-07B9-44BD-BAEE-CD6C6323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620E2-7208-450A-8E0D-0CCD148F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6340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79F9E-1F76-4A26-95AE-13E1A512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725FA-D196-41BD-8D83-4D0AE9AB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440" y="410148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F42CA-AE37-4AD7-8D1F-9DCA3D17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6340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A1187-1335-4103-9B9F-17F200A6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7408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46272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44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7408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46272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AF53C-6081-4336-8F9D-6EF9C305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627E-72E2-4B59-A702-C6486A34B70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44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6340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440" y="410148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6340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7411-1D0B-444D-9A00-E0F8B159365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7408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6272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44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7408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6272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8544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6340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6A9A-2776-4CBF-8D79-9F8539B5329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85440" y="410148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6340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7408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6272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8544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57408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6272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4A906-F000-434D-87A6-5A1A10FE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2648C-13A9-48D3-8175-96D44826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C08DA-FF16-4E52-909F-F2F2A640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33558E-C183-4465-8095-113A97A6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024026-54EA-4F5D-A19E-52FFFC77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8544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2AD0B-9EE8-47E4-B08A-D86588B5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0A7D1C-67AF-45D4-AD04-3B31B6B5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340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0509-AEFF-4A76-BB96-5A3139BABB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06340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715930-2CB4-4E3E-B185-03A36AE9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762D9F-2A5B-412F-8DFB-111AD7F1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85440" y="410148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5AFDDC-F763-455C-9427-9003BFE1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06340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DE079-2E5A-401A-8D33-CA961B24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7408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46272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8544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7408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46272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C6BCB-6C08-4546-ACE8-5DA3AFD1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D8804-D0FB-49B7-B718-D4EC88AF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82642-CB93-4B08-9E93-5C024AF3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8049E-AB9A-4823-8790-20A799F6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C328EA-5A48-4697-9972-C5DEF404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D7C35D-57C9-4510-8CC9-AA4704B9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65CD-B02B-49D3-8ED7-C1068F8C1A6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C534C-D5EB-45E4-AD8A-5AD09ACA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42675-8A32-4C9D-A0CE-26A0E849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06340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3FDF3-C485-4324-AA31-12CD3C58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14451-46B4-4666-8B3B-48FD1770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440" y="410148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FEB53F-60F4-4777-9EEE-519ABA23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63400" y="18284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44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63400" y="410148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B78DF-CA05-42DA-8030-42866B20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7408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462720" y="18284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44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57408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462720" y="410148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339C9-85A1-4A4F-9DF5-38591B5C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947844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99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6C7C-BA21-4C57-A6A0-9E1775DFFF2F}" type="slidenum">
              <a:rPr b="0" lang="en-US" sz="1200" spc="-1" strike="noStrike">
                <a:solidFill>
                  <a:srgbClr val="000099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Box 4"/>
          <p:cNvSpPr/>
          <p:nvPr/>
        </p:nvSpPr>
        <p:spPr>
          <a:xfrm>
            <a:off x="0" y="6581880"/>
            <a:ext cx="990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Arial"/>
              </a:rPr>
              <a:t>HYUNDAI MOTOR GROUP  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굴림"/>
              </a:rPr>
              <a:t>-   KAIST</a:t>
            </a:r>
            <a:endParaRPr b="0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" name="직사각형 9"/>
          <p:cNvSpPr/>
          <p:nvPr/>
        </p:nvSpPr>
        <p:spPr>
          <a:xfrm>
            <a:off x="0" y="523800"/>
            <a:ext cx="9906120" cy="460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직사각형 6"/>
          <p:cNvSpPr/>
          <p:nvPr/>
        </p:nvSpPr>
        <p:spPr>
          <a:xfrm>
            <a:off x="0" y="0"/>
            <a:ext cx="696960" cy="5716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첨부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0" name="TextBox 4"/>
          <p:cNvSpPr/>
          <p:nvPr/>
        </p:nvSpPr>
        <p:spPr>
          <a:xfrm>
            <a:off x="0" y="6581880"/>
            <a:ext cx="990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Arial"/>
              </a:rPr>
              <a:t>HYUNDAI MOTOR GROUP  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굴림"/>
              </a:rPr>
              <a:t>-   </a:t>
            </a:r>
            <a:r>
              <a:rPr b="0" lang="ko-KR" sz="1000" spc="-1" strike="noStrike">
                <a:solidFill>
                  <a:srgbClr val="7f7f7f"/>
                </a:solidFill>
                <a:latin typeface="Arial"/>
                <a:ea typeface="굴림"/>
              </a:rPr>
              <a:t>연구기관명</a:t>
            </a:r>
            <a:endParaRPr b="0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1" name="직사각형 8"/>
          <p:cNvSpPr/>
          <p:nvPr/>
        </p:nvSpPr>
        <p:spPr>
          <a:xfrm>
            <a:off x="0" y="523800"/>
            <a:ext cx="9906120" cy="460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Num" idx="2"/>
          </p:nvPr>
        </p:nvSpPr>
        <p:spPr>
          <a:xfrm>
            <a:off x="947844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99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FE21-A8AA-41CA-8244-D5207BC9D429}" type="slidenum">
              <a:rPr b="0" lang="en-US" sz="1200" spc="-1" strike="noStrike">
                <a:solidFill>
                  <a:srgbClr val="000099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3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C97E-7AA4-4880-AF85-E03CC2C2A4C2}" type="datetime">
              <a:rPr b="0" lang="ko-KR" sz="1200" spc="-1" strike="noStrike">
                <a:solidFill>
                  <a:srgbClr val="898989"/>
                </a:solidFill>
                <a:latin typeface="Calibri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4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5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F942-1446-4504-BDD0-9C499A97292C}" type="slidenum">
              <a:rPr b="0" lang="ko-KR" sz="1200" spc="-1" strike="noStrike">
                <a:solidFill>
                  <a:srgbClr val="898989"/>
                </a:solidFill>
                <a:latin typeface="Calibri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6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093F-ACBA-42B7-AB62-8C90725D2699}" type="datetime">
              <a:rPr b="0" lang="ko-KR" sz="1200" spc="-1" strike="noStrike">
                <a:solidFill>
                  <a:srgbClr val="898989"/>
                </a:solidFill>
                <a:latin typeface="Calibri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7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8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B94A-75EC-4B4F-AC5D-B5840BD9D10F}" type="slidenum">
              <a:rPr b="0" lang="ko-KR" sz="1200" spc="-1" strike="noStrike">
                <a:solidFill>
                  <a:srgbClr val="898989"/>
                </a:solidFill>
                <a:latin typeface="Calibri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440" y="182844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4"/>
          <p:cNvSpPr/>
          <p:nvPr/>
        </p:nvSpPr>
        <p:spPr>
          <a:xfrm>
            <a:off x="0" y="6581880"/>
            <a:ext cx="990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Arial"/>
              </a:rPr>
              <a:t>HYUNDAI MOTOR GROUP  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굴림"/>
              </a:rPr>
              <a:t>-   KAIST</a:t>
            </a:r>
            <a:endParaRPr b="0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38" name="직사각형 9"/>
          <p:cNvSpPr/>
          <p:nvPr/>
        </p:nvSpPr>
        <p:spPr>
          <a:xfrm>
            <a:off x="0" y="523800"/>
            <a:ext cx="9906120" cy="460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dt" idx="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1"/>
          </p:nvPr>
        </p:nvSpPr>
        <p:spPr>
          <a:xfrm>
            <a:off x="947844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99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977F-25EC-405F-854E-5EE1B112577F}" type="slidenum">
              <a:rPr b="0" lang="en-US" sz="1200" spc="-1" strike="noStrike">
                <a:solidFill>
                  <a:srgbClr val="000099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직사각형 6"/>
          <p:cNvSpPr/>
          <p:nvPr/>
        </p:nvSpPr>
        <p:spPr>
          <a:xfrm>
            <a:off x="0" y="0"/>
            <a:ext cx="696960" cy="5716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첨부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0" y="6581880"/>
            <a:ext cx="990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Arial"/>
              </a:rPr>
              <a:t>HYUNDAI MOTOR GROUP  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굴림"/>
              </a:rPr>
              <a:t>-   </a:t>
            </a:r>
            <a:r>
              <a:rPr b="0" lang="ko-KR" sz="1000" spc="-1" strike="noStrike">
                <a:solidFill>
                  <a:srgbClr val="7f7f7f"/>
                </a:solidFill>
                <a:latin typeface="Arial"/>
                <a:ea typeface="굴림"/>
              </a:rPr>
              <a:t>연구기관명</a:t>
            </a:r>
            <a:endParaRPr b="0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0" name="직사각형 8"/>
          <p:cNvSpPr/>
          <p:nvPr/>
        </p:nvSpPr>
        <p:spPr>
          <a:xfrm>
            <a:off x="0" y="523800"/>
            <a:ext cx="9906120" cy="460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dt" idx="1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15BC-664D-4FAB-9D06-B569FA83CA85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30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ftr" idx="1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1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99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D277-49DF-4A64-899A-46FC6899610C}" type="slidenum">
              <a:rPr b="0" lang="ko-KR" sz="1200" spc="-1" strike="noStrike">
                <a:solidFill>
                  <a:srgbClr val="000099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77"/>
          <p:cNvSpPr/>
          <p:nvPr/>
        </p:nvSpPr>
        <p:spPr>
          <a:xfrm>
            <a:off x="1281240" y="1117440"/>
            <a:ext cx="7346880" cy="1105200"/>
          </a:xfrm>
          <a:prstGeom prst="rect">
            <a:avLst/>
          </a:prstGeom>
          <a:solidFill>
            <a:srgbClr val="d9d9d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SW</a:t>
            </a:r>
            <a:r>
              <a:rPr b="1" lang="ko-KR" sz="20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품질 향상을 위한 </a:t>
            </a:r>
            <a:r>
              <a:rPr b="1" lang="en-US" sz="20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SW </a:t>
            </a:r>
            <a:r>
              <a:rPr b="1" lang="ko-KR" sz="20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코드 커버리지 검증 강화 연구 </a:t>
            </a:r>
            <a:r>
              <a:rPr b="1" lang="en-US" sz="20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(3</a:t>
            </a:r>
            <a:r>
              <a:rPr b="1" lang="ko-KR" sz="20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차</a:t>
            </a:r>
            <a:r>
              <a:rPr b="1" lang="en-US" sz="20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1238400" y="785880"/>
            <a:ext cx="735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808080"/>
                </a:solidFill>
                <a:latin typeface="맑은 고딕"/>
                <a:ea typeface="맑은 고딕"/>
              </a:rPr>
              <a:t>완료보고서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204080" y="5099400"/>
            <a:ext cx="1419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맑은 고딕"/>
                <a:ea typeface="맑은 고딕"/>
              </a:rPr>
              <a:t>2017. 12.01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330" name="Picture 11" descr="D:\그룹로고\현대자동차그룹.png"/>
          <p:cNvPicPr/>
          <p:nvPr/>
        </p:nvPicPr>
        <p:blipFill>
          <a:blip r:embed="rId1"/>
          <a:stretch/>
        </p:blipFill>
        <p:spPr>
          <a:xfrm>
            <a:off x="2560680" y="5931000"/>
            <a:ext cx="1878120" cy="627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https://cs.kaist.ac.kr/upload_files/timeline/54f3dee9995a8.png"/>
          <p:cNvPicPr/>
          <p:nvPr/>
        </p:nvPicPr>
        <p:blipFill>
          <a:blip r:embed="rId2"/>
          <a:stretch/>
        </p:blipFill>
        <p:spPr>
          <a:xfrm>
            <a:off x="5402160" y="5619600"/>
            <a:ext cx="20178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2A21-EC08-4458-99E3-03A102323793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16" name="AutoShape 45"/>
          <p:cNvSpPr/>
          <p:nvPr/>
        </p:nvSpPr>
        <p:spPr>
          <a:xfrm>
            <a:off x="264960" y="638280"/>
            <a:ext cx="9428400" cy="404640"/>
          </a:xfrm>
          <a:prstGeom prst="roundRect">
            <a:avLst>
              <a:gd name="adj" fmla="val 10718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ion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 실행 결과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17" name="Rectangle 179"/>
          <p:cNvSpPr/>
          <p:nvPr/>
        </p:nvSpPr>
        <p:spPr>
          <a:xfrm>
            <a:off x="125280" y="6480"/>
            <a:ext cx="97045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연구내용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18" name="Text Box 177"/>
          <p:cNvSpPr/>
          <p:nvPr/>
        </p:nvSpPr>
        <p:spPr>
          <a:xfrm>
            <a:off x="317520" y="1087560"/>
            <a:ext cx="92185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MC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선정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함수에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ion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 결과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라인당 평균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18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ion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.4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라인당 평균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ion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2" marL="1047600" indent="-2286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타겟 함수에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atic array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사용하는 코드가 없어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atic array out-of-bound assertion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하지 않음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용 후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colic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테스팅 수행 결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ion violation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하지 않음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기 커버 실행 결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ion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 전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 변화 없음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2" marL="1047600" indent="-2286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(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문으로 인해 추가된 분기문은 분기 커버리지 대상에서 제외함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17520" y="3544920"/>
          <a:ext cx="8982000" cy="2857320"/>
        </p:xfrm>
        <a:graphic>
          <a:graphicData uri="http://schemas.openxmlformats.org/drawingml/2006/table">
            <a:tbl>
              <a:tblPr/>
              <a:tblGrid>
                <a:gridCol w="2003400"/>
                <a:gridCol w="422280"/>
                <a:gridCol w="988920"/>
                <a:gridCol w="1548000"/>
                <a:gridCol w="1236600"/>
                <a:gridCol w="1235160"/>
                <a:gridCol w="1547640"/>
              </a:tblGrid>
              <a:tr h="192240"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겟 함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o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삽입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ssertio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ranch co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DFS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적용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 B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Z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ull Poin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rra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-Of-B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총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dd_int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8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t64_Multiply_u32_u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ubtract_int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8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FUN_Get_Lookup_1DInterpol_Exterp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FUN_Get_Lookup_1DInterpol_Near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FUN_Get_Sq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평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6B2D-374F-4356-85CC-7659345D351A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1" name="AutoShape 45"/>
          <p:cNvSpPr/>
          <p:nvPr/>
        </p:nvSpPr>
        <p:spPr>
          <a:xfrm>
            <a:off x="264960" y="638280"/>
            <a:ext cx="9428400" cy="404640"/>
          </a:xfrm>
          <a:prstGeom prst="roundRect">
            <a:avLst>
              <a:gd name="adj" fmla="val 10718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) MC/DC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버리지 향상을 위한 도구 개발 및 이슈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2" name="Rectangle 179"/>
          <p:cNvSpPr/>
          <p:nvPr/>
        </p:nvSpPr>
        <p:spPr>
          <a:xfrm>
            <a:off x="125280" y="6480"/>
            <a:ext cx="97045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연구내용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3" name="Text Box 177"/>
          <p:cNvSpPr/>
          <p:nvPr/>
        </p:nvSpPr>
        <p:spPr>
          <a:xfrm>
            <a:off x="368280" y="1144440"/>
            <a:ext cx="92185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/DC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버리지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Major clause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값 변화에 따른 전체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redicate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값의 변화 유무를 확인하는 코드 커버리지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jor clause: MC/DC Coverage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달성여부를 확인할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lause.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inor clause: Major claus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제외한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lauses.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inor clauses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만족해야 하는 조건에 따라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nique-clause MC/DC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sking MC/DC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분류 됨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nique-cause MC/DC: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테스트 케이스 쌍에서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각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inor clause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값의 변경을 허용 안 함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sking MC/DC: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테스트 케이스 쌍에서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각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inor clause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값의 변경을 허용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424" name="그림 1" descr=""/>
          <p:cNvPicPr/>
          <p:nvPr/>
        </p:nvPicPr>
        <p:blipFill>
          <a:blip r:embed="rId1"/>
          <a:stretch/>
        </p:blipFill>
        <p:spPr>
          <a:xfrm>
            <a:off x="5402160" y="2523960"/>
            <a:ext cx="45039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03E3-4E31-4F4E-ACC8-358FDC727852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6" name="AutoShape 45"/>
          <p:cNvSpPr/>
          <p:nvPr/>
        </p:nvSpPr>
        <p:spPr>
          <a:xfrm>
            <a:off x="264960" y="638280"/>
            <a:ext cx="9428400" cy="404640"/>
          </a:xfrm>
          <a:prstGeom prst="roundRect">
            <a:avLst>
              <a:gd name="adj" fmla="val 10718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종류의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/DC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버리지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Unique-cause MC/DC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sking MC/DC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7" name="Rectangle 179"/>
          <p:cNvSpPr/>
          <p:nvPr/>
        </p:nvSpPr>
        <p:spPr>
          <a:xfrm>
            <a:off x="125280" y="6480"/>
            <a:ext cx="97045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연구내용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8" name="Text Box 177"/>
          <p:cNvSpPr/>
          <p:nvPr/>
        </p:nvSpPr>
        <p:spPr>
          <a:xfrm>
            <a:off x="368280" y="1144440"/>
            <a:ext cx="921852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nique-cause MC/DC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sking MC/DC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다 더 강력함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0% Unique-clause MC/DC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버리지는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0% masking MC/DC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버리지를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장하지만 역의 경우 성립하지 않음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2" marL="1047600" indent="-2286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3513240" y="2495520"/>
          <a:ext cx="5384520" cy="1381320"/>
        </p:xfrm>
        <a:graphic>
          <a:graphicData uri="http://schemas.openxmlformats.org/drawingml/2006/table">
            <a:tbl>
              <a:tblPr/>
              <a:tblGrid>
                <a:gridCol w="1504800"/>
                <a:gridCol w="1238400"/>
                <a:gridCol w="1236600"/>
                <a:gridCol w="140472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est case 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laus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A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laus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B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A &amp;&amp; B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TextBox 10"/>
          <p:cNvSpPr/>
          <p:nvPr/>
        </p:nvSpPr>
        <p:spPr>
          <a:xfrm>
            <a:off x="554040" y="2533680"/>
            <a:ext cx="28004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dition: if( A &amp;&amp; B )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lause 1: A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lause 2: B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1" name="TextBox 11"/>
          <p:cNvSpPr/>
          <p:nvPr/>
        </p:nvSpPr>
        <p:spPr>
          <a:xfrm>
            <a:off x="1003320" y="38894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TC 1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C 2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는 서로 다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redicate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값 생성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2" name="TextBox 12"/>
          <p:cNvSpPr/>
          <p:nvPr/>
        </p:nvSpPr>
        <p:spPr>
          <a:xfrm>
            <a:off x="1003320" y="4221000"/>
            <a:ext cx="72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TC 1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C 2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는 서로 다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jor clause(A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값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성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3" name="TextBox 13"/>
          <p:cNvSpPr/>
          <p:nvPr/>
        </p:nvSpPr>
        <p:spPr>
          <a:xfrm>
            <a:off x="1003320" y="4567320"/>
            <a:ext cx="84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각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C 1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C 2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서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jor clause(A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값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redicate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값을 결정함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4" name="TextBox 14"/>
          <p:cNvSpPr/>
          <p:nvPr/>
        </p:nvSpPr>
        <p:spPr>
          <a:xfrm>
            <a:off x="4997520" y="2214720"/>
            <a:ext cx="15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Major clause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5" name="직사각형 15"/>
          <p:cNvSpPr/>
          <p:nvPr/>
        </p:nvSpPr>
        <p:spPr>
          <a:xfrm>
            <a:off x="7485120" y="3119400"/>
            <a:ext cx="1412640" cy="371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6" name="직사각형 16"/>
          <p:cNvSpPr/>
          <p:nvPr/>
        </p:nvSpPr>
        <p:spPr>
          <a:xfrm>
            <a:off x="7485120" y="3506760"/>
            <a:ext cx="1412640" cy="371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7" name="직사각형 17"/>
          <p:cNvSpPr/>
          <p:nvPr/>
        </p:nvSpPr>
        <p:spPr>
          <a:xfrm>
            <a:off x="4997520" y="3149640"/>
            <a:ext cx="1271520" cy="328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8" name="직사각형 18"/>
          <p:cNvSpPr/>
          <p:nvPr/>
        </p:nvSpPr>
        <p:spPr>
          <a:xfrm>
            <a:off x="4997520" y="3537000"/>
            <a:ext cx="1271520" cy="328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9" name="TextBox 19"/>
          <p:cNvSpPr/>
          <p:nvPr/>
        </p:nvSpPr>
        <p:spPr>
          <a:xfrm>
            <a:off x="1432080" y="4870440"/>
            <a:ext cx="827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C 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C 2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한 </a:t>
            </a:r>
            <a:r>
              <a:rPr b="1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Masking MC/DC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Coverag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달성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하지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C 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C 2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inor clause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값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)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변경되었기 때문에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한 </a:t>
            </a:r>
            <a:r>
              <a:rPr b="1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Unique-cause MC/DC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Coverag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달성 못함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0760" y="97920"/>
            <a:ext cx="8543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arget Examp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슬라이드 번호 개체 틀 3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FF09-0751-4ECC-90AC-E08054BFC83E}" type="slidenum">
              <a:rPr b="0" lang="ko-KR" sz="1200" spc="-1" strike="noStrike">
                <a:solidFill>
                  <a:srgbClr val="898989"/>
                </a:solidFill>
                <a:latin typeface="Calibri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309600" y="1584360"/>
            <a:ext cx="352116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main.c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#include &lt;crest.h&gt;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int A, B;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int main() {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CREST_int(A);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CREST_int(B);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printf("A: %d, B: %d ", A, B);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   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맑은 고딕"/>
              </a:rPr>
              <a:t>if(A!=0 &amp;&amp; B!=0)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printf("| Condition: T\n”);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printf(“| Condition: F\n");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43" name="TextBox 5"/>
          <p:cNvSpPr/>
          <p:nvPr/>
        </p:nvSpPr>
        <p:spPr>
          <a:xfrm>
            <a:off x="1487520" y="5624640"/>
            <a:ext cx="21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타겟 코드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44" name="TextBox 14"/>
          <p:cNvSpPr/>
          <p:nvPr/>
        </p:nvSpPr>
        <p:spPr>
          <a:xfrm>
            <a:off x="5564160" y="2935440"/>
            <a:ext cx="19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CREST </a:t>
            </a:r>
            <a:r>
              <a:rPr b="0" lang="ko-KR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실행 결과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445" name="그림 18" descr=""/>
          <p:cNvPicPr/>
          <p:nvPr/>
        </p:nvPicPr>
        <p:blipFill>
          <a:blip r:embed="rId1"/>
          <a:stretch/>
        </p:blipFill>
        <p:spPr>
          <a:xfrm>
            <a:off x="4073400" y="1587600"/>
            <a:ext cx="4945320" cy="13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"/>
          <p:cNvGraphicFramePr/>
          <p:nvPr/>
        </p:nvGraphicFramePr>
        <p:xfrm>
          <a:off x="4073400" y="3357720"/>
          <a:ext cx="4919760" cy="1752480"/>
        </p:xfrm>
        <a:graphic>
          <a:graphicData uri="http://schemas.openxmlformats.org/drawingml/2006/table">
            <a:tbl>
              <a:tblPr/>
              <a:tblGrid>
                <a:gridCol w="984240"/>
                <a:gridCol w="1079640"/>
                <a:gridCol w="1176480"/>
                <a:gridCol w="167940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Claus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(A!=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Clause 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(B!=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(A!=0 &amp;&amp; B!=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es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es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est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447" name="TextBox 10"/>
          <p:cNvSpPr/>
          <p:nvPr/>
        </p:nvSpPr>
        <p:spPr>
          <a:xfrm>
            <a:off x="4140360" y="5300640"/>
            <a:ext cx="82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맑은 고딕"/>
              </a:rPr>
              <a:t>CREST</a:t>
            </a:r>
            <a:r>
              <a:rPr b="1" lang="ko-KR" sz="1800" spc="-1" strike="noStrike">
                <a:solidFill>
                  <a:srgbClr val="ff0000"/>
                </a:solidFill>
                <a:latin typeface="Calibri"/>
                <a:ea typeface="맑은 고딕"/>
              </a:rPr>
              <a:t>가 생성한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맑은 고딕"/>
              </a:rPr>
              <a:t>Test1~3 </a:t>
            </a:r>
            <a:r>
              <a:rPr b="1" lang="ko-KR" sz="1800" spc="-1" strike="noStrike">
                <a:solidFill>
                  <a:srgbClr val="ff0000"/>
                </a:solidFill>
                <a:latin typeface="Calibri"/>
                <a:ea typeface="맑은 고딕"/>
              </a:rPr>
              <a:t>으로는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맑은 고딕"/>
              </a:rPr>
              <a:t>Unique-caus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맑은 고딕"/>
              </a:rPr>
              <a:t> MC/DC Coverage</a:t>
            </a:r>
            <a:r>
              <a:rPr b="1" lang="ko-KR" sz="1800" spc="-1" strike="noStrike">
                <a:solidFill>
                  <a:srgbClr val="ff0000"/>
                </a:solidFill>
                <a:latin typeface="Calibri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ff0000"/>
                </a:solidFill>
                <a:latin typeface="Calibri"/>
                <a:ea typeface="맑은 고딕"/>
              </a:rPr>
              <a:t>달성 못 함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10760" y="365040"/>
            <a:ext cx="9132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Unique-cause MC/DC Coverage </a:t>
            </a:r>
            <a:r>
              <a:rPr b="0" lang="ko-KR" sz="4400" spc="-1" strike="noStrike">
                <a:solidFill>
                  <a:srgbClr val="000000"/>
                </a:solidFill>
                <a:latin typeface="Calibri Light"/>
              </a:rPr>
              <a:t>미달성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449600" y="3924360"/>
          <a:ext cx="4446720" cy="1584360"/>
        </p:xfrm>
        <a:graphic>
          <a:graphicData uri="http://schemas.openxmlformats.org/drawingml/2006/table">
            <a:tbl>
              <a:tblPr/>
              <a:tblGrid>
                <a:gridCol w="729000"/>
                <a:gridCol w="1019160"/>
                <a:gridCol w="1019160"/>
                <a:gridCol w="16794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맑은 고딕"/>
                        </a:rPr>
                        <a:t>Clause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맑은 고딕"/>
                        </a:rPr>
                        <a:t>(A!=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Clause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(B!=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(A!=0 &amp;&amp; B!=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Iter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Ite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Iter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450" name="슬라이드 번호 개체 틀 12"/>
          <p:cNvSpPr/>
          <p:nvPr/>
        </p:nvSpPr>
        <p:spPr>
          <a:xfrm>
            <a:off x="6996240" y="63547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19D5-E7F7-4A4A-9ADD-8DC83CCC0135}" type="slidenum">
              <a:rPr b="0" lang="ko-KR" sz="1200" spc="-1" strike="noStrike">
                <a:solidFill>
                  <a:srgbClr val="898989"/>
                </a:solidFill>
                <a:latin typeface="Calibri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66800" y="1673280"/>
            <a:ext cx="842328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ause 1</a:t>
            </a:r>
            <a:r>
              <a:rPr b="1" lang="ko-KR" sz="2200" spc="-1" strike="noStrike">
                <a:solidFill>
                  <a:srgbClr val="000000"/>
                </a:solidFill>
                <a:latin typeface="Calibri"/>
              </a:rPr>
              <a:t>이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jor </a:t>
            </a:r>
            <a:r>
              <a:rPr b="1" lang="ko-KR" sz="2200" spc="-1" strike="noStrike">
                <a:solidFill>
                  <a:srgbClr val="000000"/>
                </a:solidFill>
                <a:latin typeface="Calibri"/>
              </a:rPr>
              <a:t>인 경우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ique-cause MC/DC coverage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ko-KR" sz="2200" spc="-1" strike="noStrike">
                <a:solidFill>
                  <a:srgbClr val="ff0000"/>
                </a:solidFill>
                <a:latin typeface="Calibri"/>
              </a:rPr>
              <a:t>미달성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use 1</a:t>
            </a:r>
            <a:r>
              <a:rPr b="0" lang="ko-KR" sz="1800" spc="-1" strike="noStrike">
                <a:solidFill>
                  <a:srgbClr val="000000"/>
                </a:solidFill>
                <a:latin typeface="Calibri"/>
              </a:rPr>
              <a:t>을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jor </a:t>
            </a:r>
            <a:r>
              <a:rPr b="0" lang="ko-KR" sz="1800" spc="-1" strike="noStrike">
                <a:solidFill>
                  <a:srgbClr val="000000"/>
                </a:solidFill>
                <a:latin typeface="Calibri"/>
              </a:rPr>
              <a:t>로 수행하는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1, Test3</a:t>
            </a:r>
            <a:r>
              <a:rPr b="0" lang="ko-KR" sz="1800" spc="-1" strike="noStrike">
                <a:solidFill>
                  <a:srgbClr val="000000"/>
                </a:solidFill>
                <a:latin typeface="Calibri"/>
              </a:rPr>
              <a:t>에서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nor clause (clause 2)</a:t>
            </a:r>
            <a:r>
              <a:rPr b="0" lang="ko-KR" sz="1800" spc="-1" strike="noStrike">
                <a:solidFill>
                  <a:srgbClr val="000000"/>
                </a:solidFill>
                <a:latin typeface="Calibri"/>
              </a:rPr>
              <a:t>의 값이 변화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ause 2</a:t>
            </a:r>
            <a:r>
              <a:rPr b="1" lang="ko-KR" sz="2200" spc="-1" strike="noStrike">
                <a:solidFill>
                  <a:srgbClr val="000000"/>
                </a:solidFill>
                <a:latin typeface="Calibri"/>
              </a:rPr>
              <a:t>이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jor</a:t>
            </a:r>
            <a:r>
              <a:rPr b="1" lang="ko-KR" sz="2200" spc="-1" strike="noStrike">
                <a:solidFill>
                  <a:srgbClr val="000000"/>
                </a:solidFill>
                <a:latin typeface="Calibri"/>
              </a:rPr>
              <a:t>인 경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ique-cause MC/DC coverage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를 달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 2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와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 3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은 서로 다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jor clause 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값을 가짐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 2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와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 3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은 동일한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or clause 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값을 가짐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8"/>
          <p:cNvSpPr/>
          <p:nvPr/>
        </p:nvSpPr>
        <p:spPr>
          <a:xfrm>
            <a:off x="1009800" y="3924360"/>
            <a:ext cx="2989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Condition: if( A!=0 &amp;&amp; B!=0 )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Clause 1: A!=0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Clause 2: B!=0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53" name="TextBox 14"/>
          <p:cNvSpPr/>
          <p:nvPr/>
        </p:nvSpPr>
        <p:spPr>
          <a:xfrm>
            <a:off x="817560" y="5715000"/>
            <a:ext cx="82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따라서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CREST</a:t>
            </a:r>
            <a:r>
              <a:rPr b="1" lang="ko-KR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가 생성한 테스트로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Unique-cause MC/DC Coverage</a:t>
            </a:r>
            <a:r>
              <a:rPr b="1" lang="ko-KR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를 달성하지 못 함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54" name="직사각형 16"/>
          <p:cNvSpPr/>
          <p:nvPr/>
        </p:nvSpPr>
        <p:spPr>
          <a:xfrm>
            <a:off x="4449600" y="5170320"/>
            <a:ext cx="4446720" cy="308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55" name="직사각형 17"/>
          <p:cNvSpPr/>
          <p:nvPr/>
        </p:nvSpPr>
        <p:spPr>
          <a:xfrm>
            <a:off x="4449600" y="4503600"/>
            <a:ext cx="4446720" cy="308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MC/DC </a:t>
            </a:r>
            <a:r>
              <a:rPr b="0" lang="ko-KR" sz="2800" spc="-1" strike="noStrike">
                <a:solidFill>
                  <a:srgbClr val="000000"/>
                </a:solidFill>
                <a:latin typeface="Calibri Light"/>
              </a:rPr>
              <a:t>커버리지 향상 툴을</a:t>
            </a: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Calibri Light"/>
              </a:rPr>
              <a:t>적용한 </a:t>
            </a: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arget Example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509760" y="1825200"/>
            <a:ext cx="5117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Unique-cause MC/D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verage</a:t>
            </a:r>
            <a:r>
              <a:rPr b="0" lang="ko-KR" sz="2000" spc="-1" strike="noStrike">
                <a:solidFill>
                  <a:srgbClr val="000000"/>
                </a:solidFill>
                <a:latin typeface="Calibri"/>
              </a:rPr>
              <a:t>를 달성하기 위해 필요한 분기들을 커버리지 향상 툴이 자동 삽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슬라이드 번호 개체 틀 3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43DF-FA5E-4B2E-AFC8-7B1BE4B0040F}" type="slidenum">
              <a:rPr b="0" lang="ko-KR" sz="1200" spc="-1" strike="noStrike">
                <a:solidFill>
                  <a:srgbClr val="898989"/>
                </a:solidFill>
                <a:latin typeface="Calibri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59" name="TextBox 4"/>
          <p:cNvSpPr/>
          <p:nvPr/>
        </p:nvSpPr>
        <p:spPr>
          <a:xfrm>
            <a:off x="6218280" y="430200"/>
            <a:ext cx="3325680" cy="575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main_tool_applied.c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#include &lt;stdio.h&gt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#include &lt;crest.h&gt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int main(){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int A,B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CREST_int(A)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CREST_int(B)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printf("A: %d, B: %d ",A,B)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    </a:t>
            </a: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{//wrap_if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        </a:t>
            </a: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__CrestSymPathNegOn()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        </a:t>
            </a: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// Generated code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        </a:t>
            </a: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if((1 &amp;&amp; B!=0) != (0 &amp;&amp; B!=0)) {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            </a:t>
            </a: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if(A!=0) printf("")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        </a:t>
            </a: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        </a:t>
            </a: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if((A!=0 &amp;&amp; 1) != (A!=0 &amp;&amp; 0)) {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            </a:t>
            </a: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if(B!=0) printf("")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        </a:t>
            </a: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        </a:t>
            </a: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__CrestSymPathNegOff()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        </a:t>
            </a: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//End generated code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if(A!=0 &amp;&amp; B!=0) {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            </a:t>
            </a: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__CrestSymPathNegOn()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printf("| Condition: T\n")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            </a:t>
            </a: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__CrestSymPathNegOn()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printf("| Condition: F\n")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    </a:t>
            </a: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}//wrap_if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    </a:t>
            </a: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맑은 고딕"/>
              </a:rPr>
              <a:t>__CrestSymPathNegOn()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6345360" y="6491160"/>
            <a:ext cx="23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툴 적용한 타겟 코드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781200" y="3454560"/>
          <a:ext cx="4919400" cy="2124000"/>
        </p:xfrm>
        <a:graphic>
          <a:graphicData uri="http://schemas.openxmlformats.org/drawingml/2006/table">
            <a:tbl>
              <a:tblPr/>
              <a:tblGrid>
                <a:gridCol w="1199880"/>
                <a:gridCol w="1020960"/>
                <a:gridCol w="1019160"/>
                <a:gridCol w="16794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Claus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(A!=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Claus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(B!=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(A!=0 &amp;&amp; B!=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es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es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est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est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62" name="TextBox 9"/>
          <p:cNvSpPr/>
          <p:nvPr/>
        </p:nvSpPr>
        <p:spPr>
          <a:xfrm>
            <a:off x="681120" y="3086280"/>
            <a:ext cx="55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툴 적용한 코드에 대해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CREST</a:t>
            </a:r>
            <a:r>
              <a:rPr b="0" lang="ko-KR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가 생성한 테스트 케이스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Unique MC/DC Coverage </a:t>
            </a:r>
            <a:r>
              <a:rPr b="0" lang="ko-KR" sz="4400" spc="-1" strike="noStrike">
                <a:solidFill>
                  <a:srgbClr val="000000"/>
                </a:solidFill>
                <a:latin typeface="Calibri Light"/>
              </a:rPr>
              <a:t>달성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4449600" y="4435560"/>
          <a:ext cx="4446720" cy="1920960"/>
        </p:xfrm>
        <a:graphic>
          <a:graphicData uri="http://schemas.openxmlformats.org/drawingml/2006/table">
            <a:tbl>
              <a:tblPr/>
              <a:tblGrid>
                <a:gridCol w="729000"/>
                <a:gridCol w="1019160"/>
                <a:gridCol w="1019160"/>
                <a:gridCol w="16794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alibri"/>
                          <a:ea typeface="맑은 고딕"/>
                        </a:rPr>
                        <a:t>Clause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Calibri"/>
                          <a:ea typeface="맑은 고딕"/>
                        </a:rPr>
                        <a:t>(A!=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Clause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(B!=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Cond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(A!=0 &amp;&amp; B!=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es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es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est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est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65" name="슬라이드 번호 개체 틀 12"/>
          <p:cNvSpPr/>
          <p:nvPr/>
        </p:nvSpPr>
        <p:spPr>
          <a:xfrm>
            <a:off x="699624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6C35-7A6F-417D-B864-6570AF52D8F8}" type="slidenum">
              <a:rPr b="0" lang="ko-KR" sz="1200" spc="-1" strike="noStrike">
                <a:solidFill>
                  <a:srgbClr val="898989"/>
                </a:solidFill>
                <a:latin typeface="Calibri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0000" y="1825200"/>
            <a:ext cx="981252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ause 1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에 대해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ique-cause MC/DC coverage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를 달성하는 테스트 케이스 쌍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 2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와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 3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은 서로 다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ition 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값을 가짐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 2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와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 3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은 서로 다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jor clause (A!=0) 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값을 가짐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각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 2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 3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에서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jor clause(A!=0) 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값은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ition 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값을 결정함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 2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와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 3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에서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or clause (B!=0)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Calibri"/>
              </a:rPr>
              <a:t>값 변화가 없음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8"/>
          <p:cNvSpPr/>
          <p:nvPr/>
        </p:nvSpPr>
        <p:spPr>
          <a:xfrm>
            <a:off x="1009800" y="4435560"/>
            <a:ext cx="2989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Condition: if( A!=0 &amp;&amp; B!=0 )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Clause 1: A!=0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Clause 2: B!=0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68" name="직사각형 2"/>
          <p:cNvSpPr/>
          <p:nvPr/>
        </p:nvSpPr>
        <p:spPr>
          <a:xfrm>
            <a:off x="4449600" y="5694480"/>
            <a:ext cx="4446720" cy="309600"/>
          </a:xfrm>
          <a:prstGeom prst="rect">
            <a:avLst/>
          </a:prstGeom>
          <a:noFill/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69" name="직사각형 9"/>
          <p:cNvSpPr/>
          <p:nvPr/>
        </p:nvSpPr>
        <p:spPr>
          <a:xfrm>
            <a:off x="4449600" y="5359320"/>
            <a:ext cx="4446720" cy="308160"/>
          </a:xfrm>
          <a:prstGeom prst="rect">
            <a:avLst/>
          </a:prstGeom>
          <a:noFill/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5149800" y="41832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libri"/>
                <a:ea typeface="맑은 고딕"/>
              </a:rPr>
              <a:t>Major clause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B8CA-47D3-44EC-8E33-09F5C64F3684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2" name="AutoShape 45"/>
          <p:cNvSpPr/>
          <p:nvPr/>
        </p:nvSpPr>
        <p:spPr>
          <a:xfrm>
            <a:off x="264960" y="638280"/>
            <a:ext cx="9428400" cy="404640"/>
          </a:xfrm>
          <a:prstGeom prst="roundRect">
            <a:avLst>
              <a:gd name="adj" fmla="val 10718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/DC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버리지 달성 이슈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3" name="Rectangle 179"/>
          <p:cNvSpPr/>
          <p:nvPr/>
        </p:nvSpPr>
        <p:spPr>
          <a:xfrm>
            <a:off x="125280" y="6480"/>
            <a:ext cx="97045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연구내용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4" name="Text Box 177"/>
          <p:cNvSpPr/>
          <p:nvPr/>
        </p:nvSpPr>
        <p:spPr>
          <a:xfrm>
            <a:off x="317520" y="1027080"/>
            <a:ext cx="92185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초 계획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Unique-cause MC/DC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버리지 달성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colic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테스팅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구 개발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102888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nique-cause MC/DC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달성을 위한 추가 조건문 삽입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제점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재 현대차에서는 더 강력한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nique-cause MC/DC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아닌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다 쉬운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sking MC/DC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버리지 사용중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102888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존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RES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도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sking MC/DC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달성 가능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ES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각각의 조건문을 개별적으로 나눠서 각 조건문이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/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C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모두 생성하기 때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1698480" y="4419720"/>
            <a:ext cx="230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if (A &amp;&amp; (B||C)){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 …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 }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4908600" y="3219480"/>
            <a:ext cx="4365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// Unique-cause MC/DC </a:t>
            </a:r>
            <a:r>
              <a:rPr b="0" lang="ko-K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를 위해 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// </a:t>
            </a:r>
            <a:r>
              <a:rPr b="0" lang="ko-K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추가적으로 삽입된 조건문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 if ( B||C ){  </a:t>
            </a:r>
            <a:r>
              <a:rPr b="0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// A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조건이 전체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   if(A){}     </a:t>
            </a:r>
            <a:r>
              <a:rPr b="0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//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분기 결과를 결정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   else{}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4 }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5 if (A &amp;&amp; !C){ </a:t>
            </a:r>
            <a:r>
              <a:rPr b="0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// B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조건이 전체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6   if(B){}     </a:t>
            </a:r>
            <a:r>
              <a:rPr b="0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//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분기 결과를 결정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7   else{}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8 }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9 if (A &amp;&amp; !B){  </a:t>
            </a:r>
            <a:r>
              <a:rPr b="0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// C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조건이 전체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0   if(C){}      </a:t>
            </a:r>
            <a:r>
              <a:rPr b="0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//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분기 결과를 결정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1   else{}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2 }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3 if (A &amp;&amp; (B||C)){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7" name="오른쪽 화살표 13"/>
          <p:cNvSpPr/>
          <p:nvPr/>
        </p:nvSpPr>
        <p:spPr>
          <a:xfrm>
            <a:off x="4130640" y="4591080"/>
            <a:ext cx="574560" cy="430200"/>
          </a:xfrm>
          <a:prstGeom prst="rightArrow">
            <a:avLst>
              <a:gd name="adj1" fmla="val 50000"/>
              <a:gd name="adj2" fmla="val 49991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EBE2-9B96-4ECB-9123-F95DC1DBE69F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9" name="AutoShape 45"/>
          <p:cNvSpPr/>
          <p:nvPr/>
        </p:nvSpPr>
        <p:spPr>
          <a:xfrm>
            <a:off x="264960" y="638280"/>
            <a:ext cx="9428400" cy="404640"/>
          </a:xfrm>
          <a:prstGeom prst="roundRect">
            <a:avLst>
              <a:gd name="adj" fmla="val 10718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) Integer overflow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탐지를 위한 자동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ion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0" name="Rectangle 179"/>
          <p:cNvSpPr/>
          <p:nvPr/>
        </p:nvSpPr>
        <p:spPr>
          <a:xfrm>
            <a:off x="125280" y="6480"/>
            <a:ext cx="97045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연구내용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1" name="Text Box 177"/>
          <p:cNvSpPr/>
          <p:nvPr/>
        </p:nvSpPr>
        <p:spPr>
          <a:xfrm>
            <a:off x="317520" y="1087560"/>
            <a:ext cx="921852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ger overflow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탐지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()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문 삽입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2" marL="1047600" indent="-2286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lang C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 도구를 사용하여 정수 피연산자에 대한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+, -, *, &lt;&lt;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산 구문을 실행하기 직전에 실행 결과가 해당 연산 결과의 타입 범위를 초과하는제 체크하기 위한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()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문 삽입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2" name="TextBox 4"/>
          <p:cNvSpPr/>
          <p:nvPr/>
        </p:nvSpPr>
        <p:spPr>
          <a:xfrm>
            <a:off x="677880" y="2925720"/>
            <a:ext cx="83707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#define INT_MIN -2147483648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 #define INT_MAX 2147483647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 int f(int a, int b){ 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int ret;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5   assert((long long)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_MIN &lt;= (long long)a + (long long)b); // underflow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6   assert((long long)a + (long long)b &lt;= (long long)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_MAX); // overflow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ret = a + b;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return ret;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 }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7"/>
          <p:cNvSpPr/>
          <p:nvPr/>
        </p:nvSpPr>
        <p:spPr>
          <a:xfrm>
            <a:off x="100080" y="1606680"/>
            <a:ext cx="35211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//Example.c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onsolas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myPrint(</a:t>
            </a:r>
            <a:r>
              <a:rPr b="0" lang="en-US" sz="1400" spc="-1" strike="noStrike">
                <a:solidFill>
                  <a:srgbClr val="0070c0"/>
                </a:solidFill>
                <a:latin typeface="Consolas"/>
              </a:rPr>
              <a:t>int</a:t>
            </a:r>
            <a:r>
              <a:rPr b="0" lang="ko-KR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param) {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70c0"/>
                </a:solidFill>
                <a:latin typeface="Consolas"/>
              </a:rPr>
              <a:t>for</a:t>
            </a:r>
            <a:r>
              <a:rPr b="0" lang="nn-NO" sz="1400" spc="-1" strike="noStrike">
                <a:solidFill>
                  <a:srgbClr val="000000"/>
                </a:solidFill>
                <a:latin typeface="Consolas"/>
              </a:rPr>
              <a:t> (</a:t>
            </a:r>
            <a:r>
              <a:rPr b="0" lang="nn-NO" sz="1400" spc="-1" strike="noStrike">
                <a:solidFill>
                  <a:srgbClr val="0070c0"/>
                </a:solidFill>
                <a:latin typeface="Consolas"/>
              </a:rPr>
              <a:t>int</a:t>
            </a:r>
            <a:r>
              <a:rPr b="0" lang="nn-NO" sz="1400" spc="-1" strike="noStrike">
                <a:solidFill>
                  <a:srgbClr val="000000"/>
                </a:solidFill>
                <a:latin typeface="Consolas"/>
              </a:rPr>
              <a:t> i = 0 ; i &lt; 10 ; i++ ) {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nn-NO" sz="1400" spc="-1" strike="noStrike">
                <a:solidFill>
                  <a:srgbClr val="000000"/>
                </a:solidFill>
                <a:latin typeface="Consolas"/>
              </a:rPr>
              <a:t>global += i;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nn-NO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4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7DED-55D0-4EF4-8C74-E77F0D25578E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5" name="AutoShape 45"/>
          <p:cNvSpPr/>
          <p:nvPr/>
        </p:nvSpPr>
        <p:spPr>
          <a:xfrm>
            <a:off x="264960" y="638280"/>
            <a:ext cx="9428400" cy="404640"/>
          </a:xfrm>
          <a:prstGeom prst="roundRect">
            <a:avLst>
              <a:gd name="adj" fmla="val 10718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ion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을 위한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lang/LLVM AST tree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탐색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6" name="Rectangle 179"/>
          <p:cNvSpPr/>
          <p:nvPr/>
        </p:nvSpPr>
        <p:spPr>
          <a:xfrm>
            <a:off x="125280" y="6480"/>
            <a:ext cx="97045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연구내용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7" name="직사각형 20"/>
          <p:cNvSpPr/>
          <p:nvPr/>
        </p:nvSpPr>
        <p:spPr>
          <a:xfrm>
            <a:off x="5380200" y="4890960"/>
            <a:ext cx="1793880" cy="463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8" name="TextBox 22"/>
          <p:cNvSpPr/>
          <p:nvPr/>
        </p:nvSpPr>
        <p:spPr>
          <a:xfrm>
            <a:off x="7228080" y="4054320"/>
            <a:ext cx="239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정수 사이의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+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산이 수행되므로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ger overflow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체크 연산 삽입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3460680" y="1252440"/>
            <a:ext cx="684360" cy="1954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490" name="Picture 6" descr=""/>
          <p:cNvPicPr/>
          <p:nvPr/>
        </p:nvPicPr>
        <p:blipFill>
          <a:blip r:embed="rId1"/>
          <a:stretch/>
        </p:blipFill>
        <p:spPr>
          <a:xfrm>
            <a:off x="3463920" y="1254240"/>
            <a:ext cx="682560" cy="19044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7"/>
          <p:cNvSpPr/>
          <p:nvPr/>
        </p:nvSpPr>
        <p:spPr>
          <a:xfrm>
            <a:off x="3460680" y="1252440"/>
            <a:ext cx="684360" cy="1954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3460680" y="1246320"/>
            <a:ext cx="698400" cy="207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93" name="Freeform 9"/>
          <p:cNvSpPr/>
          <p:nvPr/>
        </p:nvSpPr>
        <p:spPr>
          <a:xfrm>
            <a:off x="3460680" y="1251000"/>
            <a:ext cx="689040" cy="198360"/>
          </a:xfrm>
          <a:custGeom>
            <a:avLst/>
            <a:gdLst/>
            <a:ahLst/>
            <a:rect l="l" t="t" r="r" b="b"/>
            <a:pathLst>
              <a:path w="1528" h="439">
                <a:moveTo>
                  <a:pt x="8" y="423"/>
                </a:moveTo>
                <a:lnTo>
                  <a:pt x="1520" y="423"/>
                </a:lnTo>
                <a:lnTo>
                  <a:pt x="1512" y="431"/>
                </a:lnTo>
                <a:lnTo>
                  <a:pt x="1512" y="8"/>
                </a:lnTo>
                <a:lnTo>
                  <a:pt x="1520" y="16"/>
                </a:lnTo>
                <a:lnTo>
                  <a:pt x="8" y="16"/>
                </a:lnTo>
                <a:lnTo>
                  <a:pt x="16" y="8"/>
                </a:lnTo>
                <a:lnTo>
                  <a:pt x="16" y="431"/>
                </a:lnTo>
                <a:cubicBezTo>
                  <a:pt x="16" y="435"/>
                  <a:pt x="12" y="439"/>
                  <a:pt x="8" y="439"/>
                </a:cubicBezTo>
                <a:cubicBezTo>
                  <a:pt x="3" y="439"/>
                  <a:pt x="0" y="435"/>
                  <a:pt x="0" y="431"/>
                </a:cubicBezTo>
                <a:lnTo>
                  <a:pt x="0" y="8"/>
                </a:lnTo>
                <a:cubicBezTo>
                  <a:pt x="0" y="3"/>
                  <a:pt x="3" y="0"/>
                  <a:pt x="8" y="0"/>
                </a:cubicBezTo>
                <a:lnTo>
                  <a:pt x="1520" y="0"/>
                </a:lnTo>
                <a:cubicBezTo>
                  <a:pt x="1524" y="0"/>
                  <a:pt x="1528" y="3"/>
                  <a:pt x="1528" y="8"/>
                </a:cubicBezTo>
                <a:lnTo>
                  <a:pt x="1528" y="431"/>
                </a:lnTo>
                <a:cubicBezTo>
                  <a:pt x="1528" y="435"/>
                  <a:pt x="1524" y="439"/>
                  <a:pt x="1520" y="439"/>
                </a:cubicBezTo>
                <a:lnTo>
                  <a:pt x="8" y="439"/>
                </a:lnTo>
                <a:cubicBezTo>
                  <a:pt x="3" y="439"/>
                  <a:pt x="0" y="435"/>
                  <a:pt x="0" y="431"/>
                </a:cubicBezTo>
                <a:cubicBezTo>
                  <a:pt x="0" y="426"/>
                  <a:pt x="3" y="423"/>
                  <a:pt x="8" y="423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3460680" y="1246320"/>
            <a:ext cx="698400" cy="207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3438360" y="1231920"/>
            <a:ext cx="700200" cy="648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96" name="Rectangle 12"/>
          <p:cNvSpPr/>
          <p:nvPr/>
        </p:nvSpPr>
        <p:spPr>
          <a:xfrm>
            <a:off x="3438360" y="1238400"/>
            <a:ext cx="7002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97" name="Rectangle 13"/>
          <p:cNvSpPr/>
          <p:nvPr/>
        </p:nvSpPr>
        <p:spPr>
          <a:xfrm>
            <a:off x="3438360" y="1246320"/>
            <a:ext cx="700200" cy="612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98" name="Rectangle 14"/>
          <p:cNvSpPr/>
          <p:nvPr/>
        </p:nvSpPr>
        <p:spPr>
          <a:xfrm>
            <a:off x="3438360" y="1252440"/>
            <a:ext cx="700200" cy="1440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99" name="Rectangle 15"/>
          <p:cNvSpPr/>
          <p:nvPr/>
        </p:nvSpPr>
        <p:spPr>
          <a:xfrm>
            <a:off x="3438360" y="1266840"/>
            <a:ext cx="700200" cy="1440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0" name="Rectangle 16"/>
          <p:cNvSpPr/>
          <p:nvPr/>
        </p:nvSpPr>
        <p:spPr>
          <a:xfrm>
            <a:off x="3438360" y="1281240"/>
            <a:ext cx="700200" cy="1404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1" name="Rectangle 17"/>
          <p:cNvSpPr/>
          <p:nvPr/>
        </p:nvSpPr>
        <p:spPr>
          <a:xfrm>
            <a:off x="3438360" y="1295280"/>
            <a:ext cx="700200" cy="1584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2" name="Rectangle 18"/>
          <p:cNvSpPr/>
          <p:nvPr/>
        </p:nvSpPr>
        <p:spPr>
          <a:xfrm>
            <a:off x="3438360" y="1311120"/>
            <a:ext cx="700200" cy="64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3" name="Rectangle 19"/>
          <p:cNvSpPr/>
          <p:nvPr/>
        </p:nvSpPr>
        <p:spPr>
          <a:xfrm>
            <a:off x="3438360" y="1317600"/>
            <a:ext cx="700200" cy="28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4" name="Rectangle 20"/>
          <p:cNvSpPr/>
          <p:nvPr/>
        </p:nvSpPr>
        <p:spPr>
          <a:xfrm>
            <a:off x="3438360" y="1346040"/>
            <a:ext cx="700200" cy="1440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5" name="Rectangle 21"/>
          <p:cNvSpPr/>
          <p:nvPr/>
        </p:nvSpPr>
        <p:spPr>
          <a:xfrm>
            <a:off x="3438360" y="1360440"/>
            <a:ext cx="700200" cy="792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6" name="Rectangle 22"/>
          <p:cNvSpPr/>
          <p:nvPr/>
        </p:nvSpPr>
        <p:spPr>
          <a:xfrm>
            <a:off x="3438360" y="1368360"/>
            <a:ext cx="700200" cy="144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7" name="Rectangle 23"/>
          <p:cNvSpPr/>
          <p:nvPr/>
        </p:nvSpPr>
        <p:spPr>
          <a:xfrm>
            <a:off x="3438360" y="1382760"/>
            <a:ext cx="700200" cy="1440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8" name="Rectangle 24"/>
          <p:cNvSpPr/>
          <p:nvPr/>
        </p:nvSpPr>
        <p:spPr>
          <a:xfrm>
            <a:off x="3438360" y="1397160"/>
            <a:ext cx="700200" cy="140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9" name="Rectangle 25"/>
          <p:cNvSpPr/>
          <p:nvPr/>
        </p:nvSpPr>
        <p:spPr>
          <a:xfrm>
            <a:off x="3438360" y="1411200"/>
            <a:ext cx="700200" cy="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10" name="Rectangle 26"/>
          <p:cNvSpPr/>
          <p:nvPr/>
        </p:nvSpPr>
        <p:spPr>
          <a:xfrm>
            <a:off x="3438360" y="1425600"/>
            <a:ext cx="700200" cy="79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11" name="Rectangle 27"/>
          <p:cNvSpPr/>
          <p:nvPr/>
        </p:nvSpPr>
        <p:spPr>
          <a:xfrm>
            <a:off x="3438360" y="1433520"/>
            <a:ext cx="700200" cy="648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12" name="Rectangle 28"/>
          <p:cNvSpPr/>
          <p:nvPr/>
        </p:nvSpPr>
        <p:spPr>
          <a:xfrm>
            <a:off x="3451320" y="1241280"/>
            <a:ext cx="681120" cy="190800"/>
          </a:xfrm>
          <a:prstGeom prst="rect">
            <a:avLst/>
          </a:prstGeom>
          <a:noFill/>
          <a:ln cap="rnd" w="1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13" name="Rectangle 29"/>
          <p:cNvSpPr/>
          <p:nvPr/>
        </p:nvSpPr>
        <p:spPr>
          <a:xfrm>
            <a:off x="3599280" y="1244520"/>
            <a:ext cx="45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Calibri"/>
              </a:rPr>
              <a:t>ForStmt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14" name="Rectangle 30"/>
          <p:cNvSpPr/>
          <p:nvPr/>
        </p:nvSpPr>
        <p:spPr>
          <a:xfrm>
            <a:off x="4253040" y="1433520"/>
            <a:ext cx="598320" cy="193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515" name="Picture 31" descr=""/>
          <p:cNvPicPr/>
          <p:nvPr/>
        </p:nvPicPr>
        <p:blipFill>
          <a:blip r:embed="rId2"/>
          <a:stretch/>
        </p:blipFill>
        <p:spPr>
          <a:xfrm>
            <a:off x="4254480" y="1438200"/>
            <a:ext cx="593640" cy="1904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32"/>
          <p:cNvSpPr/>
          <p:nvPr/>
        </p:nvSpPr>
        <p:spPr>
          <a:xfrm>
            <a:off x="4253040" y="1433520"/>
            <a:ext cx="598320" cy="193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17" name="Rectangle 33"/>
          <p:cNvSpPr/>
          <p:nvPr/>
        </p:nvSpPr>
        <p:spPr>
          <a:xfrm>
            <a:off x="4246560" y="1433520"/>
            <a:ext cx="612720" cy="2080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18" name="Freeform 34"/>
          <p:cNvSpPr/>
          <p:nvPr/>
        </p:nvSpPr>
        <p:spPr>
          <a:xfrm>
            <a:off x="4251240" y="1434960"/>
            <a:ext cx="600120" cy="196920"/>
          </a:xfrm>
          <a:custGeom>
            <a:avLst/>
            <a:gdLst/>
            <a:ahLst/>
            <a:rect l="l" t="t" r="r" b="b"/>
            <a:pathLst>
              <a:path w="1331" h="439">
                <a:moveTo>
                  <a:pt x="8" y="423"/>
                </a:moveTo>
                <a:lnTo>
                  <a:pt x="1323" y="423"/>
                </a:lnTo>
                <a:lnTo>
                  <a:pt x="1315" y="431"/>
                </a:lnTo>
                <a:lnTo>
                  <a:pt x="1315" y="8"/>
                </a:lnTo>
                <a:lnTo>
                  <a:pt x="1323" y="16"/>
                </a:lnTo>
                <a:lnTo>
                  <a:pt x="8" y="16"/>
                </a:lnTo>
                <a:lnTo>
                  <a:pt x="16" y="8"/>
                </a:lnTo>
                <a:lnTo>
                  <a:pt x="16" y="431"/>
                </a:lnTo>
                <a:cubicBezTo>
                  <a:pt x="16" y="435"/>
                  <a:pt x="12" y="439"/>
                  <a:pt x="8" y="439"/>
                </a:cubicBezTo>
                <a:cubicBezTo>
                  <a:pt x="3" y="439"/>
                  <a:pt x="0" y="435"/>
                  <a:pt x="0" y="431"/>
                </a:cubicBezTo>
                <a:lnTo>
                  <a:pt x="0" y="8"/>
                </a:lnTo>
                <a:cubicBezTo>
                  <a:pt x="0" y="3"/>
                  <a:pt x="3" y="0"/>
                  <a:pt x="8" y="0"/>
                </a:cubicBezTo>
                <a:lnTo>
                  <a:pt x="1323" y="0"/>
                </a:lnTo>
                <a:cubicBezTo>
                  <a:pt x="1327" y="0"/>
                  <a:pt x="1331" y="3"/>
                  <a:pt x="1331" y="8"/>
                </a:cubicBezTo>
                <a:lnTo>
                  <a:pt x="1331" y="431"/>
                </a:lnTo>
                <a:cubicBezTo>
                  <a:pt x="1331" y="435"/>
                  <a:pt x="1327" y="439"/>
                  <a:pt x="1323" y="439"/>
                </a:cubicBezTo>
                <a:lnTo>
                  <a:pt x="8" y="439"/>
                </a:lnTo>
                <a:cubicBezTo>
                  <a:pt x="3" y="439"/>
                  <a:pt x="0" y="435"/>
                  <a:pt x="0" y="431"/>
                </a:cubicBezTo>
                <a:cubicBezTo>
                  <a:pt x="0" y="427"/>
                  <a:pt x="3" y="423"/>
                  <a:pt x="8" y="423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19" name="Rectangle 35"/>
          <p:cNvSpPr/>
          <p:nvPr/>
        </p:nvSpPr>
        <p:spPr>
          <a:xfrm>
            <a:off x="4246560" y="1433520"/>
            <a:ext cx="612720" cy="2080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20" name="Rectangle 36"/>
          <p:cNvSpPr/>
          <p:nvPr/>
        </p:nvSpPr>
        <p:spPr>
          <a:xfrm>
            <a:off x="4232160" y="1411200"/>
            <a:ext cx="612720" cy="79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21" name="Rectangle 37"/>
          <p:cNvSpPr/>
          <p:nvPr/>
        </p:nvSpPr>
        <p:spPr>
          <a:xfrm>
            <a:off x="4232160" y="1419120"/>
            <a:ext cx="6127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22" name="Rectangle 38"/>
          <p:cNvSpPr/>
          <p:nvPr/>
        </p:nvSpPr>
        <p:spPr>
          <a:xfrm>
            <a:off x="4232160" y="1425600"/>
            <a:ext cx="612720" cy="1440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23" name="Rectangle 39"/>
          <p:cNvSpPr/>
          <p:nvPr/>
        </p:nvSpPr>
        <p:spPr>
          <a:xfrm>
            <a:off x="4232160" y="1440000"/>
            <a:ext cx="612720" cy="1404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24" name="Rectangle 40"/>
          <p:cNvSpPr/>
          <p:nvPr/>
        </p:nvSpPr>
        <p:spPr>
          <a:xfrm>
            <a:off x="4232160" y="1454040"/>
            <a:ext cx="612720" cy="1440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25" name="Rectangle 41"/>
          <p:cNvSpPr/>
          <p:nvPr/>
        </p:nvSpPr>
        <p:spPr>
          <a:xfrm>
            <a:off x="4232160" y="1468440"/>
            <a:ext cx="612720" cy="792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26" name="Rectangle 42"/>
          <p:cNvSpPr/>
          <p:nvPr/>
        </p:nvSpPr>
        <p:spPr>
          <a:xfrm>
            <a:off x="4232160" y="1476360"/>
            <a:ext cx="612720" cy="1440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27" name="Rectangle 43"/>
          <p:cNvSpPr/>
          <p:nvPr/>
        </p:nvSpPr>
        <p:spPr>
          <a:xfrm>
            <a:off x="4232160" y="1490760"/>
            <a:ext cx="612720" cy="14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28" name="Rectangle 44"/>
          <p:cNvSpPr/>
          <p:nvPr/>
        </p:nvSpPr>
        <p:spPr>
          <a:xfrm>
            <a:off x="4232160" y="1504800"/>
            <a:ext cx="612720" cy="223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29" name="Rectangle 45"/>
          <p:cNvSpPr/>
          <p:nvPr/>
        </p:nvSpPr>
        <p:spPr>
          <a:xfrm>
            <a:off x="4232160" y="1527120"/>
            <a:ext cx="612720" cy="1440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30" name="Rectangle 46"/>
          <p:cNvSpPr/>
          <p:nvPr/>
        </p:nvSpPr>
        <p:spPr>
          <a:xfrm>
            <a:off x="4232160" y="1541520"/>
            <a:ext cx="612720" cy="1440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31" name="Rectangle 47"/>
          <p:cNvSpPr/>
          <p:nvPr/>
        </p:nvSpPr>
        <p:spPr>
          <a:xfrm>
            <a:off x="4232160" y="1555920"/>
            <a:ext cx="612720" cy="1404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32" name="Rectangle 48"/>
          <p:cNvSpPr/>
          <p:nvPr/>
        </p:nvSpPr>
        <p:spPr>
          <a:xfrm>
            <a:off x="4232160" y="1569960"/>
            <a:ext cx="612720" cy="1440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33" name="Rectangle 49"/>
          <p:cNvSpPr/>
          <p:nvPr/>
        </p:nvSpPr>
        <p:spPr>
          <a:xfrm>
            <a:off x="4232160" y="1584360"/>
            <a:ext cx="612720" cy="792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34" name="Rectangle 50"/>
          <p:cNvSpPr/>
          <p:nvPr/>
        </p:nvSpPr>
        <p:spPr>
          <a:xfrm>
            <a:off x="4232160" y="1592280"/>
            <a:ext cx="612720" cy="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35" name="Rectangle 51"/>
          <p:cNvSpPr/>
          <p:nvPr/>
        </p:nvSpPr>
        <p:spPr>
          <a:xfrm>
            <a:off x="4232160" y="1606680"/>
            <a:ext cx="612720" cy="140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36" name="Rectangle 52"/>
          <p:cNvSpPr/>
          <p:nvPr/>
        </p:nvSpPr>
        <p:spPr>
          <a:xfrm>
            <a:off x="4241880" y="1424160"/>
            <a:ext cx="592200" cy="190440"/>
          </a:xfrm>
          <a:prstGeom prst="rect">
            <a:avLst/>
          </a:prstGeom>
          <a:noFill/>
          <a:ln cap="rnd" w="1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37" name="Rectangle 53"/>
          <p:cNvSpPr/>
          <p:nvPr/>
        </p:nvSpPr>
        <p:spPr>
          <a:xfrm>
            <a:off x="4318200" y="1432080"/>
            <a:ext cx="518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Calibri"/>
              </a:rPr>
              <a:t>DeclStmt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38" name="Rectangle 54"/>
          <p:cNvSpPr/>
          <p:nvPr/>
        </p:nvSpPr>
        <p:spPr>
          <a:xfrm>
            <a:off x="4952880" y="1584360"/>
            <a:ext cx="922320" cy="38880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39" name="Freeform 55"/>
          <p:cNvSpPr/>
          <p:nvPr/>
        </p:nvSpPr>
        <p:spPr>
          <a:xfrm>
            <a:off x="4956120" y="1587600"/>
            <a:ext cx="914400" cy="382320"/>
          </a:xfrm>
          <a:custGeom>
            <a:avLst/>
            <a:gdLst/>
            <a:ahLst/>
            <a:rect l="l" t="t" r="r" b="b"/>
            <a:pathLst>
              <a:path w="2029" h="847">
                <a:moveTo>
                  <a:pt x="423" y="847"/>
                </a:moveTo>
                <a:lnTo>
                  <a:pt x="1606" y="847"/>
                </a:lnTo>
                <a:cubicBezTo>
                  <a:pt x="1840" y="847"/>
                  <a:pt x="2029" y="657"/>
                  <a:pt x="2029" y="424"/>
                </a:cubicBezTo>
                <a:cubicBezTo>
                  <a:pt x="2029" y="190"/>
                  <a:pt x="1840" y="0"/>
                  <a:pt x="1606" y="0"/>
                </a:cubicBezTo>
                <a:cubicBezTo>
                  <a:pt x="1606" y="0"/>
                  <a:pt x="1606" y="0"/>
                  <a:pt x="1606" y="0"/>
                </a:cubicBezTo>
                <a:lnTo>
                  <a:pt x="423" y="0"/>
                </a:lnTo>
                <a:cubicBezTo>
                  <a:pt x="189" y="0"/>
                  <a:pt x="0" y="190"/>
                  <a:pt x="0" y="424"/>
                </a:cubicBezTo>
                <a:cubicBezTo>
                  <a:pt x="0" y="657"/>
                  <a:pt x="189" y="847"/>
                  <a:pt x="423" y="847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40" name="Rectangle 56"/>
          <p:cNvSpPr/>
          <p:nvPr/>
        </p:nvSpPr>
        <p:spPr>
          <a:xfrm>
            <a:off x="4952880" y="1584360"/>
            <a:ext cx="922320" cy="38880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41" name="Rectangle 57"/>
          <p:cNvSpPr/>
          <p:nvPr/>
        </p:nvSpPr>
        <p:spPr>
          <a:xfrm>
            <a:off x="4952880" y="1584360"/>
            <a:ext cx="930240" cy="396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42" name="Freeform 58"/>
          <p:cNvSpPr/>
          <p:nvPr/>
        </p:nvSpPr>
        <p:spPr>
          <a:xfrm>
            <a:off x="4952880" y="1584360"/>
            <a:ext cx="922320" cy="388800"/>
          </a:xfrm>
          <a:custGeom>
            <a:avLst/>
            <a:gdLst/>
            <a:ahLst/>
            <a:rect l="l" t="t" r="r" b="b"/>
            <a:pathLst>
              <a:path w="2045" h="864">
                <a:moveTo>
                  <a:pt x="431" y="847"/>
                </a:moveTo>
                <a:lnTo>
                  <a:pt x="1614" y="847"/>
                </a:lnTo>
                <a:lnTo>
                  <a:pt x="1699" y="839"/>
                </a:lnTo>
                <a:lnTo>
                  <a:pt x="1697" y="839"/>
                </a:lnTo>
                <a:lnTo>
                  <a:pt x="1777" y="815"/>
                </a:lnTo>
                <a:lnTo>
                  <a:pt x="1776" y="815"/>
                </a:lnTo>
                <a:lnTo>
                  <a:pt x="1848" y="776"/>
                </a:lnTo>
                <a:lnTo>
                  <a:pt x="1846" y="777"/>
                </a:lnTo>
                <a:lnTo>
                  <a:pt x="1908" y="725"/>
                </a:lnTo>
                <a:lnTo>
                  <a:pt x="1907" y="726"/>
                </a:lnTo>
                <a:lnTo>
                  <a:pt x="1959" y="663"/>
                </a:lnTo>
                <a:lnTo>
                  <a:pt x="1958" y="665"/>
                </a:lnTo>
                <a:lnTo>
                  <a:pt x="1997" y="593"/>
                </a:lnTo>
                <a:lnTo>
                  <a:pt x="1997" y="594"/>
                </a:lnTo>
                <a:lnTo>
                  <a:pt x="2021" y="515"/>
                </a:lnTo>
                <a:lnTo>
                  <a:pt x="2021" y="517"/>
                </a:lnTo>
                <a:lnTo>
                  <a:pt x="2030" y="432"/>
                </a:lnTo>
                <a:lnTo>
                  <a:pt x="2030" y="433"/>
                </a:lnTo>
                <a:lnTo>
                  <a:pt x="2021" y="348"/>
                </a:lnTo>
                <a:lnTo>
                  <a:pt x="2021" y="350"/>
                </a:lnTo>
                <a:lnTo>
                  <a:pt x="1997" y="270"/>
                </a:lnTo>
                <a:lnTo>
                  <a:pt x="1997" y="271"/>
                </a:lnTo>
                <a:lnTo>
                  <a:pt x="1958" y="199"/>
                </a:lnTo>
                <a:lnTo>
                  <a:pt x="1959" y="201"/>
                </a:lnTo>
                <a:lnTo>
                  <a:pt x="1907" y="138"/>
                </a:lnTo>
                <a:lnTo>
                  <a:pt x="1908" y="139"/>
                </a:lnTo>
                <a:lnTo>
                  <a:pt x="1846" y="87"/>
                </a:lnTo>
                <a:lnTo>
                  <a:pt x="1848" y="88"/>
                </a:lnTo>
                <a:lnTo>
                  <a:pt x="1776" y="49"/>
                </a:lnTo>
                <a:lnTo>
                  <a:pt x="1777" y="49"/>
                </a:lnTo>
                <a:lnTo>
                  <a:pt x="1697" y="25"/>
                </a:lnTo>
                <a:lnTo>
                  <a:pt x="1699" y="25"/>
                </a:lnTo>
                <a:lnTo>
                  <a:pt x="1614" y="16"/>
                </a:lnTo>
                <a:lnTo>
                  <a:pt x="431" y="16"/>
                </a:lnTo>
                <a:lnTo>
                  <a:pt x="347" y="25"/>
                </a:lnTo>
                <a:lnTo>
                  <a:pt x="349" y="25"/>
                </a:lnTo>
                <a:lnTo>
                  <a:pt x="269" y="49"/>
                </a:lnTo>
                <a:lnTo>
                  <a:pt x="270" y="49"/>
                </a:lnTo>
                <a:lnTo>
                  <a:pt x="198" y="88"/>
                </a:lnTo>
                <a:lnTo>
                  <a:pt x="200" y="87"/>
                </a:lnTo>
                <a:lnTo>
                  <a:pt x="138" y="139"/>
                </a:lnTo>
                <a:lnTo>
                  <a:pt x="139" y="138"/>
                </a:lnTo>
                <a:lnTo>
                  <a:pt x="87" y="201"/>
                </a:lnTo>
                <a:lnTo>
                  <a:pt x="88" y="199"/>
                </a:lnTo>
                <a:lnTo>
                  <a:pt x="49" y="271"/>
                </a:lnTo>
                <a:lnTo>
                  <a:pt x="49" y="270"/>
                </a:lnTo>
                <a:lnTo>
                  <a:pt x="25" y="350"/>
                </a:lnTo>
                <a:lnTo>
                  <a:pt x="25" y="348"/>
                </a:lnTo>
                <a:lnTo>
                  <a:pt x="16" y="433"/>
                </a:lnTo>
                <a:lnTo>
                  <a:pt x="16" y="432"/>
                </a:lnTo>
                <a:lnTo>
                  <a:pt x="25" y="517"/>
                </a:lnTo>
                <a:lnTo>
                  <a:pt x="25" y="515"/>
                </a:lnTo>
                <a:lnTo>
                  <a:pt x="49" y="594"/>
                </a:lnTo>
                <a:lnTo>
                  <a:pt x="49" y="593"/>
                </a:lnTo>
                <a:lnTo>
                  <a:pt x="88" y="665"/>
                </a:lnTo>
                <a:lnTo>
                  <a:pt x="87" y="663"/>
                </a:lnTo>
                <a:lnTo>
                  <a:pt x="139" y="726"/>
                </a:lnTo>
                <a:lnTo>
                  <a:pt x="138" y="725"/>
                </a:lnTo>
                <a:lnTo>
                  <a:pt x="200" y="777"/>
                </a:lnTo>
                <a:lnTo>
                  <a:pt x="198" y="776"/>
                </a:lnTo>
                <a:lnTo>
                  <a:pt x="270" y="815"/>
                </a:lnTo>
                <a:lnTo>
                  <a:pt x="269" y="815"/>
                </a:lnTo>
                <a:lnTo>
                  <a:pt x="349" y="839"/>
                </a:lnTo>
                <a:lnTo>
                  <a:pt x="347" y="839"/>
                </a:lnTo>
                <a:lnTo>
                  <a:pt x="432" y="848"/>
                </a:lnTo>
                <a:cubicBezTo>
                  <a:pt x="437" y="848"/>
                  <a:pt x="440" y="852"/>
                  <a:pt x="439" y="856"/>
                </a:cubicBezTo>
                <a:cubicBezTo>
                  <a:pt x="439" y="861"/>
                  <a:pt x="435" y="864"/>
                  <a:pt x="431" y="863"/>
                </a:cubicBezTo>
                <a:lnTo>
                  <a:pt x="346" y="854"/>
                </a:lnTo>
                <a:cubicBezTo>
                  <a:pt x="345" y="854"/>
                  <a:pt x="345" y="854"/>
                  <a:pt x="344" y="854"/>
                </a:cubicBezTo>
                <a:lnTo>
                  <a:pt x="264" y="830"/>
                </a:lnTo>
                <a:cubicBezTo>
                  <a:pt x="264" y="830"/>
                  <a:pt x="263" y="830"/>
                  <a:pt x="263" y="830"/>
                </a:cubicBezTo>
                <a:lnTo>
                  <a:pt x="191" y="791"/>
                </a:lnTo>
                <a:cubicBezTo>
                  <a:pt x="190" y="790"/>
                  <a:pt x="190" y="790"/>
                  <a:pt x="189" y="790"/>
                </a:cubicBezTo>
                <a:lnTo>
                  <a:pt x="127" y="738"/>
                </a:lnTo>
                <a:cubicBezTo>
                  <a:pt x="127" y="737"/>
                  <a:pt x="127" y="737"/>
                  <a:pt x="126" y="737"/>
                </a:cubicBezTo>
                <a:lnTo>
                  <a:pt x="74" y="674"/>
                </a:lnTo>
                <a:cubicBezTo>
                  <a:pt x="74" y="673"/>
                  <a:pt x="74" y="673"/>
                  <a:pt x="73" y="672"/>
                </a:cubicBezTo>
                <a:lnTo>
                  <a:pt x="34" y="600"/>
                </a:lnTo>
                <a:cubicBezTo>
                  <a:pt x="34" y="600"/>
                  <a:pt x="34" y="599"/>
                  <a:pt x="34" y="599"/>
                </a:cubicBezTo>
                <a:lnTo>
                  <a:pt x="10" y="520"/>
                </a:lnTo>
                <a:cubicBezTo>
                  <a:pt x="10" y="519"/>
                  <a:pt x="10" y="519"/>
                  <a:pt x="10" y="518"/>
                </a:cubicBezTo>
                <a:lnTo>
                  <a:pt x="1" y="433"/>
                </a:lnTo>
                <a:cubicBezTo>
                  <a:pt x="0" y="433"/>
                  <a:pt x="0" y="432"/>
                  <a:pt x="1" y="432"/>
                </a:cubicBezTo>
                <a:lnTo>
                  <a:pt x="10" y="347"/>
                </a:lnTo>
                <a:cubicBezTo>
                  <a:pt x="10" y="346"/>
                  <a:pt x="10" y="346"/>
                  <a:pt x="10" y="345"/>
                </a:cubicBezTo>
                <a:lnTo>
                  <a:pt x="34" y="265"/>
                </a:lnTo>
                <a:cubicBezTo>
                  <a:pt x="34" y="265"/>
                  <a:pt x="34" y="264"/>
                  <a:pt x="34" y="264"/>
                </a:cubicBezTo>
                <a:lnTo>
                  <a:pt x="73" y="192"/>
                </a:lnTo>
                <a:cubicBezTo>
                  <a:pt x="74" y="191"/>
                  <a:pt x="74" y="191"/>
                  <a:pt x="74" y="190"/>
                </a:cubicBezTo>
                <a:lnTo>
                  <a:pt x="126" y="127"/>
                </a:lnTo>
                <a:cubicBezTo>
                  <a:pt x="127" y="127"/>
                  <a:pt x="127" y="127"/>
                  <a:pt x="127" y="126"/>
                </a:cubicBezTo>
                <a:lnTo>
                  <a:pt x="189" y="74"/>
                </a:lnTo>
                <a:cubicBezTo>
                  <a:pt x="190" y="74"/>
                  <a:pt x="190" y="74"/>
                  <a:pt x="191" y="73"/>
                </a:cubicBezTo>
                <a:lnTo>
                  <a:pt x="263" y="34"/>
                </a:lnTo>
                <a:cubicBezTo>
                  <a:pt x="263" y="34"/>
                  <a:pt x="264" y="34"/>
                  <a:pt x="264" y="34"/>
                </a:cubicBezTo>
                <a:lnTo>
                  <a:pt x="344" y="10"/>
                </a:lnTo>
                <a:cubicBezTo>
                  <a:pt x="345" y="10"/>
                  <a:pt x="345" y="10"/>
                  <a:pt x="346" y="10"/>
                </a:cubicBezTo>
                <a:lnTo>
                  <a:pt x="431" y="0"/>
                </a:lnTo>
                <a:lnTo>
                  <a:pt x="1615" y="1"/>
                </a:lnTo>
                <a:lnTo>
                  <a:pt x="1700" y="10"/>
                </a:lnTo>
                <a:cubicBezTo>
                  <a:pt x="1701" y="10"/>
                  <a:pt x="1701" y="10"/>
                  <a:pt x="1702" y="10"/>
                </a:cubicBezTo>
                <a:lnTo>
                  <a:pt x="1782" y="34"/>
                </a:lnTo>
                <a:cubicBezTo>
                  <a:pt x="1782" y="34"/>
                  <a:pt x="1783" y="34"/>
                  <a:pt x="1783" y="34"/>
                </a:cubicBezTo>
                <a:lnTo>
                  <a:pt x="1855" y="73"/>
                </a:lnTo>
                <a:cubicBezTo>
                  <a:pt x="1856" y="74"/>
                  <a:pt x="1856" y="74"/>
                  <a:pt x="1857" y="74"/>
                </a:cubicBezTo>
                <a:lnTo>
                  <a:pt x="1919" y="126"/>
                </a:lnTo>
                <a:cubicBezTo>
                  <a:pt x="1919" y="127"/>
                  <a:pt x="1919" y="127"/>
                  <a:pt x="1920" y="127"/>
                </a:cubicBezTo>
                <a:lnTo>
                  <a:pt x="1972" y="190"/>
                </a:lnTo>
                <a:cubicBezTo>
                  <a:pt x="1972" y="191"/>
                  <a:pt x="1972" y="191"/>
                  <a:pt x="1973" y="192"/>
                </a:cubicBezTo>
                <a:lnTo>
                  <a:pt x="2012" y="264"/>
                </a:lnTo>
                <a:cubicBezTo>
                  <a:pt x="2012" y="264"/>
                  <a:pt x="2012" y="265"/>
                  <a:pt x="2012" y="265"/>
                </a:cubicBezTo>
                <a:lnTo>
                  <a:pt x="2036" y="345"/>
                </a:lnTo>
                <a:cubicBezTo>
                  <a:pt x="2036" y="346"/>
                  <a:pt x="2036" y="346"/>
                  <a:pt x="2036" y="347"/>
                </a:cubicBezTo>
                <a:lnTo>
                  <a:pt x="2045" y="432"/>
                </a:lnTo>
                <a:cubicBezTo>
                  <a:pt x="2045" y="432"/>
                  <a:pt x="2045" y="433"/>
                  <a:pt x="2045" y="433"/>
                </a:cubicBezTo>
                <a:lnTo>
                  <a:pt x="2036" y="518"/>
                </a:lnTo>
                <a:cubicBezTo>
                  <a:pt x="2036" y="519"/>
                  <a:pt x="2036" y="519"/>
                  <a:pt x="2036" y="520"/>
                </a:cubicBezTo>
                <a:lnTo>
                  <a:pt x="2012" y="599"/>
                </a:lnTo>
                <a:cubicBezTo>
                  <a:pt x="2012" y="599"/>
                  <a:pt x="2012" y="600"/>
                  <a:pt x="2012" y="600"/>
                </a:cubicBezTo>
                <a:lnTo>
                  <a:pt x="1973" y="672"/>
                </a:lnTo>
                <a:cubicBezTo>
                  <a:pt x="1972" y="673"/>
                  <a:pt x="1972" y="673"/>
                  <a:pt x="1972" y="674"/>
                </a:cubicBezTo>
                <a:lnTo>
                  <a:pt x="1920" y="737"/>
                </a:lnTo>
                <a:cubicBezTo>
                  <a:pt x="1919" y="737"/>
                  <a:pt x="1919" y="737"/>
                  <a:pt x="1919" y="738"/>
                </a:cubicBezTo>
                <a:lnTo>
                  <a:pt x="1857" y="790"/>
                </a:lnTo>
                <a:cubicBezTo>
                  <a:pt x="1856" y="790"/>
                  <a:pt x="1856" y="790"/>
                  <a:pt x="1855" y="791"/>
                </a:cubicBezTo>
                <a:lnTo>
                  <a:pt x="1783" y="830"/>
                </a:lnTo>
                <a:cubicBezTo>
                  <a:pt x="1783" y="830"/>
                  <a:pt x="1782" y="830"/>
                  <a:pt x="1782" y="830"/>
                </a:cubicBezTo>
                <a:lnTo>
                  <a:pt x="1702" y="854"/>
                </a:lnTo>
                <a:cubicBezTo>
                  <a:pt x="1701" y="854"/>
                  <a:pt x="1701" y="854"/>
                  <a:pt x="1700" y="854"/>
                </a:cubicBezTo>
                <a:lnTo>
                  <a:pt x="1614" y="863"/>
                </a:lnTo>
                <a:lnTo>
                  <a:pt x="431" y="863"/>
                </a:lnTo>
                <a:cubicBezTo>
                  <a:pt x="427" y="863"/>
                  <a:pt x="423" y="860"/>
                  <a:pt x="423" y="855"/>
                </a:cubicBezTo>
                <a:cubicBezTo>
                  <a:pt x="423" y="851"/>
                  <a:pt x="427" y="847"/>
                  <a:pt x="431" y="847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43" name="Rectangle 59"/>
          <p:cNvSpPr/>
          <p:nvPr/>
        </p:nvSpPr>
        <p:spPr>
          <a:xfrm>
            <a:off x="4952880" y="1584360"/>
            <a:ext cx="930240" cy="396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44" name="Rectangle 60"/>
          <p:cNvSpPr/>
          <p:nvPr/>
        </p:nvSpPr>
        <p:spPr>
          <a:xfrm>
            <a:off x="4930920" y="1562040"/>
            <a:ext cx="930240" cy="79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45" name="Rectangle 61"/>
          <p:cNvSpPr/>
          <p:nvPr/>
        </p:nvSpPr>
        <p:spPr>
          <a:xfrm>
            <a:off x="4930920" y="1569960"/>
            <a:ext cx="93024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46" name="Rectangle 62"/>
          <p:cNvSpPr/>
          <p:nvPr/>
        </p:nvSpPr>
        <p:spPr>
          <a:xfrm>
            <a:off x="4930920" y="1584360"/>
            <a:ext cx="930240" cy="2232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47" name="Rectangle 63"/>
          <p:cNvSpPr/>
          <p:nvPr/>
        </p:nvSpPr>
        <p:spPr>
          <a:xfrm>
            <a:off x="4930920" y="1606680"/>
            <a:ext cx="930240" cy="2844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48" name="Rectangle 64"/>
          <p:cNvSpPr/>
          <p:nvPr/>
        </p:nvSpPr>
        <p:spPr>
          <a:xfrm>
            <a:off x="4930920" y="1635120"/>
            <a:ext cx="930240" cy="2052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49" name="Rectangle 65"/>
          <p:cNvSpPr/>
          <p:nvPr/>
        </p:nvSpPr>
        <p:spPr>
          <a:xfrm>
            <a:off x="4930920" y="1655640"/>
            <a:ext cx="930240" cy="3024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50" name="Rectangle 66"/>
          <p:cNvSpPr/>
          <p:nvPr/>
        </p:nvSpPr>
        <p:spPr>
          <a:xfrm>
            <a:off x="4930920" y="1685880"/>
            <a:ext cx="930240" cy="2052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51" name="Rectangle 67"/>
          <p:cNvSpPr/>
          <p:nvPr/>
        </p:nvSpPr>
        <p:spPr>
          <a:xfrm>
            <a:off x="4930920" y="1706400"/>
            <a:ext cx="930240" cy="2232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52" name="Rectangle 68"/>
          <p:cNvSpPr/>
          <p:nvPr/>
        </p:nvSpPr>
        <p:spPr>
          <a:xfrm>
            <a:off x="4930920" y="1728720"/>
            <a:ext cx="930240" cy="507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53" name="Rectangle 69"/>
          <p:cNvSpPr/>
          <p:nvPr/>
        </p:nvSpPr>
        <p:spPr>
          <a:xfrm>
            <a:off x="4930920" y="1779480"/>
            <a:ext cx="930240" cy="2880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54" name="Rectangle 70"/>
          <p:cNvSpPr/>
          <p:nvPr/>
        </p:nvSpPr>
        <p:spPr>
          <a:xfrm>
            <a:off x="4930920" y="1808280"/>
            <a:ext cx="930240" cy="2052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55" name="Rectangle 71"/>
          <p:cNvSpPr/>
          <p:nvPr/>
        </p:nvSpPr>
        <p:spPr>
          <a:xfrm>
            <a:off x="4930920" y="1828800"/>
            <a:ext cx="930240" cy="3024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56" name="Rectangle 72"/>
          <p:cNvSpPr/>
          <p:nvPr/>
        </p:nvSpPr>
        <p:spPr>
          <a:xfrm>
            <a:off x="4930920" y="1859040"/>
            <a:ext cx="930240" cy="205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57" name="Rectangle 73"/>
          <p:cNvSpPr/>
          <p:nvPr/>
        </p:nvSpPr>
        <p:spPr>
          <a:xfrm>
            <a:off x="4930920" y="1879560"/>
            <a:ext cx="930240" cy="2232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58" name="Rectangle 74"/>
          <p:cNvSpPr/>
          <p:nvPr/>
        </p:nvSpPr>
        <p:spPr>
          <a:xfrm>
            <a:off x="4930920" y="1901880"/>
            <a:ext cx="930240" cy="28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59" name="Rectangle 75"/>
          <p:cNvSpPr/>
          <p:nvPr/>
        </p:nvSpPr>
        <p:spPr>
          <a:xfrm>
            <a:off x="4930920" y="1930320"/>
            <a:ext cx="930240" cy="223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60" name="Rectangle 76"/>
          <p:cNvSpPr/>
          <p:nvPr/>
        </p:nvSpPr>
        <p:spPr>
          <a:xfrm>
            <a:off x="4930920" y="1952640"/>
            <a:ext cx="930240" cy="648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61" name="Freeform 77"/>
          <p:cNvSpPr/>
          <p:nvPr/>
        </p:nvSpPr>
        <p:spPr>
          <a:xfrm>
            <a:off x="4943520" y="1574640"/>
            <a:ext cx="914400" cy="381240"/>
          </a:xfrm>
          <a:custGeom>
            <a:avLst/>
            <a:gdLst/>
            <a:ahLst/>
            <a:rect l="l" t="t" r="r" b="b"/>
            <a:pathLst>
              <a:path w="2030" h="846">
                <a:moveTo>
                  <a:pt x="423" y="846"/>
                </a:moveTo>
                <a:lnTo>
                  <a:pt x="1606" y="846"/>
                </a:lnTo>
                <a:cubicBezTo>
                  <a:pt x="1840" y="846"/>
                  <a:pt x="2030" y="657"/>
                  <a:pt x="2030" y="423"/>
                </a:cubicBezTo>
                <a:cubicBezTo>
                  <a:pt x="2030" y="189"/>
                  <a:pt x="1840" y="0"/>
                  <a:pt x="1606" y="0"/>
                </a:cubicBezTo>
                <a:cubicBezTo>
                  <a:pt x="1606" y="0"/>
                  <a:pt x="1606" y="0"/>
                  <a:pt x="1606" y="0"/>
                </a:cubicBezTo>
                <a:lnTo>
                  <a:pt x="423" y="0"/>
                </a:lnTo>
                <a:cubicBezTo>
                  <a:pt x="190" y="0"/>
                  <a:pt x="0" y="189"/>
                  <a:pt x="0" y="423"/>
                </a:cubicBezTo>
                <a:cubicBezTo>
                  <a:pt x="0" y="657"/>
                  <a:pt x="190" y="846"/>
                  <a:pt x="423" y="846"/>
                </a:cubicBezTo>
                <a:close/>
              </a:path>
            </a:pathLst>
          </a:custGeom>
          <a:noFill/>
          <a:ln cap="rnd" w="1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62" name="Rectangle 78"/>
          <p:cNvSpPr/>
          <p:nvPr/>
        </p:nvSpPr>
        <p:spPr>
          <a:xfrm>
            <a:off x="5221440" y="1590840"/>
            <a:ext cx="444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Calibri"/>
              </a:rPr>
              <a:t>VarDecl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63" name="Rectangle 79"/>
          <p:cNvSpPr/>
          <p:nvPr/>
        </p:nvSpPr>
        <p:spPr>
          <a:xfrm>
            <a:off x="5296680" y="175752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Calibri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64" name="Rectangle 80"/>
          <p:cNvSpPr/>
          <p:nvPr/>
        </p:nvSpPr>
        <p:spPr>
          <a:xfrm>
            <a:off x="5362560" y="175752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65" name="Rectangle 81"/>
          <p:cNvSpPr/>
          <p:nvPr/>
        </p:nvSpPr>
        <p:spPr>
          <a:xfrm>
            <a:off x="5391360" y="1757520"/>
            <a:ext cx="15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int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66" name="Rectangle 82"/>
          <p:cNvSpPr/>
          <p:nvPr/>
        </p:nvSpPr>
        <p:spPr>
          <a:xfrm>
            <a:off x="5535720" y="175752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67" name="Rectangle 83"/>
          <p:cNvSpPr/>
          <p:nvPr/>
        </p:nvSpPr>
        <p:spPr>
          <a:xfrm>
            <a:off x="5761080" y="2060640"/>
            <a:ext cx="1109520" cy="3808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568" name="Picture 84" descr=""/>
          <p:cNvPicPr/>
          <p:nvPr/>
        </p:nvPicPr>
        <p:blipFill>
          <a:blip r:embed="rId3"/>
          <a:stretch/>
        </p:blipFill>
        <p:spPr>
          <a:xfrm>
            <a:off x="5761080" y="2065320"/>
            <a:ext cx="1103400" cy="3808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85"/>
          <p:cNvSpPr/>
          <p:nvPr/>
        </p:nvSpPr>
        <p:spPr>
          <a:xfrm>
            <a:off x="5761080" y="2060640"/>
            <a:ext cx="1109520" cy="3808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70" name="Rectangle 86"/>
          <p:cNvSpPr/>
          <p:nvPr/>
        </p:nvSpPr>
        <p:spPr>
          <a:xfrm>
            <a:off x="5753160" y="2060640"/>
            <a:ext cx="1125360" cy="396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71" name="Freeform 87"/>
          <p:cNvSpPr/>
          <p:nvPr/>
        </p:nvSpPr>
        <p:spPr>
          <a:xfrm>
            <a:off x="5757840" y="2062080"/>
            <a:ext cx="1109520" cy="387360"/>
          </a:xfrm>
          <a:custGeom>
            <a:avLst/>
            <a:gdLst/>
            <a:ahLst/>
            <a:rect l="l" t="t" r="r" b="b"/>
            <a:pathLst>
              <a:path w="2465" h="862">
                <a:moveTo>
                  <a:pt x="8" y="846"/>
                </a:moveTo>
                <a:lnTo>
                  <a:pt x="2457" y="846"/>
                </a:lnTo>
                <a:lnTo>
                  <a:pt x="2449" y="854"/>
                </a:lnTo>
                <a:lnTo>
                  <a:pt x="2449" y="8"/>
                </a:lnTo>
                <a:lnTo>
                  <a:pt x="2457" y="16"/>
                </a:lnTo>
                <a:lnTo>
                  <a:pt x="8" y="16"/>
                </a:lnTo>
                <a:lnTo>
                  <a:pt x="16" y="8"/>
                </a:lnTo>
                <a:lnTo>
                  <a:pt x="16" y="854"/>
                </a:lnTo>
                <a:cubicBezTo>
                  <a:pt x="16" y="859"/>
                  <a:pt x="12" y="862"/>
                  <a:pt x="8" y="862"/>
                </a:cubicBezTo>
                <a:cubicBezTo>
                  <a:pt x="3" y="862"/>
                  <a:pt x="0" y="859"/>
                  <a:pt x="0" y="854"/>
                </a:cubicBezTo>
                <a:lnTo>
                  <a:pt x="0" y="8"/>
                </a:lnTo>
                <a:cubicBezTo>
                  <a:pt x="0" y="3"/>
                  <a:pt x="3" y="0"/>
                  <a:pt x="8" y="0"/>
                </a:cubicBezTo>
                <a:lnTo>
                  <a:pt x="2457" y="0"/>
                </a:lnTo>
                <a:cubicBezTo>
                  <a:pt x="2461" y="0"/>
                  <a:pt x="2465" y="3"/>
                  <a:pt x="2465" y="8"/>
                </a:cubicBezTo>
                <a:lnTo>
                  <a:pt x="2465" y="854"/>
                </a:lnTo>
                <a:cubicBezTo>
                  <a:pt x="2465" y="859"/>
                  <a:pt x="2461" y="862"/>
                  <a:pt x="2457" y="862"/>
                </a:cubicBezTo>
                <a:lnTo>
                  <a:pt x="8" y="862"/>
                </a:lnTo>
                <a:cubicBezTo>
                  <a:pt x="3" y="862"/>
                  <a:pt x="0" y="859"/>
                  <a:pt x="0" y="854"/>
                </a:cubicBezTo>
                <a:cubicBezTo>
                  <a:pt x="0" y="850"/>
                  <a:pt x="3" y="846"/>
                  <a:pt x="8" y="846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72" name="Rectangle 88"/>
          <p:cNvSpPr/>
          <p:nvPr/>
        </p:nvSpPr>
        <p:spPr>
          <a:xfrm>
            <a:off x="5753160" y="2060640"/>
            <a:ext cx="1125360" cy="396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73" name="Rectangle 89"/>
          <p:cNvSpPr/>
          <p:nvPr/>
        </p:nvSpPr>
        <p:spPr>
          <a:xfrm>
            <a:off x="5832360" y="2060640"/>
            <a:ext cx="959040" cy="396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74" name="Freeform 90"/>
          <p:cNvSpPr/>
          <p:nvPr/>
        </p:nvSpPr>
        <p:spPr>
          <a:xfrm>
            <a:off x="5838840" y="2062080"/>
            <a:ext cx="947880" cy="387360"/>
          </a:xfrm>
          <a:custGeom>
            <a:avLst/>
            <a:gdLst/>
            <a:ahLst/>
            <a:rect l="l" t="t" r="r" b="b"/>
            <a:pathLst>
              <a:path w="2102" h="862">
                <a:moveTo>
                  <a:pt x="0" y="854"/>
                </a:moveTo>
                <a:lnTo>
                  <a:pt x="0" y="8"/>
                </a:lnTo>
                <a:cubicBezTo>
                  <a:pt x="0" y="3"/>
                  <a:pt x="4" y="0"/>
                  <a:pt x="8" y="0"/>
                </a:cubicBezTo>
                <a:cubicBezTo>
                  <a:pt x="12" y="0"/>
                  <a:pt x="16" y="3"/>
                  <a:pt x="16" y="8"/>
                </a:cubicBezTo>
                <a:lnTo>
                  <a:pt x="16" y="854"/>
                </a:lnTo>
                <a:cubicBezTo>
                  <a:pt x="16" y="859"/>
                  <a:pt x="12" y="862"/>
                  <a:pt x="8" y="862"/>
                </a:cubicBezTo>
                <a:cubicBezTo>
                  <a:pt x="4" y="862"/>
                  <a:pt x="0" y="859"/>
                  <a:pt x="0" y="854"/>
                </a:cubicBezTo>
                <a:close/>
                <a:moveTo>
                  <a:pt x="2086" y="854"/>
                </a:moveTo>
                <a:lnTo>
                  <a:pt x="2086" y="8"/>
                </a:lnTo>
                <a:cubicBezTo>
                  <a:pt x="2086" y="3"/>
                  <a:pt x="2090" y="0"/>
                  <a:pt x="2094" y="0"/>
                </a:cubicBezTo>
                <a:cubicBezTo>
                  <a:pt x="2099" y="0"/>
                  <a:pt x="2102" y="3"/>
                  <a:pt x="2102" y="8"/>
                </a:cubicBezTo>
                <a:lnTo>
                  <a:pt x="2102" y="854"/>
                </a:lnTo>
                <a:cubicBezTo>
                  <a:pt x="2102" y="859"/>
                  <a:pt x="2099" y="862"/>
                  <a:pt x="2094" y="862"/>
                </a:cubicBezTo>
                <a:cubicBezTo>
                  <a:pt x="2090" y="862"/>
                  <a:pt x="2086" y="859"/>
                  <a:pt x="2086" y="854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75" name="Rectangle 91"/>
          <p:cNvSpPr/>
          <p:nvPr/>
        </p:nvSpPr>
        <p:spPr>
          <a:xfrm>
            <a:off x="5832360" y="2060640"/>
            <a:ext cx="959040" cy="396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76" name="Rectangle 92"/>
          <p:cNvSpPr/>
          <p:nvPr/>
        </p:nvSpPr>
        <p:spPr>
          <a:xfrm>
            <a:off x="5738760" y="2038320"/>
            <a:ext cx="1123920" cy="79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77" name="Rectangle 93"/>
          <p:cNvSpPr/>
          <p:nvPr/>
        </p:nvSpPr>
        <p:spPr>
          <a:xfrm>
            <a:off x="5738760" y="2046240"/>
            <a:ext cx="1123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78" name="Rectangle 94"/>
          <p:cNvSpPr/>
          <p:nvPr/>
        </p:nvSpPr>
        <p:spPr>
          <a:xfrm>
            <a:off x="5738760" y="2060640"/>
            <a:ext cx="1123920" cy="2052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79" name="Rectangle 95"/>
          <p:cNvSpPr/>
          <p:nvPr/>
        </p:nvSpPr>
        <p:spPr>
          <a:xfrm>
            <a:off x="5738760" y="2081160"/>
            <a:ext cx="1123920" cy="3024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80" name="Rectangle 96"/>
          <p:cNvSpPr/>
          <p:nvPr/>
        </p:nvSpPr>
        <p:spPr>
          <a:xfrm>
            <a:off x="5738760" y="2111400"/>
            <a:ext cx="1123920" cy="2052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81" name="Rectangle 97"/>
          <p:cNvSpPr/>
          <p:nvPr/>
        </p:nvSpPr>
        <p:spPr>
          <a:xfrm>
            <a:off x="5738760" y="2131920"/>
            <a:ext cx="1123920" cy="2880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82" name="Rectangle 98"/>
          <p:cNvSpPr/>
          <p:nvPr/>
        </p:nvSpPr>
        <p:spPr>
          <a:xfrm>
            <a:off x="5738760" y="2160720"/>
            <a:ext cx="1123920" cy="2196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83" name="Rectangle 99"/>
          <p:cNvSpPr/>
          <p:nvPr/>
        </p:nvSpPr>
        <p:spPr>
          <a:xfrm>
            <a:off x="5738760" y="2182680"/>
            <a:ext cx="1123920" cy="28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84" name="Rectangle 100"/>
          <p:cNvSpPr/>
          <p:nvPr/>
        </p:nvSpPr>
        <p:spPr>
          <a:xfrm>
            <a:off x="5738760" y="2211480"/>
            <a:ext cx="1123920" cy="42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85" name="Rectangle 101"/>
          <p:cNvSpPr/>
          <p:nvPr/>
        </p:nvSpPr>
        <p:spPr>
          <a:xfrm>
            <a:off x="5738760" y="2254320"/>
            <a:ext cx="1123920" cy="302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86" name="Rectangle 102"/>
          <p:cNvSpPr/>
          <p:nvPr/>
        </p:nvSpPr>
        <p:spPr>
          <a:xfrm>
            <a:off x="5738760" y="2284560"/>
            <a:ext cx="1123920" cy="2052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87" name="Rectangle 103"/>
          <p:cNvSpPr/>
          <p:nvPr/>
        </p:nvSpPr>
        <p:spPr>
          <a:xfrm>
            <a:off x="5738760" y="2305080"/>
            <a:ext cx="1123920" cy="2844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88" name="Rectangle 104"/>
          <p:cNvSpPr/>
          <p:nvPr/>
        </p:nvSpPr>
        <p:spPr>
          <a:xfrm>
            <a:off x="5738760" y="2333520"/>
            <a:ext cx="1123920" cy="223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89" name="Rectangle 105"/>
          <p:cNvSpPr/>
          <p:nvPr/>
        </p:nvSpPr>
        <p:spPr>
          <a:xfrm>
            <a:off x="5738760" y="2355840"/>
            <a:ext cx="1123920" cy="284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90" name="Rectangle 106"/>
          <p:cNvSpPr/>
          <p:nvPr/>
        </p:nvSpPr>
        <p:spPr>
          <a:xfrm>
            <a:off x="5738760" y="2384280"/>
            <a:ext cx="1123920" cy="22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91" name="Rectangle 107"/>
          <p:cNvSpPr/>
          <p:nvPr/>
        </p:nvSpPr>
        <p:spPr>
          <a:xfrm>
            <a:off x="5738760" y="2406600"/>
            <a:ext cx="1123920" cy="205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92" name="Rectangle 108"/>
          <p:cNvSpPr/>
          <p:nvPr/>
        </p:nvSpPr>
        <p:spPr>
          <a:xfrm>
            <a:off x="5738760" y="2427120"/>
            <a:ext cx="1123920" cy="828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93" name="Rectangle 109"/>
          <p:cNvSpPr/>
          <p:nvPr/>
        </p:nvSpPr>
        <p:spPr>
          <a:xfrm>
            <a:off x="5746680" y="2050920"/>
            <a:ext cx="1103400" cy="381240"/>
          </a:xfrm>
          <a:prstGeom prst="rect">
            <a:avLst/>
          </a:prstGeom>
          <a:noFill/>
          <a:ln cap="rnd" w="1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94" name="Freeform 110"/>
          <p:cNvSpPr/>
          <p:nvPr/>
        </p:nvSpPr>
        <p:spPr>
          <a:xfrm>
            <a:off x="5827680" y="2050920"/>
            <a:ext cx="941400" cy="381240"/>
          </a:xfrm>
          <a:custGeom>
            <a:avLst/>
            <a:gdLst/>
            <a:ahLst/>
            <a:rect l="l" t="t" r="r" b="b"/>
            <a:pathLst>
              <a:path w="593" h="240">
                <a:moveTo>
                  <a:pt x="0" y="240"/>
                </a:moveTo>
                <a:lnTo>
                  <a:pt x="0" y="0"/>
                </a:lnTo>
                <a:moveTo>
                  <a:pt x="593" y="240"/>
                </a:moveTo>
                <a:lnTo>
                  <a:pt x="593" y="0"/>
                </a:lnTo>
              </a:path>
            </a:pathLst>
          </a:custGeom>
          <a:noFill/>
          <a:ln cap="rnd" w="1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95" name="Rectangle 111"/>
          <p:cNvSpPr/>
          <p:nvPr/>
        </p:nvSpPr>
        <p:spPr>
          <a:xfrm>
            <a:off x="5961600" y="2075040"/>
            <a:ext cx="767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Calibri"/>
              </a:rPr>
              <a:t>IntegerLiteral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96" name="Rectangle 112"/>
          <p:cNvSpPr/>
          <p:nvPr/>
        </p:nvSpPr>
        <p:spPr>
          <a:xfrm>
            <a:off x="6198480" y="2232000"/>
            <a:ext cx="104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Calibri"/>
              </a:rPr>
              <a:t>0 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97" name="Rectangle 113"/>
          <p:cNvSpPr/>
          <p:nvPr/>
        </p:nvSpPr>
        <p:spPr>
          <a:xfrm>
            <a:off x="6292800" y="223200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98" name="Rectangle 114"/>
          <p:cNvSpPr/>
          <p:nvPr/>
        </p:nvSpPr>
        <p:spPr>
          <a:xfrm>
            <a:off x="6321960" y="2232000"/>
            <a:ext cx="15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int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99" name="Rectangle 115"/>
          <p:cNvSpPr/>
          <p:nvPr/>
        </p:nvSpPr>
        <p:spPr>
          <a:xfrm>
            <a:off x="6472440" y="223200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00" name="Freeform 116"/>
          <p:cNvSpPr/>
          <p:nvPr/>
        </p:nvSpPr>
        <p:spPr>
          <a:xfrm>
            <a:off x="4537080" y="1614600"/>
            <a:ext cx="353880" cy="150840"/>
          </a:xfrm>
          <a:custGeom>
            <a:avLst/>
            <a:gdLst/>
            <a:ahLst/>
            <a:rect l="l" t="t" r="r" b="b"/>
            <a:pathLst>
              <a:path w="223" h="95">
                <a:moveTo>
                  <a:pt x="0" y="0"/>
                </a:moveTo>
                <a:lnTo>
                  <a:pt x="0" y="95"/>
                </a:lnTo>
                <a:lnTo>
                  <a:pt x="223" y="95"/>
                </a:lnTo>
              </a:path>
            </a:pathLst>
          </a:custGeom>
          <a:noFill/>
          <a:ln cap="rnd"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01" name="Freeform 117"/>
          <p:cNvSpPr/>
          <p:nvPr/>
        </p:nvSpPr>
        <p:spPr>
          <a:xfrm>
            <a:off x="4875120" y="1731960"/>
            <a:ext cx="68400" cy="666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50" y="75"/>
                </a:moveTo>
                <a:lnTo>
                  <a:pt x="0" y="150"/>
                </a:lnTo>
                <a:cubicBezTo>
                  <a:pt x="23" y="103"/>
                  <a:pt x="23" y="47"/>
                  <a:pt x="0" y="0"/>
                </a:cubicBezTo>
                <a:lnTo>
                  <a:pt x="150" y="75"/>
                </a:lnTo>
                <a:close/>
              </a:path>
            </a:pathLst>
          </a:custGeom>
          <a:solidFill>
            <a:srgbClr val="4040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02" name="Freeform 118"/>
          <p:cNvSpPr/>
          <p:nvPr/>
        </p:nvSpPr>
        <p:spPr>
          <a:xfrm>
            <a:off x="5400720" y="1955880"/>
            <a:ext cx="295200" cy="285840"/>
          </a:xfrm>
          <a:custGeom>
            <a:avLst/>
            <a:gdLst/>
            <a:ahLst/>
            <a:rect l="l" t="t" r="r" b="b"/>
            <a:pathLst>
              <a:path w="186" h="180">
                <a:moveTo>
                  <a:pt x="0" y="0"/>
                </a:moveTo>
                <a:lnTo>
                  <a:pt x="0" y="180"/>
                </a:lnTo>
                <a:lnTo>
                  <a:pt x="186" y="180"/>
                </a:lnTo>
              </a:path>
            </a:pathLst>
          </a:custGeom>
          <a:noFill/>
          <a:ln cap="rnd"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03" name="Freeform 119"/>
          <p:cNvSpPr/>
          <p:nvPr/>
        </p:nvSpPr>
        <p:spPr>
          <a:xfrm>
            <a:off x="5678640" y="2208240"/>
            <a:ext cx="68040" cy="666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50" y="75"/>
                </a:moveTo>
                <a:lnTo>
                  <a:pt x="0" y="150"/>
                </a:lnTo>
                <a:cubicBezTo>
                  <a:pt x="23" y="103"/>
                  <a:pt x="23" y="47"/>
                  <a:pt x="0" y="0"/>
                </a:cubicBezTo>
                <a:lnTo>
                  <a:pt x="150" y="75"/>
                </a:lnTo>
                <a:close/>
              </a:path>
            </a:pathLst>
          </a:custGeom>
          <a:solidFill>
            <a:srgbClr val="4040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04" name="Freeform 120"/>
          <p:cNvSpPr/>
          <p:nvPr/>
        </p:nvSpPr>
        <p:spPr>
          <a:xfrm>
            <a:off x="3790800" y="1432080"/>
            <a:ext cx="398520" cy="87120"/>
          </a:xfrm>
          <a:custGeom>
            <a:avLst/>
            <a:gdLst/>
            <a:ahLst/>
            <a:rect l="l" t="t" r="r" b="b"/>
            <a:pathLst>
              <a:path w="251" h="55">
                <a:moveTo>
                  <a:pt x="0" y="0"/>
                </a:moveTo>
                <a:lnTo>
                  <a:pt x="0" y="55"/>
                </a:lnTo>
                <a:lnTo>
                  <a:pt x="251" y="55"/>
                </a:lnTo>
              </a:path>
            </a:pathLst>
          </a:custGeom>
          <a:noFill/>
          <a:ln cap="rnd"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05" name="Freeform 121"/>
          <p:cNvSpPr/>
          <p:nvPr/>
        </p:nvSpPr>
        <p:spPr>
          <a:xfrm>
            <a:off x="4173480" y="1486080"/>
            <a:ext cx="68400" cy="6804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50" y="75"/>
                </a:moveTo>
                <a:lnTo>
                  <a:pt x="0" y="150"/>
                </a:lnTo>
                <a:cubicBezTo>
                  <a:pt x="23" y="102"/>
                  <a:pt x="23" y="47"/>
                  <a:pt x="0" y="0"/>
                </a:cubicBezTo>
                <a:lnTo>
                  <a:pt x="150" y="75"/>
                </a:lnTo>
                <a:close/>
              </a:path>
            </a:pathLst>
          </a:custGeom>
          <a:solidFill>
            <a:srgbClr val="4040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06" name="Rectangle 122"/>
          <p:cNvSpPr/>
          <p:nvPr/>
        </p:nvSpPr>
        <p:spPr>
          <a:xfrm>
            <a:off x="4202280" y="2254320"/>
            <a:ext cx="787320" cy="2030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07" name="Freeform 123"/>
          <p:cNvSpPr/>
          <p:nvPr/>
        </p:nvSpPr>
        <p:spPr>
          <a:xfrm>
            <a:off x="4206960" y="2255760"/>
            <a:ext cx="776160" cy="190440"/>
          </a:xfrm>
          <a:custGeom>
            <a:avLst/>
            <a:gdLst/>
            <a:ahLst/>
            <a:rect l="l" t="t" r="r" b="b"/>
            <a:pathLst>
              <a:path w="489" h="120">
                <a:moveTo>
                  <a:pt x="0" y="120"/>
                </a:moveTo>
                <a:lnTo>
                  <a:pt x="430" y="120"/>
                </a:lnTo>
                <a:lnTo>
                  <a:pt x="489" y="0"/>
                </a:lnTo>
                <a:lnTo>
                  <a:pt x="60" y="0"/>
                </a:lnTo>
                <a:lnTo>
                  <a:pt x="0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08" name="Rectangle 124"/>
          <p:cNvSpPr/>
          <p:nvPr/>
        </p:nvSpPr>
        <p:spPr>
          <a:xfrm>
            <a:off x="4202280" y="2254320"/>
            <a:ext cx="787320" cy="2030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09" name="Rectangle 125"/>
          <p:cNvSpPr/>
          <p:nvPr/>
        </p:nvSpPr>
        <p:spPr>
          <a:xfrm>
            <a:off x="4202280" y="2247840"/>
            <a:ext cx="793440" cy="2095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10" name="Freeform 126"/>
          <p:cNvSpPr/>
          <p:nvPr/>
        </p:nvSpPr>
        <p:spPr>
          <a:xfrm>
            <a:off x="4203720" y="2252520"/>
            <a:ext cx="784080" cy="198720"/>
          </a:xfrm>
          <a:custGeom>
            <a:avLst/>
            <a:gdLst/>
            <a:ahLst/>
            <a:rect l="l" t="t" r="r" b="b"/>
            <a:pathLst>
              <a:path w="1741" h="440">
                <a:moveTo>
                  <a:pt x="9" y="423"/>
                </a:moveTo>
                <a:lnTo>
                  <a:pt x="1521" y="423"/>
                </a:lnTo>
                <a:lnTo>
                  <a:pt x="1513" y="428"/>
                </a:lnTo>
                <a:lnTo>
                  <a:pt x="1725" y="4"/>
                </a:lnTo>
                <a:lnTo>
                  <a:pt x="1732" y="16"/>
                </a:lnTo>
                <a:lnTo>
                  <a:pt x="220" y="16"/>
                </a:lnTo>
                <a:lnTo>
                  <a:pt x="228" y="11"/>
                </a:lnTo>
                <a:lnTo>
                  <a:pt x="16" y="435"/>
                </a:lnTo>
                <a:cubicBezTo>
                  <a:pt x="14" y="439"/>
                  <a:pt x="9" y="440"/>
                  <a:pt x="5" y="438"/>
                </a:cubicBezTo>
                <a:cubicBezTo>
                  <a:pt x="1" y="436"/>
                  <a:pt x="0" y="432"/>
                  <a:pt x="2" y="428"/>
                </a:cubicBezTo>
                <a:lnTo>
                  <a:pt x="213" y="4"/>
                </a:lnTo>
                <a:cubicBezTo>
                  <a:pt x="215" y="2"/>
                  <a:pt x="217" y="0"/>
                  <a:pt x="220" y="0"/>
                </a:cubicBezTo>
                <a:lnTo>
                  <a:pt x="1732" y="0"/>
                </a:lnTo>
                <a:cubicBezTo>
                  <a:pt x="1735" y="0"/>
                  <a:pt x="1738" y="1"/>
                  <a:pt x="1739" y="4"/>
                </a:cubicBezTo>
                <a:cubicBezTo>
                  <a:pt x="1740" y="6"/>
                  <a:pt x="1741" y="9"/>
                  <a:pt x="1739" y="11"/>
                </a:cubicBezTo>
                <a:lnTo>
                  <a:pt x="1528" y="435"/>
                </a:lnTo>
                <a:cubicBezTo>
                  <a:pt x="1526" y="437"/>
                  <a:pt x="1524" y="439"/>
                  <a:pt x="1521" y="439"/>
                </a:cubicBezTo>
                <a:lnTo>
                  <a:pt x="9" y="439"/>
                </a:lnTo>
                <a:cubicBezTo>
                  <a:pt x="4" y="439"/>
                  <a:pt x="1" y="436"/>
                  <a:pt x="1" y="431"/>
                </a:cubicBezTo>
                <a:cubicBezTo>
                  <a:pt x="1" y="427"/>
                  <a:pt x="4" y="423"/>
                  <a:pt x="9" y="423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11" name="Rectangle 127"/>
          <p:cNvSpPr/>
          <p:nvPr/>
        </p:nvSpPr>
        <p:spPr>
          <a:xfrm>
            <a:off x="4202280" y="2247840"/>
            <a:ext cx="793440" cy="2095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12" name="Rectangle 128"/>
          <p:cNvSpPr/>
          <p:nvPr/>
        </p:nvSpPr>
        <p:spPr>
          <a:xfrm>
            <a:off x="4181400" y="2233440"/>
            <a:ext cx="792360" cy="648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13" name="Rectangle 129"/>
          <p:cNvSpPr/>
          <p:nvPr/>
        </p:nvSpPr>
        <p:spPr>
          <a:xfrm>
            <a:off x="4181400" y="2239920"/>
            <a:ext cx="79236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14" name="Rectangle 130"/>
          <p:cNvSpPr/>
          <p:nvPr/>
        </p:nvSpPr>
        <p:spPr>
          <a:xfrm>
            <a:off x="4181400" y="2247840"/>
            <a:ext cx="792360" cy="648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15" name="Rectangle 131"/>
          <p:cNvSpPr/>
          <p:nvPr/>
        </p:nvSpPr>
        <p:spPr>
          <a:xfrm>
            <a:off x="4181400" y="2254320"/>
            <a:ext cx="792360" cy="1404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16" name="Rectangle 132"/>
          <p:cNvSpPr/>
          <p:nvPr/>
        </p:nvSpPr>
        <p:spPr>
          <a:xfrm>
            <a:off x="4181400" y="2268360"/>
            <a:ext cx="792360" cy="1620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17" name="Rectangle 133"/>
          <p:cNvSpPr/>
          <p:nvPr/>
        </p:nvSpPr>
        <p:spPr>
          <a:xfrm>
            <a:off x="4181400" y="2284560"/>
            <a:ext cx="792360" cy="1404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18" name="Rectangle 134"/>
          <p:cNvSpPr/>
          <p:nvPr/>
        </p:nvSpPr>
        <p:spPr>
          <a:xfrm>
            <a:off x="4181400" y="2298600"/>
            <a:ext cx="792360" cy="648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19" name="Rectangle 135"/>
          <p:cNvSpPr/>
          <p:nvPr/>
        </p:nvSpPr>
        <p:spPr>
          <a:xfrm>
            <a:off x="4181400" y="2305080"/>
            <a:ext cx="792360" cy="144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20" name="Rectangle 136"/>
          <p:cNvSpPr/>
          <p:nvPr/>
        </p:nvSpPr>
        <p:spPr>
          <a:xfrm>
            <a:off x="4181400" y="2319480"/>
            <a:ext cx="792360" cy="28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21" name="Rectangle 137"/>
          <p:cNvSpPr/>
          <p:nvPr/>
        </p:nvSpPr>
        <p:spPr>
          <a:xfrm>
            <a:off x="4181400" y="2347920"/>
            <a:ext cx="792360" cy="1440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22" name="Rectangle 138"/>
          <p:cNvSpPr/>
          <p:nvPr/>
        </p:nvSpPr>
        <p:spPr>
          <a:xfrm>
            <a:off x="4181400" y="2362320"/>
            <a:ext cx="792360" cy="792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23" name="Rectangle 139"/>
          <p:cNvSpPr/>
          <p:nvPr/>
        </p:nvSpPr>
        <p:spPr>
          <a:xfrm>
            <a:off x="4181400" y="2370240"/>
            <a:ext cx="792360" cy="1404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24" name="Rectangle 140"/>
          <p:cNvSpPr/>
          <p:nvPr/>
        </p:nvSpPr>
        <p:spPr>
          <a:xfrm>
            <a:off x="4181400" y="2384280"/>
            <a:ext cx="792360" cy="1440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25" name="Rectangle 141"/>
          <p:cNvSpPr/>
          <p:nvPr/>
        </p:nvSpPr>
        <p:spPr>
          <a:xfrm>
            <a:off x="4181400" y="2398680"/>
            <a:ext cx="792360" cy="1440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26" name="Rectangle 142"/>
          <p:cNvSpPr/>
          <p:nvPr/>
        </p:nvSpPr>
        <p:spPr>
          <a:xfrm>
            <a:off x="4181400" y="2413080"/>
            <a:ext cx="792360" cy="7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27" name="Rectangle 143"/>
          <p:cNvSpPr/>
          <p:nvPr/>
        </p:nvSpPr>
        <p:spPr>
          <a:xfrm>
            <a:off x="4181400" y="2421000"/>
            <a:ext cx="792360" cy="1440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28" name="Rectangle 144"/>
          <p:cNvSpPr/>
          <p:nvPr/>
        </p:nvSpPr>
        <p:spPr>
          <a:xfrm>
            <a:off x="4181400" y="2435400"/>
            <a:ext cx="792360" cy="61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29" name="Freeform 145"/>
          <p:cNvSpPr/>
          <p:nvPr/>
        </p:nvSpPr>
        <p:spPr>
          <a:xfrm>
            <a:off x="4194000" y="2241720"/>
            <a:ext cx="776520" cy="190440"/>
          </a:xfrm>
          <a:custGeom>
            <a:avLst/>
            <a:gdLst/>
            <a:ahLst/>
            <a:rect l="l" t="t" r="r" b="b"/>
            <a:pathLst>
              <a:path w="489" h="120">
                <a:moveTo>
                  <a:pt x="0" y="120"/>
                </a:moveTo>
                <a:lnTo>
                  <a:pt x="429" y="120"/>
                </a:lnTo>
                <a:lnTo>
                  <a:pt x="489" y="0"/>
                </a:lnTo>
                <a:lnTo>
                  <a:pt x="60" y="0"/>
                </a:lnTo>
                <a:lnTo>
                  <a:pt x="0" y="120"/>
                </a:lnTo>
                <a:close/>
              </a:path>
            </a:pathLst>
          </a:custGeom>
          <a:noFill/>
          <a:ln cap="rnd" w="1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30" name="Rectangle 146"/>
          <p:cNvSpPr/>
          <p:nvPr/>
        </p:nvSpPr>
        <p:spPr>
          <a:xfrm>
            <a:off x="4503960" y="2247840"/>
            <a:ext cx="22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Calibri"/>
              </a:rPr>
              <a:t>Null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31" name="Rectangle 147"/>
          <p:cNvSpPr/>
          <p:nvPr/>
        </p:nvSpPr>
        <p:spPr>
          <a:xfrm>
            <a:off x="4253040" y="2622600"/>
            <a:ext cx="111096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632" name="Picture 148" descr=""/>
          <p:cNvPicPr/>
          <p:nvPr/>
        </p:nvPicPr>
        <p:blipFill>
          <a:blip r:embed="rId4"/>
          <a:stretch/>
        </p:blipFill>
        <p:spPr>
          <a:xfrm>
            <a:off x="4254480" y="2624040"/>
            <a:ext cx="1104840" cy="38124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149"/>
          <p:cNvSpPr/>
          <p:nvPr/>
        </p:nvSpPr>
        <p:spPr>
          <a:xfrm>
            <a:off x="4253040" y="2622600"/>
            <a:ext cx="111096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34" name="Rectangle 150"/>
          <p:cNvSpPr/>
          <p:nvPr/>
        </p:nvSpPr>
        <p:spPr>
          <a:xfrm>
            <a:off x="4246560" y="2614680"/>
            <a:ext cx="1123920" cy="396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35" name="Freeform 151"/>
          <p:cNvSpPr/>
          <p:nvPr/>
        </p:nvSpPr>
        <p:spPr>
          <a:xfrm>
            <a:off x="4251240" y="2619360"/>
            <a:ext cx="1111320" cy="388800"/>
          </a:xfrm>
          <a:custGeom>
            <a:avLst/>
            <a:gdLst/>
            <a:ahLst/>
            <a:rect l="l" t="t" r="r" b="b"/>
            <a:pathLst>
              <a:path w="2465" h="863">
                <a:moveTo>
                  <a:pt x="8" y="847"/>
                </a:moveTo>
                <a:lnTo>
                  <a:pt x="2457" y="847"/>
                </a:lnTo>
                <a:lnTo>
                  <a:pt x="2449" y="855"/>
                </a:lnTo>
                <a:lnTo>
                  <a:pt x="2449" y="8"/>
                </a:lnTo>
                <a:lnTo>
                  <a:pt x="2457" y="16"/>
                </a:lnTo>
                <a:lnTo>
                  <a:pt x="8" y="16"/>
                </a:lnTo>
                <a:lnTo>
                  <a:pt x="16" y="8"/>
                </a:lnTo>
                <a:lnTo>
                  <a:pt x="16" y="855"/>
                </a:lnTo>
                <a:cubicBezTo>
                  <a:pt x="16" y="859"/>
                  <a:pt x="12" y="863"/>
                  <a:pt x="8" y="863"/>
                </a:cubicBezTo>
                <a:cubicBezTo>
                  <a:pt x="3" y="863"/>
                  <a:pt x="0" y="859"/>
                  <a:pt x="0" y="855"/>
                </a:cubicBezTo>
                <a:lnTo>
                  <a:pt x="0" y="8"/>
                </a:lnTo>
                <a:cubicBezTo>
                  <a:pt x="0" y="4"/>
                  <a:pt x="3" y="0"/>
                  <a:pt x="8" y="0"/>
                </a:cubicBezTo>
                <a:lnTo>
                  <a:pt x="2457" y="0"/>
                </a:lnTo>
                <a:cubicBezTo>
                  <a:pt x="2461" y="0"/>
                  <a:pt x="2465" y="4"/>
                  <a:pt x="2465" y="8"/>
                </a:cubicBezTo>
                <a:lnTo>
                  <a:pt x="2465" y="855"/>
                </a:lnTo>
                <a:cubicBezTo>
                  <a:pt x="2465" y="859"/>
                  <a:pt x="2461" y="863"/>
                  <a:pt x="2457" y="863"/>
                </a:cubicBezTo>
                <a:lnTo>
                  <a:pt x="8" y="863"/>
                </a:lnTo>
                <a:cubicBezTo>
                  <a:pt x="3" y="863"/>
                  <a:pt x="0" y="859"/>
                  <a:pt x="0" y="855"/>
                </a:cubicBezTo>
                <a:cubicBezTo>
                  <a:pt x="0" y="850"/>
                  <a:pt x="3" y="847"/>
                  <a:pt x="8" y="847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36" name="Rectangle 152"/>
          <p:cNvSpPr/>
          <p:nvPr/>
        </p:nvSpPr>
        <p:spPr>
          <a:xfrm>
            <a:off x="4246560" y="2614680"/>
            <a:ext cx="1123920" cy="396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37" name="Rectangle 153"/>
          <p:cNvSpPr/>
          <p:nvPr/>
        </p:nvSpPr>
        <p:spPr>
          <a:xfrm>
            <a:off x="4332240" y="2614680"/>
            <a:ext cx="959040" cy="396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38" name="Freeform 154"/>
          <p:cNvSpPr/>
          <p:nvPr/>
        </p:nvSpPr>
        <p:spPr>
          <a:xfrm>
            <a:off x="4334040" y="2619360"/>
            <a:ext cx="946080" cy="388800"/>
          </a:xfrm>
          <a:custGeom>
            <a:avLst/>
            <a:gdLst/>
            <a:ahLst/>
            <a:rect l="l" t="t" r="r" b="b"/>
            <a:pathLst>
              <a:path w="2102" h="863">
                <a:moveTo>
                  <a:pt x="0" y="855"/>
                </a:move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cubicBezTo>
                  <a:pt x="12" y="0"/>
                  <a:pt x="16" y="4"/>
                  <a:pt x="16" y="8"/>
                </a:cubicBezTo>
                <a:lnTo>
                  <a:pt x="16" y="855"/>
                </a:lnTo>
                <a:cubicBezTo>
                  <a:pt x="16" y="859"/>
                  <a:pt x="12" y="863"/>
                  <a:pt x="8" y="863"/>
                </a:cubicBezTo>
                <a:cubicBezTo>
                  <a:pt x="4" y="863"/>
                  <a:pt x="0" y="859"/>
                  <a:pt x="0" y="855"/>
                </a:cubicBezTo>
                <a:close/>
                <a:moveTo>
                  <a:pt x="2086" y="855"/>
                </a:moveTo>
                <a:lnTo>
                  <a:pt x="2086" y="8"/>
                </a:lnTo>
                <a:cubicBezTo>
                  <a:pt x="2086" y="4"/>
                  <a:pt x="2090" y="0"/>
                  <a:pt x="2094" y="0"/>
                </a:cubicBezTo>
                <a:cubicBezTo>
                  <a:pt x="2099" y="0"/>
                  <a:pt x="2102" y="4"/>
                  <a:pt x="2102" y="8"/>
                </a:cubicBezTo>
                <a:lnTo>
                  <a:pt x="2102" y="855"/>
                </a:lnTo>
                <a:cubicBezTo>
                  <a:pt x="2102" y="859"/>
                  <a:pt x="2099" y="863"/>
                  <a:pt x="2094" y="863"/>
                </a:cubicBezTo>
                <a:cubicBezTo>
                  <a:pt x="2090" y="863"/>
                  <a:pt x="2086" y="859"/>
                  <a:pt x="2086" y="855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39" name="Rectangle 155"/>
          <p:cNvSpPr/>
          <p:nvPr/>
        </p:nvSpPr>
        <p:spPr>
          <a:xfrm>
            <a:off x="4332240" y="2614680"/>
            <a:ext cx="959040" cy="396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40" name="Rectangle 156"/>
          <p:cNvSpPr/>
          <p:nvPr/>
        </p:nvSpPr>
        <p:spPr>
          <a:xfrm>
            <a:off x="4232160" y="2600280"/>
            <a:ext cx="1123920" cy="79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41" name="Rectangle 157"/>
          <p:cNvSpPr/>
          <p:nvPr/>
        </p:nvSpPr>
        <p:spPr>
          <a:xfrm>
            <a:off x="4232160" y="2608200"/>
            <a:ext cx="11239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42" name="Rectangle 158"/>
          <p:cNvSpPr/>
          <p:nvPr/>
        </p:nvSpPr>
        <p:spPr>
          <a:xfrm>
            <a:off x="4232160" y="2614680"/>
            <a:ext cx="1123920" cy="3024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43" name="Rectangle 159"/>
          <p:cNvSpPr/>
          <p:nvPr/>
        </p:nvSpPr>
        <p:spPr>
          <a:xfrm>
            <a:off x="4232160" y="2644920"/>
            <a:ext cx="1123920" cy="2052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44" name="Rectangle 160"/>
          <p:cNvSpPr/>
          <p:nvPr/>
        </p:nvSpPr>
        <p:spPr>
          <a:xfrm>
            <a:off x="4232160" y="2665440"/>
            <a:ext cx="1123920" cy="28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45" name="Rectangle 161"/>
          <p:cNvSpPr/>
          <p:nvPr/>
        </p:nvSpPr>
        <p:spPr>
          <a:xfrm>
            <a:off x="4232160" y="2693880"/>
            <a:ext cx="1123920" cy="2232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46" name="Rectangle 162"/>
          <p:cNvSpPr/>
          <p:nvPr/>
        </p:nvSpPr>
        <p:spPr>
          <a:xfrm>
            <a:off x="4232160" y="2716200"/>
            <a:ext cx="1123920" cy="2844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47" name="Rectangle 163"/>
          <p:cNvSpPr/>
          <p:nvPr/>
        </p:nvSpPr>
        <p:spPr>
          <a:xfrm>
            <a:off x="4232160" y="2744640"/>
            <a:ext cx="1123920" cy="2232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48" name="Rectangle 164"/>
          <p:cNvSpPr/>
          <p:nvPr/>
        </p:nvSpPr>
        <p:spPr>
          <a:xfrm>
            <a:off x="4232160" y="2766960"/>
            <a:ext cx="1123920" cy="507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49" name="Rectangle 165"/>
          <p:cNvSpPr/>
          <p:nvPr/>
        </p:nvSpPr>
        <p:spPr>
          <a:xfrm>
            <a:off x="4232160" y="2817720"/>
            <a:ext cx="1123920" cy="2088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50" name="Rectangle 166"/>
          <p:cNvSpPr/>
          <p:nvPr/>
        </p:nvSpPr>
        <p:spPr>
          <a:xfrm>
            <a:off x="4232160" y="2838600"/>
            <a:ext cx="1123920" cy="2844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51" name="Rectangle 167"/>
          <p:cNvSpPr/>
          <p:nvPr/>
        </p:nvSpPr>
        <p:spPr>
          <a:xfrm>
            <a:off x="4232160" y="2867040"/>
            <a:ext cx="1123920" cy="223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52" name="Rectangle 168"/>
          <p:cNvSpPr/>
          <p:nvPr/>
        </p:nvSpPr>
        <p:spPr>
          <a:xfrm>
            <a:off x="4232160" y="2889360"/>
            <a:ext cx="1123920" cy="2844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53" name="Rectangle 169"/>
          <p:cNvSpPr/>
          <p:nvPr/>
        </p:nvSpPr>
        <p:spPr>
          <a:xfrm>
            <a:off x="4232160" y="2917800"/>
            <a:ext cx="1123920" cy="2232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54" name="Rectangle 170"/>
          <p:cNvSpPr/>
          <p:nvPr/>
        </p:nvSpPr>
        <p:spPr>
          <a:xfrm>
            <a:off x="4232160" y="2940120"/>
            <a:ext cx="1123920" cy="20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55" name="Rectangle 171"/>
          <p:cNvSpPr/>
          <p:nvPr/>
        </p:nvSpPr>
        <p:spPr>
          <a:xfrm>
            <a:off x="4232160" y="2960640"/>
            <a:ext cx="1123920" cy="302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56" name="Rectangle 172"/>
          <p:cNvSpPr/>
          <p:nvPr/>
        </p:nvSpPr>
        <p:spPr>
          <a:xfrm>
            <a:off x="4232160" y="2990880"/>
            <a:ext cx="1123920" cy="648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57" name="Rectangle 173"/>
          <p:cNvSpPr/>
          <p:nvPr/>
        </p:nvSpPr>
        <p:spPr>
          <a:xfrm>
            <a:off x="4241880" y="2610000"/>
            <a:ext cx="1103400" cy="380880"/>
          </a:xfrm>
          <a:prstGeom prst="rect">
            <a:avLst/>
          </a:prstGeom>
          <a:noFill/>
          <a:ln cap="rnd" w="1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58" name="Freeform 174"/>
          <p:cNvSpPr/>
          <p:nvPr/>
        </p:nvSpPr>
        <p:spPr>
          <a:xfrm>
            <a:off x="4322880" y="2610000"/>
            <a:ext cx="939600" cy="380880"/>
          </a:xfrm>
          <a:custGeom>
            <a:avLst/>
            <a:gdLst/>
            <a:ahLst/>
            <a:rect l="l" t="t" r="r" b="b"/>
            <a:pathLst>
              <a:path w="592" h="240">
                <a:moveTo>
                  <a:pt x="0" y="240"/>
                </a:moveTo>
                <a:lnTo>
                  <a:pt x="0" y="0"/>
                </a:lnTo>
                <a:moveTo>
                  <a:pt x="592" y="240"/>
                </a:moveTo>
                <a:lnTo>
                  <a:pt x="592" y="0"/>
                </a:lnTo>
              </a:path>
            </a:pathLst>
          </a:custGeom>
          <a:noFill/>
          <a:ln cap="rnd" w="1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59" name="Rectangle 175"/>
          <p:cNvSpPr/>
          <p:nvPr/>
        </p:nvSpPr>
        <p:spPr>
          <a:xfrm>
            <a:off x="4394880" y="2629080"/>
            <a:ext cx="884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Calibri"/>
              </a:rPr>
              <a:t>BinaryOperator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60" name="Rectangle 176"/>
          <p:cNvSpPr/>
          <p:nvPr/>
        </p:nvSpPr>
        <p:spPr>
          <a:xfrm>
            <a:off x="4648320" y="278748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61" name="Rectangle 177"/>
          <p:cNvSpPr/>
          <p:nvPr/>
        </p:nvSpPr>
        <p:spPr>
          <a:xfrm>
            <a:off x="4676040" y="2787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Calibri"/>
              </a:rPr>
              <a:t>&lt;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62" name="Rectangle 178"/>
          <p:cNvSpPr/>
          <p:nvPr/>
        </p:nvSpPr>
        <p:spPr>
          <a:xfrm>
            <a:off x="4741920" y="278748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63" name="Rectangle 179"/>
          <p:cNvSpPr/>
          <p:nvPr/>
        </p:nvSpPr>
        <p:spPr>
          <a:xfrm>
            <a:off x="4800600" y="278748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64" name="Rectangle 180"/>
          <p:cNvSpPr/>
          <p:nvPr/>
        </p:nvSpPr>
        <p:spPr>
          <a:xfrm>
            <a:off x="4835880" y="2787480"/>
            <a:ext cx="15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int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65" name="Rectangle 181"/>
          <p:cNvSpPr/>
          <p:nvPr/>
        </p:nvSpPr>
        <p:spPr>
          <a:xfrm>
            <a:off x="4980240" y="278748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66" name="Rectangle 182"/>
          <p:cNvSpPr/>
          <p:nvPr/>
        </p:nvSpPr>
        <p:spPr>
          <a:xfrm>
            <a:off x="5464080" y="3357720"/>
            <a:ext cx="1111320" cy="3823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667" name="Picture 183" descr=""/>
          <p:cNvPicPr/>
          <p:nvPr/>
        </p:nvPicPr>
        <p:blipFill>
          <a:blip r:embed="rId5"/>
          <a:stretch/>
        </p:blipFill>
        <p:spPr>
          <a:xfrm>
            <a:off x="5467320" y="3359160"/>
            <a:ext cx="1104840" cy="38088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184"/>
          <p:cNvSpPr/>
          <p:nvPr/>
        </p:nvSpPr>
        <p:spPr>
          <a:xfrm>
            <a:off x="5464080" y="3357720"/>
            <a:ext cx="1111320" cy="3823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69" name="Rectangle 185"/>
          <p:cNvSpPr/>
          <p:nvPr/>
        </p:nvSpPr>
        <p:spPr>
          <a:xfrm>
            <a:off x="5457960" y="3351240"/>
            <a:ext cx="1123920" cy="3952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70" name="Freeform 186"/>
          <p:cNvSpPr/>
          <p:nvPr/>
        </p:nvSpPr>
        <p:spPr>
          <a:xfrm>
            <a:off x="5464080" y="3355920"/>
            <a:ext cx="1111320" cy="389160"/>
          </a:xfrm>
          <a:custGeom>
            <a:avLst/>
            <a:gdLst/>
            <a:ahLst/>
            <a:rect l="l" t="t" r="r" b="b"/>
            <a:pathLst>
              <a:path w="2465" h="863">
                <a:moveTo>
                  <a:pt x="8" y="847"/>
                </a:moveTo>
                <a:lnTo>
                  <a:pt x="2457" y="847"/>
                </a:lnTo>
                <a:lnTo>
                  <a:pt x="2449" y="855"/>
                </a:lnTo>
                <a:lnTo>
                  <a:pt x="2449" y="8"/>
                </a:lnTo>
                <a:lnTo>
                  <a:pt x="2457" y="16"/>
                </a:lnTo>
                <a:lnTo>
                  <a:pt x="8" y="16"/>
                </a:lnTo>
                <a:lnTo>
                  <a:pt x="16" y="8"/>
                </a:lnTo>
                <a:lnTo>
                  <a:pt x="16" y="855"/>
                </a:lnTo>
                <a:cubicBezTo>
                  <a:pt x="16" y="859"/>
                  <a:pt x="12" y="863"/>
                  <a:pt x="8" y="863"/>
                </a:cubicBezTo>
                <a:cubicBezTo>
                  <a:pt x="3" y="863"/>
                  <a:pt x="0" y="859"/>
                  <a:pt x="0" y="855"/>
                </a:cubicBezTo>
                <a:lnTo>
                  <a:pt x="0" y="8"/>
                </a:lnTo>
                <a:cubicBezTo>
                  <a:pt x="0" y="4"/>
                  <a:pt x="3" y="0"/>
                  <a:pt x="8" y="0"/>
                </a:cubicBezTo>
                <a:lnTo>
                  <a:pt x="2457" y="0"/>
                </a:lnTo>
                <a:cubicBezTo>
                  <a:pt x="2461" y="0"/>
                  <a:pt x="2465" y="4"/>
                  <a:pt x="2465" y="8"/>
                </a:cubicBezTo>
                <a:lnTo>
                  <a:pt x="2465" y="855"/>
                </a:lnTo>
                <a:cubicBezTo>
                  <a:pt x="2465" y="859"/>
                  <a:pt x="2461" y="863"/>
                  <a:pt x="2457" y="863"/>
                </a:cubicBezTo>
                <a:lnTo>
                  <a:pt x="8" y="863"/>
                </a:lnTo>
                <a:cubicBezTo>
                  <a:pt x="3" y="863"/>
                  <a:pt x="0" y="859"/>
                  <a:pt x="0" y="855"/>
                </a:cubicBezTo>
                <a:cubicBezTo>
                  <a:pt x="0" y="850"/>
                  <a:pt x="3" y="847"/>
                  <a:pt x="8" y="847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71" name="Rectangle 187"/>
          <p:cNvSpPr/>
          <p:nvPr/>
        </p:nvSpPr>
        <p:spPr>
          <a:xfrm>
            <a:off x="5457960" y="3351240"/>
            <a:ext cx="1123920" cy="3952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72" name="Rectangle 188"/>
          <p:cNvSpPr/>
          <p:nvPr/>
        </p:nvSpPr>
        <p:spPr>
          <a:xfrm>
            <a:off x="5543640" y="3351240"/>
            <a:ext cx="958680" cy="3952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73" name="Freeform 189"/>
          <p:cNvSpPr/>
          <p:nvPr/>
        </p:nvSpPr>
        <p:spPr>
          <a:xfrm>
            <a:off x="5545080" y="3355920"/>
            <a:ext cx="947880" cy="389160"/>
          </a:xfrm>
          <a:custGeom>
            <a:avLst/>
            <a:gdLst/>
            <a:ahLst/>
            <a:rect l="l" t="t" r="r" b="b"/>
            <a:pathLst>
              <a:path w="2102" h="863">
                <a:moveTo>
                  <a:pt x="0" y="855"/>
                </a:move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cubicBezTo>
                  <a:pt x="12" y="0"/>
                  <a:pt x="16" y="4"/>
                  <a:pt x="16" y="8"/>
                </a:cubicBezTo>
                <a:lnTo>
                  <a:pt x="16" y="855"/>
                </a:lnTo>
                <a:cubicBezTo>
                  <a:pt x="16" y="859"/>
                  <a:pt x="12" y="863"/>
                  <a:pt x="8" y="863"/>
                </a:cubicBezTo>
                <a:cubicBezTo>
                  <a:pt x="4" y="863"/>
                  <a:pt x="0" y="859"/>
                  <a:pt x="0" y="855"/>
                </a:cubicBezTo>
                <a:close/>
                <a:moveTo>
                  <a:pt x="2086" y="855"/>
                </a:moveTo>
                <a:lnTo>
                  <a:pt x="2086" y="8"/>
                </a:lnTo>
                <a:cubicBezTo>
                  <a:pt x="2086" y="4"/>
                  <a:pt x="2090" y="0"/>
                  <a:pt x="2094" y="0"/>
                </a:cubicBezTo>
                <a:cubicBezTo>
                  <a:pt x="2099" y="0"/>
                  <a:pt x="2102" y="4"/>
                  <a:pt x="2102" y="8"/>
                </a:cubicBezTo>
                <a:lnTo>
                  <a:pt x="2102" y="855"/>
                </a:lnTo>
                <a:cubicBezTo>
                  <a:pt x="2102" y="859"/>
                  <a:pt x="2099" y="863"/>
                  <a:pt x="2094" y="863"/>
                </a:cubicBezTo>
                <a:cubicBezTo>
                  <a:pt x="2090" y="863"/>
                  <a:pt x="2086" y="859"/>
                  <a:pt x="2086" y="855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74" name="Rectangle 190"/>
          <p:cNvSpPr/>
          <p:nvPr/>
        </p:nvSpPr>
        <p:spPr>
          <a:xfrm>
            <a:off x="5543640" y="3351240"/>
            <a:ext cx="958680" cy="3952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75" name="Rectangle 191"/>
          <p:cNvSpPr/>
          <p:nvPr/>
        </p:nvSpPr>
        <p:spPr>
          <a:xfrm>
            <a:off x="5443560" y="3336840"/>
            <a:ext cx="1123920" cy="648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76" name="Rectangle 192"/>
          <p:cNvSpPr/>
          <p:nvPr/>
        </p:nvSpPr>
        <p:spPr>
          <a:xfrm>
            <a:off x="5443560" y="3343320"/>
            <a:ext cx="112392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77" name="Rectangle 193"/>
          <p:cNvSpPr/>
          <p:nvPr/>
        </p:nvSpPr>
        <p:spPr>
          <a:xfrm>
            <a:off x="5443560" y="3351240"/>
            <a:ext cx="1123920" cy="2844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78" name="Rectangle 194"/>
          <p:cNvSpPr/>
          <p:nvPr/>
        </p:nvSpPr>
        <p:spPr>
          <a:xfrm>
            <a:off x="5443560" y="3379680"/>
            <a:ext cx="1123920" cy="2088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79" name="Rectangle 195"/>
          <p:cNvSpPr/>
          <p:nvPr/>
        </p:nvSpPr>
        <p:spPr>
          <a:xfrm>
            <a:off x="5443560" y="3400560"/>
            <a:ext cx="1123920" cy="2988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80" name="Rectangle 196"/>
          <p:cNvSpPr/>
          <p:nvPr/>
        </p:nvSpPr>
        <p:spPr>
          <a:xfrm>
            <a:off x="5443560" y="3430440"/>
            <a:ext cx="1123920" cy="2088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81" name="Rectangle 197"/>
          <p:cNvSpPr/>
          <p:nvPr/>
        </p:nvSpPr>
        <p:spPr>
          <a:xfrm>
            <a:off x="5443560" y="3451320"/>
            <a:ext cx="1123920" cy="2844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82" name="Rectangle 198"/>
          <p:cNvSpPr/>
          <p:nvPr/>
        </p:nvSpPr>
        <p:spPr>
          <a:xfrm>
            <a:off x="5443560" y="3479760"/>
            <a:ext cx="1123920" cy="2232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83" name="Rectangle 199"/>
          <p:cNvSpPr/>
          <p:nvPr/>
        </p:nvSpPr>
        <p:spPr>
          <a:xfrm>
            <a:off x="5443560" y="3502080"/>
            <a:ext cx="1123920" cy="507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84" name="Rectangle 200"/>
          <p:cNvSpPr/>
          <p:nvPr/>
        </p:nvSpPr>
        <p:spPr>
          <a:xfrm>
            <a:off x="5443560" y="3552840"/>
            <a:ext cx="1123920" cy="2052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85" name="Rectangle 201"/>
          <p:cNvSpPr/>
          <p:nvPr/>
        </p:nvSpPr>
        <p:spPr>
          <a:xfrm>
            <a:off x="5443560" y="3573360"/>
            <a:ext cx="1123920" cy="3024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86" name="Rectangle 202"/>
          <p:cNvSpPr/>
          <p:nvPr/>
        </p:nvSpPr>
        <p:spPr>
          <a:xfrm>
            <a:off x="5443560" y="3603600"/>
            <a:ext cx="1123920" cy="205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87" name="Rectangle 203"/>
          <p:cNvSpPr/>
          <p:nvPr/>
        </p:nvSpPr>
        <p:spPr>
          <a:xfrm>
            <a:off x="5443560" y="3624120"/>
            <a:ext cx="1123920" cy="2880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88" name="Rectangle 204"/>
          <p:cNvSpPr/>
          <p:nvPr/>
        </p:nvSpPr>
        <p:spPr>
          <a:xfrm>
            <a:off x="5443560" y="3652920"/>
            <a:ext cx="1123920" cy="2232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689" name="Group 406"/>
          <p:cNvGrpSpPr/>
          <p:nvPr/>
        </p:nvGrpSpPr>
        <p:grpSpPr>
          <a:xfrm>
            <a:off x="4232160" y="2846520"/>
            <a:ext cx="3568320" cy="2485800"/>
            <a:chOff x="4232160" y="2846520"/>
            <a:chExt cx="3568320" cy="2485800"/>
          </a:xfrm>
        </p:grpSpPr>
        <p:sp>
          <p:nvSpPr>
            <p:cNvPr id="690" name="Rectangle 206"/>
            <p:cNvSpPr/>
            <p:nvPr/>
          </p:nvSpPr>
          <p:spPr>
            <a:xfrm>
              <a:off x="5443200" y="3675240"/>
              <a:ext cx="1123560" cy="28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691" name="Rectangle 207"/>
            <p:cNvSpPr/>
            <p:nvPr/>
          </p:nvSpPr>
          <p:spPr>
            <a:xfrm>
              <a:off x="5443200" y="3703680"/>
              <a:ext cx="1123560" cy="2232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692" name="Rectangle 208"/>
            <p:cNvSpPr/>
            <p:nvPr/>
          </p:nvSpPr>
          <p:spPr>
            <a:xfrm>
              <a:off x="5443200" y="3726000"/>
              <a:ext cx="1123560" cy="612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693" name="Rectangle 209"/>
            <p:cNvSpPr/>
            <p:nvPr/>
          </p:nvSpPr>
          <p:spPr>
            <a:xfrm>
              <a:off x="5454360" y="3344760"/>
              <a:ext cx="1103040" cy="382680"/>
            </a:xfrm>
            <a:prstGeom prst="rect">
              <a:avLst/>
            </a:prstGeom>
            <a:noFill/>
            <a:ln cap="rnd" w="144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694" name="Freeform 210"/>
            <p:cNvSpPr/>
            <p:nvPr/>
          </p:nvSpPr>
          <p:spPr>
            <a:xfrm>
              <a:off x="5535360" y="3344760"/>
              <a:ext cx="939240" cy="382680"/>
            </a:xfrm>
            <a:custGeom>
              <a:avLst/>
              <a:gdLst/>
              <a:ahLst/>
              <a:rect l="l" t="t" r="r" b="b"/>
              <a:pathLst>
                <a:path w="592" h="241">
                  <a:moveTo>
                    <a:pt x="0" y="241"/>
                  </a:moveTo>
                  <a:lnTo>
                    <a:pt x="0" y="0"/>
                  </a:lnTo>
                  <a:moveTo>
                    <a:pt x="592" y="241"/>
                  </a:moveTo>
                  <a:lnTo>
                    <a:pt x="592" y="0"/>
                  </a:lnTo>
                </a:path>
              </a:pathLst>
            </a:custGeom>
            <a:noFill/>
            <a:ln cap="rnd" w="144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695" name="Rectangle 211"/>
            <p:cNvSpPr/>
            <p:nvPr/>
          </p:nvSpPr>
          <p:spPr>
            <a:xfrm>
              <a:off x="5589720" y="3363840"/>
              <a:ext cx="918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Calibri"/>
                </a:rPr>
                <a:t>ImplicitCastExpr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696" name="Rectangle 212"/>
            <p:cNvSpPr/>
            <p:nvPr/>
          </p:nvSpPr>
          <p:spPr>
            <a:xfrm>
              <a:off x="5938560" y="35226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b050"/>
                  </a:solidFill>
                  <a:latin typeface="Calibri"/>
                </a:rPr>
                <a:t>'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697" name="Rectangle 213"/>
            <p:cNvSpPr/>
            <p:nvPr/>
          </p:nvSpPr>
          <p:spPr>
            <a:xfrm>
              <a:off x="5968800" y="3522600"/>
              <a:ext cx="15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b050"/>
                  </a:solidFill>
                  <a:latin typeface="Calibri"/>
                </a:rPr>
                <a:t>int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698" name="Rectangle 214"/>
            <p:cNvSpPr/>
            <p:nvPr/>
          </p:nvSpPr>
          <p:spPr>
            <a:xfrm>
              <a:off x="6111720" y="35226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b050"/>
                  </a:solidFill>
                  <a:latin typeface="Calibri"/>
                </a:rPr>
                <a:t>'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699" name="Rectangle 215"/>
            <p:cNvSpPr/>
            <p:nvPr/>
          </p:nvSpPr>
          <p:spPr>
            <a:xfrm>
              <a:off x="6675120" y="3603600"/>
              <a:ext cx="1110960" cy="38124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pic>
          <p:nvPicPr>
            <p:cNvPr id="700" name="Picture 216" descr=""/>
            <p:cNvPicPr/>
            <p:nvPr/>
          </p:nvPicPr>
          <p:blipFill>
            <a:blip r:embed="rId6"/>
            <a:stretch/>
          </p:blipFill>
          <p:spPr>
            <a:xfrm>
              <a:off x="6679800" y="3603600"/>
              <a:ext cx="11030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Rectangle 217"/>
            <p:cNvSpPr/>
            <p:nvPr/>
          </p:nvSpPr>
          <p:spPr>
            <a:xfrm>
              <a:off x="6675120" y="3603600"/>
              <a:ext cx="1110960" cy="38124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02" name="Rectangle 218"/>
            <p:cNvSpPr/>
            <p:nvPr/>
          </p:nvSpPr>
          <p:spPr>
            <a:xfrm>
              <a:off x="6675120" y="3595680"/>
              <a:ext cx="1125360" cy="3970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03" name="Freeform 219"/>
            <p:cNvSpPr/>
            <p:nvPr/>
          </p:nvSpPr>
          <p:spPr>
            <a:xfrm>
              <a:off x="6676560" y="3600360"/>
              <a:ext cx="1110960" cy="389160"/>
            </a:xfrm>
            <a:custGeom>
              <a:avLst/>
              <a:gdLst/>
              <a:ahLst/>
              <a:rect l="l" t="t" r="r" b="b"/>
              <a:pathLst>
                <a:path w="2465" h="863">
                  <a:moveTo>
                    <a:pt x="8" y="847"/>
                  </a:moveTo>
                  <a:lnTo>
                    <a:pt x="2457" y="847"/>
                  </a:lnTo>
                  <a:lnTo>
                    <a:pt x="2449" y="855"/>
                  </a:lnTo>
                  <a:lnTo>
                    <a:pt x="2449" y="8"/>
                  </a:lnTo>
                  <a:lnTo>
                    <a:pt x="2457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855"/>
                  </a:lnTo>
                  <a:cubicBezTo>
                    <a:pt x="16" y="859"/>
                    <a:pt x="12" y="863"/>
                    <a:pt x="8" y="863"/>
                  </a:cubicBezTo>
                  <a:cubicBezTo>
                    <a:pt x="3" y="863"/>
                    <a:pt x="0" y="859"/>
                    <a:pt x="0" y="855"/>
                  </a:cubicBezTo>
                  <a:lnTo>
                    <a:pt x="0" y="8"/>
                  </a:lnTo>
                  <a:cubicBezTo>
                    <a:pt x="0" y="4"/>
                    <a:pt x="3" y="0"/>
                    <a:pt x="8" y="0"/>
                  </a:cubicBezTo>
                  <a:lnTo>
                    <a:pt x="2457" y="0"/>
                  </a:lnTo>
                  <a:cubicBezTo>
                    <a:pt x="2461" y="0"/>
                    <a:pt x="2465" y="4"/>
                    <a:pt x="2465" y="8"/>
                  </a:cubicBezTo>
                  <a:lnTo>
                    <a:pt x="2465" y="855"/>
                  </a:lnTo>
                  <a:cubicBezTo>
                    <a:pt x="2465" y="859"/>
                    <a:pt x="2461" y="863"/>
                    <a:pt x="2457" y="863"/>
                  </a:cubicBezTo>
                  <a:lnTo>
                    <a:pt x="8" y="863"/>
                  </a:lnTo>
                  <a:cubicBezTo>
                    <a:pt x="3" y="863"/>
                    <a:pt x="0" y="859"/>
                    <a:pt x="0" y="855"/>
                  </a:cubicBezTo>
                  <a:cubicBezTo>
                    <a:pt x="0" y="850"/>
                    <a:pt x="3" y="847"/>
                    <a:pt x="8" y="8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04" name="Rectangle 220"/>
            <p:cNvSpPr/>
            <p:nvPr/>
          </p:nvSpPr>
          <p:spPr>
            <a:xfrm>
              <a:off x="6675120" y="3595680"/>
              <a:ext cx="1125360" cy="3970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05" name="Rectangle 221"/>
            <p:cNvSpPr/>
            <p:nvPr/>
          </p:nvSpPr>
          <p:spPr>
            <a:xfrm>
              <a:off x="6754680" y="3595680"/>
              <a:ext cx="958320" cy="3970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06" name="Freeform 222"/>
            <p:cNvSpPr/>
            <p:nvPr/>
          </p:nvSpPr>
          <p:spPr>
            <a:xfrm>
              <a:off x="6757560" y="3600360"/>
              <a:ext cx="947520" cy="389160"/>
            </a:xfrm>
            <a:custGeom>
              <a:avLst/>
              <a:gdLst/>
              <a:ahLst/>
              <a:rect l="l" t="t" r="r" b="b"/>
              <a:pathLst>
                <a:path w="2102" h="863">
                  <a:moveTo>
                    <a:pt x="0" y="855"/>
                  </a:moveTo>
                  <a:lnTo>
                    <a:pt x="0" y="8"/>
                  </a:ln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lnTo>
                    <a:pt x="16" y="855"/>
                  </a:lnTo>
                  <a:cubicBezTo>
                    <a:pt x="16" y="859"/>
                    <a:pt x="12" y="863"/>
                    <a:pt x="8" y="863"/>
                  </a:cubicBezTo>
                  <a:cubicBezTo>
                    <a:pt x="4" y="863"/>
                    <a:pt x="0" y="859"/>
                    <a:pt x="0" y="855"/>
                  </a:cubicBezTo>
                  <a:close/>
                  <a:moveTo>
                    <a:pt x="2086" y="855"/>
                  </a:moveTo>
                  <a:lnTo>
                    <a:pt x="2086" y="8"/>
                  </a:lnTo>
                  <a:cubicBezTo>
                    <a:pt x="2086" y="4"/>
                    <a:pt x="2090" y="0"/>
                    <a:pt x="2094" y="0"/>
                  </a:cubicBezTo>
                  <a:cubicBezTo>
                    <a:pt x="2099" y="0"/>
                    <a:pt x="2102" y="4"/>
                    <a:pt x="2102" y="8"/>
                  </a:cubicBezTo>
                  <a:lnTo>
                    <a:pt x="2102" y="855"/>
                  </a:lnTo>
                  <a:cubicBezTo>
                    <a:pt x="2102" y="859"/>
                    <a:pt x="2099" y="863"/>
                    <a:pt x="2094" y="863"/>
                  </a:cubicBezTo>
                  <a:cubicBezTo>
                    <a:pt x="2090" y="863"/>
                    <a:pt x="2086" y="859"/>
                    <a:pt x="2086" y="8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07" name="Rectangle 223"/>
            <p:cNvSpPr/>
            <p:nvPr/>
          </p:nvSpPr>
          <p:spPr>
            <a:xfrm>
              <a:off x="6754680" y="3595680"/>
              <a:ext cx="958320" cy="3970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08" name="Rectangle 224"/>
            <p:cNvSpPr/>
            <p:nvPr/>
          </p:nvSpPr>
          <p:spPr>
            <a:xfrm>
              <a:off x="6654600" y="3581640"/>
              <a:ext cx="1123560" cy="612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09" name="Rectangle 225"/>
            <p:cNvSpPr/>
            <p:nvPr/>
          </p:nvSpPr>
          <p:spPr>
            <a:xfrm>
              <a:off x="6654600" y="3587760"/>
              <a:ext cx="11235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10" name="Rectangle 226"/>
            <p:cNvSpPr/>
            <p:nvPr/>
          </p:nvSpPr>
          <p:spPr>
            <a:xfrm>
              <a:off x="6654600" y="3595680"/>
              <a:ext cx="1123560" cy="2880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11" name="Rectangle 227"/>
            <p:cNvSpPr/>
            <p:nvPr/>
          </p:nvSpPr>
          <p:spPr>
            <a:xfrm>
              <a:off x="6654600" y="3624480"/>
              <a:ext cx="1123560" cy="2196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12" name="Rectangle 228"/>
            <p:cNvSpPr/>
            <p:nvPr/>
          </p:nvSpPr>
          <p:spPr>
            <a:xfrm>
              <a:off x="6654600" y="3646440"/>
              <a:ext cx="1123560" cy="2880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13" name="Rectangle 229"/>
            <p:cNvSpPr/>
            <p:nvPr/>
          </p:nvSpPr>
          <p:spPr>
            <a:xfrm>
              <a:off x="6654600" y="3675240"/>
              <a:ext cx="1123560" cy="219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14" name="Rectangle 230"/>
            <p:cNvSpPr/>
            <p:nvPr/>
          </p:nvSpPr>
          <p:spPr>
            <a:xfrm>
              <a:off x="6654600" y="3697200"/>
              <a:ext cx="1123560" cy="288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15" name="Rectangle 231"/>
            <p:cNvSpPr/>
            <p:nvPr/>
          </p:nvSpPr>
          <p:spPr>
            <a:xfrm>
              <a:off x="6654600" y="3726000"/>
              <a:ext cx="1123560" cy="2052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16" name="Rectangle 232"/>
            <p:cNvSpPr/>
            <p:nvPr/>
          </p:nvSpPr>
          <p:spPr>
            <a:xfrm>
              <a:off x="6654600" y="3746520"/>
              <a:ext cx="1123560" cy="507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17" name="Rectangle 233"/>
            <p:cNvSpPr/>
            <p:nvPr/>
          </p:nvSpPr>
          <p:spPr>
            <a:xfrm>
              <a:off x="6654600" y="3797280"/>
              <a:ext cx="1123560" cy="2232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18" name="Rectangle 234"/>
            <p:cNvSpPr/>
            <p:nvPr/>
          </p:nvSpPr>
          <p:spPr>
            <a:xfrm>
              <a:off x="6654600" y="3819600"/>
              <a:ext cx="1123560" cy="2844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19" name="Rectangle 235"/>
            <p:cNvSpPr/>
            <p:nvPr/>
          </p:nvSpPr>
          <p:spPr>
            <a:xfrm>
              <a:off x="6654600" y="3848040"/>
              <a:ext cx="1123560" cy="223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20" name="Rectangle 236"/>
            <p:cNvSpPr/>
            <p:nvPr/>
          </p:nvSpPr>
          <p:spPr>
            <a:xfrm>
              <a:off x="6654600" y="3870360"/>
              <a:ext cx="1123560" cy="2844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21" name="Rectangle 237"/>
            <p:cNvSpPr/>
            <p:nvPr/>
          </p:nvSpPr>
          <p:spPr>
            <a:xfrm>
              <a:off x="6654600" y="3898800"/>
              <a:ext cx="1123560" cy="2088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22" name="Rectangle 238"/>
            <p:cNvSpPr/>
            <p:nvPr/>
          </p:nvSpPr>
          <p:spPr>
            <a:xfrm>
              <a:off x="6654600" y="3919680"/>
              <a:ext cx="1123560" cy="302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23" name="Rectangle 239"/>
            <p:cNvSpPr/>
            <p:nvPr/>
          </p:nvSpPr>
          <p:spPr>
            <a:xfrm>
              <a:off x="6654600" y="3949920"/>
              <a:ext cx="1123560" cy="2052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24" name="Rectangle 240"/>
            <p:cNvSpPr/>
            <p:nvPr/>
          </p:nvSpPr>
          <p:spPr>
            <a:xfrm>
              <a:off x="6654600" y="3970440"/>
              <a:ext cx="1123560" cy="792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25" name="Rectangle 241"/>
            <p:cNvSpPr/>
            <p:nvPr/>
          </p:nvSpPr>
          <p:spPr>
            <a:xfrm>
              <a:off x="6665760" y="3591000"/>
              <a:ext cx="1104480" cy="380880"/>
            </a:xfrm>
            <a:prstGeom prst="rect">
              <a:avLst/>
            </a:prstGeom>
            <a:noFill/>
            <a:ln cap="rnd" w="144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26" name="Freeform 242"/>
            <p:cNvSpPr/>
            <p:nvPr/>
          </p:nvSpPr>
          <p:spPr>
            <a:xfrm>
              <a:off x="6748200" y="3591000"/>
              <a:ext cx="939240" cy="380880"/>
            </a:xfrm>
            <a:custGeom>
              <a:avLst/>
              <a:gdLst/>
              <a:ahLst/>
              <a:rect l="l" t="t" r="r" b="b"/>
              <a:pathLst>
                <a:path w="592" h="240">
                  <a:moveTo>
                    <a:pt x="0" y="240"/>
                  </a:moveTo>
                  <a:lnTo>
                    <a:pt x="0" y="0"/>
                  </a:lnTo>
                  <a:moveTo>
                    <a:pt x="592" y="240"/>
                  </a:moveTo>
                  <a:lnTo>
                    <a:pt x="592" y="0"/>
                  </a:lnTo>
                </a:path>
              </a:pathLst>
            </a:custGeom>
            <a:noFill/>
            <a:ln cap="rnd" w="144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27" name="Rectangle 243"/>
            <p:cNvSpPr/>
            <p:nvPr/>
          </p:nvSpPr>
          <p:spPr>
            <a:xfrm>
              <a:off x="6911280" y="3610080"/>
              <a:ext cx="68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Calibri"/>
                </a:rPr>
                <a:t>DeclRefExpr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28" name="Rectangle 244"/>
            <p:cNvSpPr/>
            <p:nvPr/>
          </p:nvSpPr>
          <p:spPr>
            <a:xfrm>
              <a:off x="7092720" y="37753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70c0"/>
                  </a:solidFill>
                  <a:latin typeface="Calibri"/>
                </a:rPr>
                <a:t>'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29" name="Rectangle 245"/>
            <p:cNvSpPr/>
            <p:nvPr/>
          </p:nvSpPr>
          <p:spPr>
            <a:xfrm>
              <a:off x="7120440" y="3775320"/>
              <a:ext cx="32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70c0"/>
                  </a:solidFill>
                  <a:latin typeface="Calibri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30" name="Rectangle 246"/>
            <p:cNvSpPr/>
            <p:nvPr/>
          </p:nvSpPr>
          <p:spPr>
            <a:xfrm>
              <a:off x="7151400" y="37753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70c0"/>
                  </a:solidFill>
                  <a:latin typeface="Calibri"/>
                </a:rPr>
                <a:t>' 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31" name="Rectangle 247"/>
            <p:cNvSpPr/>
            <p:nvPr/>
          </p:nvSpPr>
          <p:spPr>
            <a:xfrm>
              <a:off x="7208640" y="37753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b050"/>
                  </a:solidFill>
                  <a:latin typeface="Calibri"/>
                </a:rPr>
                <a:t>'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32" name="Rectangle 248"/>
            <p:cNvSpPr/>
            <p:nvPr/>
          </p:nvSpPr>
          <p:spPr>
            <a:xfrm>
              <a:off x="7237440" y="3775320"/>
              <a:ext cx="15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b050"/>
                  </a:solidFill>
                  <a:latin typeface="Calibri"/>
                </a:rPr>
                <a:t>int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33" name="Rectangle 249"/>
            <p:cNvSpPr/>
            <p:nvPr/>
          </p:nvSpPr>
          <p:spPr>
            <a:xfrm>
              <a:off x="7387920" y="37753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b050"/>
                  </a:solidFill>
                  <a:latin typeface="Calibri"/>
                </a:rPr>
                <a:t>'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34" name="Rectangle 250"/>
            <p:cNvSpPr/>
            <p:nvPr/>
          </p:nvSpPr>
          <p:spPr>
            <a:xfrm>
              <a:off x="5463720" y="2867040"/>
              <a:ext cx="1110960" cy="3826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pic>
          <p:nvPicPr>
            <p:cNvPr id="735" name="Picture 251" descr=""/>
            <p:cNvPicPr/>
            <p:nvPr/>
          </p:nvPicPr>
          <p:blipFill>
            <a:blip r:embed="rId7"/>
            <a:stretch/>
          </p:blipFill>
          <p:spPr>
            <a:xfrm>
              <a:off x="5466960" y="2868840"/>
              <a:ext cx="110448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Rectangle 252"/>
            <p:cNvSpPr/>
            <p:nvPr/>
          </p:nvSpPr>
          <p:spPr>
            <a:xfrm>
              <a:off x="5463720" y="2867040"/>
              <a:ext cx="1110960" cy="3826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37" name="Rectangle 253"/>
            <p:cNvSpPr/>
            <p:nvPr/>
          </p:nvSpPr>
          <p:spPr>
            <a:xfrm>
              <a:off x="5457600" y="2860920"/>
              <a:ext cx="1123560" cy="39672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38" name="Freeform 254"/>
            <p:cNvSpPr/>
            <p:nvPr/>
          </p:nvSpPr>
          <p:spPr>
            <a:xfrm>
              <a:off x="5463720" y="2865600"/>
              <a:ext cx="1110960" cy="388800"/>
            </a:xfrm>
            <a:custGeom>
              <a:avLst/>
              <a:gdLst/>
              <a:ahLst/>
              <a:rect l="l" t="t" r="r" b="b"/>
              <a:pathLst>
                <a:path w="2465" h="862">
                  <a:moveTo>
                    <a:pt x="8" y="846"/>
                  </a:moveTo>
                  <a:lnTo>
                    <a:pt x="2457" y="846"/>
                  </a:lnTo>
                  <a:lnTo>
                    <a:pt x="2449" y="854"/>
                  </a:lnTo>
                  <a:lnTo>
                    <a:pt x="2449" y="8"/>
                  </a:lnTo>
                  <a:lnTo>
                    <a:pt x="2457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854"/>
                  </a:lnTo>
                  <a:cubicBezTo>
                    <a:pt x="16" y="859"/>
                    <a:pt x="12" y="862"/>
                    <a:pt x="8" y="862"/>
                  </a:cubicBezTo>
                  <a:cubicBezTo>
                    <a:pt x="3" y="862"/>
                    <a:pt x="0" y="859"/>
                    <a:pt x="0" y="854"/>
                  </a:cubicBezTo>
                  <a:lnTo>
                    <a:pt x="0" y="8"/>
                  </a:lnTo>
                  <a:cubicBezTo>
                    <a:pt x="0" y="3"/>
                    <a:pt x="3" y="0"/>
                    <a:pt x="8" y="0"/>
                  </a:cubicBezTo>
                  <a:lnTo>
                    <a:pt x="2457" y="0"/>
                  </a:lnTo>
                  <a:cubicBezTo>
                    <a:pt x="2461" y="0"/>
                    <a:pt x="2465" y="3"/>
                    <a:pt x="2465" y="8"/>
                  </a:cubicBezTo>
                  <a:lnTo>
                    <a:pt x="2465" y="854"/>
                  </a:lnTo>
                  <a:cubicBezTo>
                    <a:pt x="2465" y="859"/>
                    <a:pt x="2461" y="862"/>
                    <a:pt x="2457" y="862"/>
                  </a:cubicBezTo>
                  <a:lnTo>
                    <a:pt x="8" y="862"/>
                  </a:lnTo>
                  <a:cubicBezTo>
                    <a:pt x="3" y="862"/>
                    <a:pt x="0" y="859"/>
                    <a:pt x="0" y="854"/>
                  </a:cubicBezTo>
                  <a:cubicBezTo>
                    <a:pt x="0" y="850"/>
                    <a:pt x="3" y="846"/>
                    <a:pt x="8" y="8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39" name="Rectangle 255"/>
            <p:cNvSpPr/>
            <p:nvPr/>
          </p:nvSpPr>
          <p:spPr>
            <a:xfrm>
              <a:off x="5457600" y="2860920"/>
              <a:ext cx="1123560" cy="39672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40" name="Rectangle 256"/>
            <p:cNvSpPr/>
            <p:nvPr/>
          </p:nvSpPr>
          <p:spPr>
            <a:xfrm>
              <a:off x="5543280" y="2860920"/>
              <a:ext cx="958320" cy="39672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41" name="Freeform 257"/>
            <p:cNvSpPr/>
            <p:nvPr/>
          </p:nvSpPr>
          <p:spPr>
            <a:xfrm>
              <a:off x="5544720" y="2865600"/>
              <a:ext cx="947520" cy="388800"/>
            </a:xfrm>
            <a:custGeom>
              <a:avLst/>
              <a:gdLst/>
              <a:ahLst/>
              <a:rect l="l" t="t" r="r" b="b"/>
              <a:pathLst>
                <a:path w="2102" h="862">
                  <a:moveTo>
                    <a:pt x="0" y="854"/>
                  </a:moveTo>
                  <a:lnTo>
                    <a:pt x="0" y="8"/>
                  </a:lnTo>
                  <a:cubicBezTo>
                    <a:pt x="0" y="3"/>
                    <a:pt x="4" y="0"/>
                    <a:pt x="8" y="0"/>
                  </a:cubicBezTo>
                  <a:cubicBezTo>
                    <a:pt x="12" y="0"/>
                    <a:pt x="16" y="3"/>
                    <a:pt x="16" y="8"/>
                  </a:cubicBezTo>
                  <a:lnTo>
                    <a:pt x="16" y="854"/>
                  </a:lnTo>
                  <a:cubicBezTo>
                    <a:pt x="16" y="859"/>
                    <a:pt x="12" y="862"/>
                    <a:pt x="8" y="862"/>
                  </a:cubicBezTo>
                  <a:cubicBezTo>
                    <a:pt x="4" y="862"/>
                    <a:pt x="0" y="859"/>
                    <a:pt x="0" y="854"/>
                  </a:cubicBezTo>
                  <a:close/>
                  <a:moveTo>
                    <a:pt x="2086" y="854"/>
                  </a:moveTo>
                  <a:lnTo>
                    <a:pt x="2086" y="8"/>
                  </a:lnTo>
                  <a:cubicBezTo>
                    <a:pt x="2086" y="3"/>
                    <a:pt x="2090" y="0"/>
                    <a:pt x="2094" y="0"/>
                  </a:cubicBezTo>
                  <a:cubicBezTo>
                    <a:pt x="2099" y="0"/>
                    <a:pt x="2102" y="3"/>
                    <a:pt x="2102" y="8"/>
                  </a:cubicBezTo>
                  <a:lnTo>
                    <a:pt x="2102" y="854"/>
                  </a:lnTo>
                  <a:cubicBezTo>
                    <a:pt x="2102" y="859"/>
                    <a:pt x="2099" y="862"/>
                    <a:pt x="2094" y="862"/>
                  </a:cubicBezTo>
                  <a:cubicBezTo>
                    <a:pt x="2090" y="862"/>
                    <a:pt x="2086" y="859"/>
                    <a:pt x="2086" y="8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42" name="Rectangle 258"/>
            <p:cNvSpPr/>
            <p:nvPr/>
          </p:nvSpPr>
          <p:spPr>
            <a:xfrm>
              <a:off x="5543280" y="2860920"/>
              <a:ext cx="958320" cy="39672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43" name="Rectangle 259"/>
            <p:cNvSpPr/>
            <p:nvPr/>
          </p:nvSpPr>
          <p:spPr>
            <a:xfrm>
              <a:off x="5443200" y="2846520"/>
              <a:ext cx="1123560" cy="612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44" name="Rectangle 260"/>
            <p:cNvSpPr/>
            <p:nvPr/>
          </p:nvSpPr>
          <p:spPr>
            <a:xfrm>
              <a:off x="5443200" y="2852640"/>
              <a:ext cx="112356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45" name="Rectangle 261"/>
            <p:cNvSpPr/>
            <p:nvPr/>
          </p:nvSpPr>
          <p:spPr>
            <a:xfrm>
              <a:off x="5443200" y="2860920"/>
              <a:ext cx="1123560" cy="284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46" name="Rectangle 262"/>
            <p:cNvSpPr/>
            <p:nvPr/>
          </p:nvSpPr>
          <p:spPr>
            <a:xfrm>
              <a:off x="5443200" y="2889360"/>
              <a:ext cx="1123560" cy="2232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47" name="Rectangle 263"/>
            <p:cNvSpPr/>
            <p:nvPr/>
          </p:nvSpPr>
          <p:spPr>
            <a:xfrm>
              <a:off x="5443200" y="2911680"/>
              <a:ext cx="1123560" cy="284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48" name="Rectangle 264"/>
            <p:cNvSpPr/>
            <p:nvPr/>
          </p:nvSpPr>
          <p:spPr>
            <a:xfrm>
              <a:off x="5443200" y="2940120"/>
              <a:ext cx="1123560" cy="2052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49" name="Rectangle 265"/>
            <p:cNvSpPr/>
            <p:nvPr/>
          </p:nvSpPr>
          <p:spPr>
            <a:xfrm>
              <a:off x="5443200" y="2960640"/>
              <a:ext cx="1123560" cy="3024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50" name="Rectangle 266"/>
            <p:cNvSpPr/>
            <p:nvPr/>
          </p:nvSpPr>
          <p:spPr>
            <a:xfrm>
              <a:off x="5443200" y="2990880"/>
              <a:ext cx="1123560" cy="2052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51" name="Rectangle 267"/>
            <p:cNvSpPr/>
            <p:nvPr/>
          </p:nvSpPr>
          <p:spPr>
            <a:xfrm>
              <a:off x="5443200" y="3011400"/>
              <a:ext cx="1123560" cy="511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52" name="Rectangle 268"/>
            <p:cNvSpPr/>
            <p:nvPr/>
          </p:nvSpPr>
          <p:spPr>
            <a:xfrm>
              <a:off x="5443200" y="3062520"/>
              <a:ext cx="1123560" cy="2196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53" name="Rectangle 269"/>
            <p:cNvSpPr/>
            <p:nvPr/>
          </p:nvSpPr>
          <p:spPr>
            <a:xfrm>
              <a:off x="5443200" y="3084480"/>
              <a:ext cx="1123560" cy="2880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54" name="Rectangle 270"/>
            <p:cNvSpPr/>
            <p:nvPr/>
          </p:nvSpPr>
          <p:spPr>
            <a:xfrm>
              <a:off x="5443200" y="3113280"/>
              <a:ext cx="1123560" cy="205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55" name="Rectangle 271"/>
            <p:cNvSpPr/>
            <p:nvPr/>
          </p:nvSpPr>
          <p:spPr>
            <a:xfrm>
              <a:off x="5443200" y="3133800"/>
              <a:ext cx="1123560" cy="3024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56" name="Rectangle 272"/>
            <p:cNvSpPr/>
            <p:nvPr/>
          </p:nvSpPr>
          <p:spPr>
            <a:xfrm>
              <a:off x="5443200" y="3164040"/>
              <a:ext cx="1123560" cy="205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57" name="Rectangle 273"/>
            <p:cNvSpPr/>
            <p:nvPr/>
          </p:nvSpPr>
          <p:spPr>
            <a:xfrm>
              <a:off x="5443200" y="3184560"/>
              <a:ext cx="1123560" cy="22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58" name="Rectangle 274"/>
            <p:cNvSpPr/>
            <p:nvPr/>
          </p:nvSpPr>
          <p:spPr>
            <a:xfrm>
              <a:off x="5443200" y="3206880"/>
              <a:ext cx="1123560" cy="2844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59" name="Rectangle 275"/>
            <p:cNvSpPr/>
            <p:nvPr/>
          </p:nvSpPr>
          <p:spPr>
            <a:xfrm>
              <a:off x="5443200" y="3235320"/>
              <a:ext cx="1123560" cy="648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60" name="Rectangle 276"/>
            <p:cNvSpPr/>
            <p:nvPr/>
          </p:nvSpPr>
          <p:spPr>
            <a:xfrm>
              <a:off x="5454360" y="2854440"/>
              <a:ext cx="1103040" cy="382680"/>
            </a:xfrm>
            <a:prstGeom prst="rect">
              <a:avLst/>
            </a:prstGeom>
            <a:noFill/>
            <a:ln cap="rnd" w="144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61" name="Freeform 277"/>
            <p:cNvSpPr/>
            <p:nvPr/>
          </p:nvSpPr>
          <p:spPr>
            <a:xfrm>
              <a:off x="5535360" y="2854440"/>
              <a:ext cx="939240" cy="382680"/>
            </a:xfrm>
            <a:custGeom>
              <a:avLst/>
              <a:gdLst/>
              <a:ahLst/>
              <a:rect l="l" t="t" r="r" b="b"/>
              <a:pathLst>
                <a:path w="592" h="241">
                  <a:moveTo>
                    <a:pt x="0" y="241"/>
                  </a:moveTo>
                  <a:lnTo>
                    <a:pt x="0" y="0"/>
                  </a:lnTo>
                  <a:moveTo>
                    <a:pt x="592" y="241"/>
                  </a:moveTo>
                  <a:lnTo>
                    <a:pt x="592" y="0"/>
                  </a:lnTo>
                </a:path>
              </a:pathLst>
            </a:custGeom>
            <a:noFill/>
            <a:ln cap="rnd" w="144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62" name="Rectangle 278"/>
            <p:cNvSpPr/>
            <p:nvPr/>
          </p:nvSpPr>
          <p:spPr>
            <a:xfrm>
              <a:off x="5664240" y="2874960"/>
              <a:ext cx="767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Calibri"/>
                </a:rPr>
                <a:t>IntegerLiteral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63" name="Rectangle 279"/>
            <p:cNvSpPr/>
            <p:nvPr/>
          </p:nvSpPr>
          <p:spPr>
            <a:xfrm>
              <a:off x="5868000" y="30337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64" name="Rectangle 280"/>
            <p:cNvSpPr/>
            <p:nvPr/>
          </p:nvSpPr>
          <p:spPr>
            <a:xfrm>
              <a:off x="5937840" y="3033720"/>
              <a:ext cx="10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70c0"/>
                  </a:solidFill>
                  <a:latin typeface="Calibri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65" name="Rectangle 281"/>
            <p:cNvSpPr/>
            <p:nvPr/>
          </p:nvSpPr>
          <p:spPr>
            <a:xfrm>
              <a:off x="6032160" y="30337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b050"/>
                  </a:solidFill>
                  <a:latin typeface="Calibri"/>
                </a:rPr>
                <a:t>'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66" name="Rectangle 282"/>
            <p:cNvSpPr/>
            <p:nvPr/>
          </p:nvSpPr>
          <p:spPr>
            <a:xfrm>
              <a:off x="6068880" y="3033720"/>
              <a:ext cx="15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b050"/>
                  </a:solidFill>
                  <a:latin typeface="Calibri"/>
                </a:rPr>
                <a:t>int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67" name="Rectangle 283"/>
            <p:cNvSpPr/>
            <p:nvPr/>
          </p:nvSpPr>
          <p:spPr>
            <a:xfrm>
              <a:off x="6213240" y="30337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b050"/>
                  </a:solidFill>
                  <a:latin typeface="Calibri"/>
                </a:rPr>
                <a:t>'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68" name="Freeform 284"/>
            <p:cNvSpPr/>
            <p:nvPr/>
          </p:nvSpPr>
          <p:spPr>
            <a:xfrm>
              <a:off x="4792320" y="2990880"/>
              <a:ext cx="609120" cy="546120"/>
            </a:xfrm>
            <a:custGeom>
              <a:avLst/>
              <a:gdLst/>
              <a:ahLst/>
              <a:rect l="l" t="t" r="r" b="b"/>
              <a:pathLst>
                <a:path w="384" h="344">
                  <a:moveTo>
                    <a:pt x="0" y="0"/>
                  </a:moveTo>
                  <a:lnTo>
                    <a:pt x="0" y="344"/>
                  </a:lnTo>
                  <a:lnTo>
                    <a:pt x="384" y="344"/>
                  </a:lnTo>
                </a:path>
              </a:pathLst>
            </a:custGeom>
            <a:noFill/>
            <a:ln cap="rnd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69" name="Freeform 285"/>
            <p:cNvSpPr/>
            <p:nvPr/>
          </p:nvSpPr>
          <p:spPr>
            <a:xfrm>
              <a:off x="5385960" y="3502080"/>
              <a:ext cx="68040" cy="68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0" y="150"/>
                  </a:lnTo>
                  <a:cubicBezTo>
                    <a:pt x="23" y="102"/>
                    <a:pt x="23" y="47"/>
                    <a:pt x="0" y="0"/>
                  </a:cubicBezTo>
                  <a:lnTo>
                    <a:pt x="150" y="75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70" name="Freeform 286"/>
            <p:cNvSpPr/>
            <p:nvPr/>
          </p:nvSpPr>
          <p:spPr>
            <a:xfrm>
              <a:off x="6005160" y="3727440"/>
              <a:ext cx="609120" cy="54000"/>
            </a:xfrm>
            <a:custGeom>
              <a:avLst/>
              <a:gdLst/>
              <a:ahLst/>
              <a:rect l="l" t="t" r="r" b="b"/>
              <a:pathLst>
                <a:path w="384" h="34">
                  <a:moveTo>
                    <a:pt x="0" y="0"/>
                  </a:moveTo>
                  <a:lnTo>
                    <a:pt x="0" y="34"/>
                  </a:lnTo>
                  <a:lnTo>
                    <a:pt x="384" y="34"/>
                  </a:lnTo>
                </a:path>
              </a:pathLst>
            </a:custGeom>
            <a:noFill/>
            <a:ln cap="rnd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71" name="Freeform 287"/>
            <p:cNvSpPr/>
            <p:nvPr/>
          </p:nvSpPr>
          <p:spPr>
            <a:xfrm>
              <a:off x="6598800" y="3748320"/>
              <a:ext cx="66600" cy="666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0" y="150"/>
                  </a:lnTo>
                  <a:cubicBezTo>
                    <a:pt x="23" y="103"/>
                    <a:pt x="23" y="47"/>
                    <a:pt x="0" y="0"/>
                  </a:cubicBezTo>
                  <a:lnTo>
                    <a:pt x="150" y="75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72" name="Freeform 288"/>
            <p:cNvSpPr/>
            <p:nvPr/>
          </p:nvSpPr>
          <p:spPr>
            <a:xfrm>
              <a:off x="4792320" y="2990880"/>
              <a:ext cx="609120" cy="54000"/>
            </a:xfrm>
            <a:custGeom>
              <a:avLst/>
              <a:gdLst/>
              <a:ahLst/>
              <a:rect l="l" t="t" r="r" b="b"/>
              <a:pathLst>
                <a:path w="384" h="34">
                  <a:moveTo>
                    <a:pt x="0" y="0"/>
                  </a:moveTo>
                  <a:lnTo>
                    <a:pt x="0" y="34"/>
                  </a:lnTo>
                  <a:lnTo>
                    <a:pt x="384" y="34"/>
                  </a:lnTo>
                </a:path>
              </a:pathLst>
            </a:custGeom>
            <a:noFill/>
            <a:ln cap="rnd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73" name="Freeform 289"/>
            <p:cNvSpPr/>
            <p:nvPr/>
          </p:nvSpPr>
          <p:spPr>
            <a:xfrm>
              <a:off x="5385960" y="3011400"/>
              <a:ext cx="68040" cy="68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0" y="150"/>
                  </a:lnTo>
                  <a:cubicBezTo>
                    <a:pt x="23" y="103"/>
                    <a:pt x="23" y="47"/>
                    <a:pt x="0" y="0"/>
                  </a:cubicBezTo>
                  <a:lnTo>
                    <a:pt x="150" y="75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74" name="Rectangle 290"/>
            <p:cNvSpPr/>
            <p:nvPr/>
          </p:nvSpPr>
          <p:spPr>
            <a:xfrm>
              <a:off x="4252680" y="3956040"/>
              <a:ext cx="1110960" cy="3826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pic>
          <p:nvPicPr>
            <p:cNvPr id="775" name="Picture 291" descr=""/>
            <p:cNvPicPr/>
            <p:nvPr/>
          </p:nvPicPr>
          <p:blipFill>
            <a:blip r:embed="rId8"/>
            <a:stretch/>
          </p:blipFill>
          <p:spPr>
            <a:xfrm>
              <a:off x="4254120" y="3957840"/>
              <a:ext cx="110448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Rectangle 292"/>
            <p:cNvSpPr/>
            <p:nvPr/>
          </p:nvSpPr>
          <p:spPr>
            <a:xfrm>
              <a:off x="4252680" y="3956040"/>
              <a:ext cx="1110960" cy="3826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77" name="Rectangle 293"/>
            <p:cNvSpPr/>
            <p:nvPr/>
          </p:nvSpPr>
          <p:spPr>
            <a:xfrm>
              <a:off x="4246200" y="3949920"/>
              <a:ext cx="1123560" cy="3952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78" name="Freeform 294"/>
            <p:cNvSpPr/>
            <p:nvPr/>
          </p:nvSpPr>
          <p:spPr>
            <a:xfrm>
              <a:off x="4250880" y="3954600"/>
              <a:ext cx="1110960" cy="388800"/>
            </a:xfrm>
            <a:custGeom>
              <a:avLst/>
              <a:gdLst/>
              <a:ahLst/>
              <a:rect l="l" t="t" r="r" b="b"/>
              <a:pathLst>
                <a:path w="2465" h="863">
                  <a:moveTo>
                    <a:pt x="8" y="847"/>
                  </a:moveTo>
                  <a:lnTo>
                    <a:pt x="2457" y="847"/>
                  </a:lnTo>
                  <a:lnTo>
                    <a:pt x="2449" y="855"/>
                  </a:lnTo>
                  <a:lnTo>
                    <a:pt x="2449" y="8"/>
                  </a:lnTo>
                  <a:lnTo>
                    <a:pt x="2457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855"/>
                  </a:lnTo>
                  <a:cubicBezTo>
                    <a:pt x="16" y="859"/>
                    <a:pt x="12" y="863"/>
                    <a:pt x="8" y="863"/>
                  </a:cubicBezTo>
                  <a:cubicBezTo>
                    <a:pt x="3" y="863"/>
                    <a:pt x="0" y="859"/>
                    <a:pt x="0" y="855"/>
                  </a:cubicBezTo>
                  <a:lnTo>
                    <a:pt x="0" y="8"/>
                  </a:lnTo>
                  <a:cubicBezTo>
                    <a:pt x="0" y="4"/>
                    <a:pt x="3" y="0"/>
                    <a:pt x="8" y="0"/>
                  </a:cubicBezTo>
                  <a:lnTo>
                    <a:pt x="2457" y="0"/>
                  </a:lnTo>
                  <a:cubicBezTo>
                    <a:pt x="2461" y="0"/>
                    <a:pt x="2465" y="4"/>
                    <a:pt x="2465" y="8"/>
                  </a:cubicBezTo>
                  <a:lnTo>
                    <a:pt x="2465" y="855"/>
                  </a:lnTo>
                  <a:cubicBezTo>
                    <a:pt x="2465" y="859"/>
                    <a:pt x="2461" y="863"/>
                    <a:pt x="2457" y="863"/>
                  </a:cubicBezTo>
                  <a:lnTo>
                    <a:pt x="8" y="863"/>
                  </a:lnTo>
                  <a:cubicBezTo>
                    <a:pt x="3" y="863"/>
                    <a:pt x="0" y="859"/>
                    <a:pt x="0" y="855"/>
                  </a:cubicBezTo>
                  <a:cubicBezTo>
                    <a:pt x="0" y="851"/>
                    <a:pt x="3" y="847"/>
                    <a:pt x="8" y="8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79" name="Rectangle 295"/>
            <p:cNvSpPr/>
            <p:nvPr/>
          </p:nvSpPr>
          <p:spPr>
            <a:xfrm>
              <a:off x="4246200" y="3949920"/>
              <a:ext cx="1123560" cy="3952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80" name="Rectangle 296"/>
            <p:cNvSpPr/>
            <p:nvPr/>
          </p:nvSpPr>
          <p:spPr>
            <a:xfrm>
              <a:off x="4331880" y="3949920"/>
              <a:ext cx="958680" cy="3952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81" name="Freeform 297"/>
            <p:cNvSpPr/>
            <p:nvPr/>
          </p:nvSpPr>
          <p:spPr>
            <a:xfrm>
              <a:off x="4333680" y="3954600"/>
              <a:ext cx="945720" cy="388800"/>
            </a:xfrm>
            <a:custGeom>
              <a:avLst/>
              <a:gdLst/>
              <a:ahLst/>
              <a:rect l="l" t="t" r="r" b="b"/>
              <a:pathLst>
                <a:path w="2102" h="863">
                  <a:moveTo>
                    <a:pt x="0" y="855"/>
                  </a:moveTo>
                  <a:lnTo>
                    <a:pt x="0" y="8"/>
                  </a:ln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lnTo>
                    <a:pt x="16" y="855"/>
                  </a:lnTo>
                  <a:cubicBezTo>
                    <a:pt x="16" y="859"/>
                    <a:pt x="12" y="863"/>
                    <a:pt x="8" y="863"/>
                  </a:cubicBezTo>
                  <a:cubicBezTo>
                    <a:pt x="4" y="863"/>
                    <a:pt x="0" y="859"/>
                    <a:pt x="0" y="855"/>
                  </a:cubicBezTo>
                  <a:close/>
                  <a:moveTo>
                    <a:pt x="2086" y="855"/>
                  </a:moveTo>
                  <a:lnTo>
                    <a:pt x="2086" y="8"/>
                  </a:lnTo>
                  <a:cubicBezTo>
                    <a:pt x="2086" y="4"/>
                    <a:pt x="2090" y="0"/>
                    <a:pt x="2094" y="0"/>
                  </a:cubicBezTo>
                  <a:cubicBezTo>
                    <a:pt x="2099" y="0"/>
                    <a:pt x="2102" y="4"/>
                    <a:pt x="2102" y="8"/>
                  </a:cubicBezTo>
                  <a:lnTo>
                    <a:pt x="2102" y="855"/>
                  </a:lnTo>
                  <a:cubicBezTo>
                    <a:pt x="2102" y="859"/>
                    <a:pt x="2099" y="863"/>
                    <a:pt x="2094" y="863"/>
                  </a:cubicBezTo>
                  <a:cubicBezTo>
                    <a:pt x="2090" y="863"/>
                    <a:pt x="2086" y="859"/>
                    <a:pt x="2086" y="8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82" name="Rectangle 298"/>
            <p:cNvSpPr/>
            <p:nvPr/>
          </p:nvSpPr>
          <p:spPr>
            <a:xfrm>
              <a:off x="4331880" y="3949920"/>
              <a:ext cx="958680" cy="3952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83" name="Rectangle 299"/>
            <p:cNvSpPr/>
            <p:nvPr/>
          </p:nvSpPr>
          <p:spPr>
            <a:xfrm>
              <a:off x="4232160" y="3933720"/>
              <a:ext cx="1123920" cy="828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84" name="Rectangle 300"/>
            <p:cNvSpPr/>
            <p:nvPr/>
          </p:nvSpPr>
          <p:spPr>
            <a:xfrm>
              <a:off x="4232160" y="3942000"/>
              <a:ext cx="112392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85" name="Rectangle 301"/>
            <p:cNvSpPr/>
            <p:nvPr/>
          </p:nvSpPr>
          <p:spPr>
            <a:xfrm>
              <a:off x="4232160" y="3956040"/>
              <a:ext cx="1123920" cy="223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86" name="Rectangle 302"/>
            <p:cNvSpPr/>
            <p:nvPr/>
          </p:nvSpPr>
          <p:spPr>
            <a:xfrm>
              <a:off x="4232160" y="3978360"/>
              <a:ext cx="1123920" cy="2052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87" name="Rectangle 303"/>
            <p:cNvSpPr/>
            <p:nvPr/>
          </p:nvSpPr>
          <p:spPr>
            <a:xfrm>
              <a:off x="4232160" y="3998880"/>
              <a:ext cx="1123920" cy="2880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88" name="Rectangle 304"/>
            <p:cNvSpPr/>
            <p:nvPr/>
          </p:nvSpPr>
          <p:spPr>
            <a:xfrm>
              <a:off x="4232160" y="4027680"/>
              <a:ext cx="1123920" cy="219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89" name="Rectangle 305"/>
            <p:cNvSpPr/>
            <p:nvPr/>
          </p:nvSpPr>
          <p:spPr>
            <a:xfrm>
              <a:off x="4232160" y="4049640"/>
              <a:ext cx="1123920" cy="288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90" name="Rectangle 306"/>
            <p:cNvSpPr/>
            <p:nvPr/>
          </p:nvSpPr>
          <p:spPr>
            <a:xfrm>
              <a:off x="4232160" y="4078440"/>
              <a:ext cx="1123920" cy="2232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91" name="Rectangle 307"/>
            <p:cNvSpPr/>
            <p:nvPr/>
          </p:nvSpPr>
          <p:spPr>
            <a:xfrm>
              <a:off x="4232160" y="4100760"/>
              <a:ext cx="1123920" cy="507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92" name="Rectangle 308"/>
            <p:cNvSpPr/>
            <p:nvPr/>
          </p:nvSpPr>
          <p:spPr>
            <a:xfrm>
              <a:off x="4232160" y="4151520"/>
              <a:ext cx="1123920" cy="2052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93" name="Rectangle 309"/>
            <p:cNvSpPr/>
            <p:nvPr/>
          </p:nvSpPr>
          <p:spPr>
            <a:xfrm>
              <a:off x="4232160" y="4172040"/>
              <a:ext cx="1123920" cy="2844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94" name="Rectangle 310"/>
            <p:cNvSpPr/>
            <p:nvPr/>
          </p:nvSpPr>
          <p:spPr>
            <a:xfrm>
              <a:off x="4232160" y="4200480"/>
              <a:ext cx="1123920" cy="223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95" name="Rectangle 311"/>
            <p:cNvSpPr/>
            <p:nvPr/>
          </p:nvSpPr>
          <p:spPr>
            <a:xfrm>
              <a:off x="4232160" y="4222800"/>
              <a:ext cx="1123920" cy="2844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96" name="Rectangle 312"/>
            <p:cNvSpPr/>
            <p:nvPr/>
          </p:nvSpPr>
          <p:spPr>
            <a:xfrm>
              <a:off x="4232160" y="4251240"/>
              <a:ext cx="1123920" cy="223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97" name="Rectangle 313"/>
            <p:cNvSpPr/>
            <p:nvPr/>
          </p:nvSpPr>
          <p:spPr>
            <a:xfrm>
              <a:off x="4232160" y="4273560"/>
              <a:ext cx="1123920" cy="28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98" name="Rectangle 314"/>
            <p:cNvSpPr/>
            <p:nvPr/>
          </p:nvSpPr>
          <p:spPr>
            <a:xfrm>
              <a:off x="4232160" y="4302360"/>
              <a:ext cx="1123920" cy="2196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799" name="Rectangle 315"/>
            <p:cNvSpPr/>
            <p:nvPr/>
          </p:nvSpPr>
          <p:spPr>
            <a:xfrm>
              <a:off x="4232160" y="4324320"/>
              <a:ext cx="1123920" cy="648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00" name="Rectangle 316"/>
            <p:cNvSpPr/>
            <p:nvPr/>
          </p:nvSpPr>
          <p:spPr>
            <a:xfrm>
              <a:off x="4241520" y="3944880"/>
              <a:ext cx="1103040" cy="381240"/>
            </a:xfrm>
            <a:prstGeom prst="rect">
              <a:avLst/>
            </a:prstGeom>
            <a:noFill/>
            <a:ln cap="rnd" w="144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01" name="Freeform 317"/>
            <p:cNvSpPr/>
            <p:nvPr/>
          </p:nvSpPr>
          <p:spPr>
            <a:xfrm>
              <a:off x="4322520" y="3944880"/>
              <a:ext cx="939240" cy="381240"/>
            </a:xfrm>
            <a:custGeom>
              <a:avLst/>
              <a:gdLst/>
              <a:ahLst/>
              <a:rect l="l" t="t" r="r" b="b"/>
              <a:pathLst>
                <a:path w="592" h="240">
                  <a:moveTo>
                    <a:pt x="0" y="240"/>
                  </a:moveTo>
                  <a:lnTo>
                    <a:pt x="0" y="0"/>
                  </a:lnTo>
                  <a:moveTo>
                    <a:pt x="592" y="240"/>
                  </a:moveTo>
                  <a:lnTo>
                    <a:pt x="592" y="0"/>
                  </a:lnTo>
                </a:path>
              </a:pathLst>
            </a:custGeom>
            <a:noFill/>
            <a:ln cap="rnd" w="144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02" name="Rectangle 318"/>
            <p:cNvSpPr/>
            <p:nvPr/>
          </p:nvSpPr>
          <p:spPr>
            <a:xfrm>
              <a:off x="4399200" y="3962520"/>
              <a:ext cx="86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Calibri"/>
                </a:rPr>
                <a:t>UnaryOperator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03" name="Rectangle 319"/>
            <p:cNvSpPr/>
            <p:nvPr/>
          </p:nvSpPr>
          <p:spPr>
            <a:xfrm>
              <a:off x="4613040" y="41292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70c0"/>
                  </a:solidFill>
                  <a:latin typeface="Calibri"/>
                </a:rPr>
                <a:t>'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04" name="Rectangle 320"/>
            <p:cNvSpPr/>
            <p:nvPr/>
          </p:nvSpPr>
          <p:spPr>
            <a:xfrm>
              <a:off x="4640760" y="41292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70c0"/>
                  </a:solidFill>
                  <a:latin typeface="Calibri"/>
                </a:rPr>
                <a:t>++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05" name="Rectangle 321"/>
            <p:cNvSpPr/>
            <p:nvPr/>
          </p:nvSpPr>
          <p:spPr>
            <a:xfrm>
              <a:off x="4777920" y="41292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70c0"/>
                  </a:solidFill>
                  <a:latin typeface="Calibri"/>
                </a:rPr>
                <a:t>'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06" name="Rectangle 322"/>
            <p:cNvSpPr/>
            <p:nvPr/>
          </p:nvSpPr>
          <p:spPr>
            <a:xfrm>
              <a:off x="4835160" y="41292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b050"/>
                  </a:solidFill>
                  <a:latin typeface="Calibri"/>
                </a:rPr>
                <a:t>'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07" name="Rectangle 323"/>
            <p:cNvSpPr/>
            <p:nvPr/>
          </p:nvSpPr>
          <p:spPr>
            <a:xfrm>
              <a:off x="4865760" y="4129200"/>
              <a:ext cx="15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b050"/>
                  </a:solidFill>
                  <a:latin typeface="Calibri"/>
                </a:rPr>
                <a:t>int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08" name="Rectangle 324"/>
            <p:cNvSpPr/>
            <p:nvPr/>
          </p:nvSpPr>
          <p:spPr>
            <a:xfrm>
              <a:off x="5016240" y="41292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b050"/>
                  </a:solidFill>
                  <a:latin typeface="Calibri"/>
                </a:rPr>
                <a:t>'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09" name="Rectangle 325"/>
            <p:cNvSpPr/>
            <p:nvPr/>
          </p:nvSpPr>
          <p:spPr>
            <a:xfrm>
              <a:off x="5463720" y="4200480"/>
              <a:ext cx="1110960" cy="3826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pic>
          <p:nvPicPr>
            <p:cNvPr id="810" name="Picture 326" descr=""/>
            <p:cNvPicPr/>
            <p:nvPr/>
          </p:nvPicPr>
          <p:blipFill>
            <a:blip r:embed="rId9"/>
            <a:stretch/>
          </p:blipFill>
          <p:spPr>
            <a:xfrm>
              <a:off x="5466960" y="4203720"/>
              <a:ext cx="110448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Rectangle 327"/>
            <p:cNvSpPr/>
            <p:nvPr/>
          </p:nvSpPr>
          <p:spPr>
            <a:xfrm>
              <a:off x="5463720" y="4200480"/>
              <a:ext cx="1110960" cy="3826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12" name="Rectangle 328"/>
            <p:cNvSpPr/>
            <p:nvPr/>
          </p:nvSpPr>
          <p:spPr>
            <a:xfrm>
              <a:off x="5457600" y="4194360"/>
              <a:ext cx="1123560" cy="39672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13" name="Freeform 329"/>
            <p:cNvSpPr/>
            <p:nvPr/>
          </p:nvSpPr>
          <p:spPr>
            <a:xfrm>
              <a:off x="5463720" y="4200480"/>
              <a:ext cx="1110960" cy="389160"/>
            </a:xfrm>
            <a:custGeom>
              <a:avLst/>
              <a:gdLst/>
              <a:ahLst/>
              <a:rect l="l" t="t" r="r" b="b"/>
              <a:pathLst>
                <a:path w="2465" h="862">
                  <a:moveTo>
                    <a:pt x="8" y="846"/>
                  </a:moveTo>
                  <a:lnTo>
                    <a:pt x="2457" y="846"/>
                  </a:lnTo>
                  <a:lnTo>
                    <a:pt x="2449" y="854"/>
                  </a:lnTo>
                  <a:lnTo>
                    <a:pt x="2449" y="8"/>
                  </a:lnTo>
                  <a:lnTo>
                    <a:pt x="2457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854"/>
                  </a:lnTo>
                  <a:cubicBezTo>
                    <a:pt x="16" y="859"/>
                    <a:pt x="12" y="862"/>
                    <a:pt x="8" y="862"/>
                  </a:cubicBezTo>
                  <a:cubicBezTo>
                    <a:pt x="3" y="862"/>
                    <a:pt x="0" y="859"/>
                    <a:pt x="0" y="854"/>
                  </a:cubicBezTo>
                  <a:lnTo>
                    <a:pt x="0" y="8"/>
                  </a:lnTo>
                  <a:cubicBezTo>
                    <a:pt x="0" y="3"/>
                    <a:pt x="3" y="0"/>
                    <a:pt x="8" y="0"/>
                  </a:cubicBezTo>
                  <a:lnTo>
                    <a:pt x="2457" y="0"/>
                  </a:lnTo>
                  <a:cubicBezTo>
                    <a:pt x="2461" y="0"/>
                    <a:pt x="2465" y="3"/>
                    <a:pt x="2465" y="8"/>
                  </a:cubicBezTo>
                  <a:lnTo>
                    <a:pt x="2465" y="854"/>
                  </a:lnTo>
                  <a:cubicBezTo>
                    <a:pt x="2465" y="859"/>
                    <a:pt x="2461" y="862"/>
                    <a:pt x="2457" y="862"/>
                  </a:cubicBezTo>
                  <a:lnTo>
                    <a:pt x="8" y="862"/>
                  </a:lnTo>
                  <a:cubicBezTo>
                    <a:pt x="3" y="862"/>
                    <a:pt x="0" y="859"/>
                    <a:pt x="0" y="854"/>
                  </a:cubicBezTo>
                  <a:cubicBezTo>
                    <a:pt x="0" y="850"/>
                    <a:pt x="3" y="846"/>
                    <a:pt x="8" y="8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14" name="Rectangle 330"/>
            <p:cNvSpPr/>
            <p:nvPr/>
          </p:nvSpPr>
          <p:spPr>
            <a:xfrm>
              <a:off x="5457600" y="4194360"/>
              <a:ext cx="1123560" cy="39672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15" name="Rectangle 331"/>
            <p:cNvSpPr/>
            <p:nvPr/>
          </p:nvSpPr>
          <p:spPr>
            <a:xfrm>
              <a:off x="5543280" y="4194360"/>
              <a:ext cx="958320" cy="39672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16" name="Freeform 332"/>
            <p:cNvSpPr/>
            <p:nvPr/>
          </p:nvSpPr>
          <p:spPr>
            <a:xfrm>
              <a:off x="5544720" y="4200480"/>
              <a:ext cx="947520" cy="389160"/>
            </a:xfrm>
            <a:custGeom>
              <a:avLst/>
              <a:gdLst/>
              <a:ahLst/>
              <a:rect l="l" t="t" r="r" b="b"/>
              <a:pathLst>
                <a:path w="2102" h="862">
                  <a:moveTo>
                    <a:pt x="0" y="854"/>
                  </a:moveTo>
                  <a:lnTo>
                    <a:pt x="0" y="8"/>
                  </a:lnTo>
                  <a:cubicBezTo>
                    <a:pt x="0" y="3"/>
                    <a:pt x="4" y="0"/>
                    <a:pt x="8" y="0"/>
                  </a:cubicBezTo>
                  <a:cubicBezTo>
                    <a:pt x="12" y="0"/>
                    <a:pt x="16" y="3"/>
                    <a:pt x="16" y="8"/>
                  </a:cubicBezTo>
                  <a:lnTo>
                    <a:pt x="16" y="854"/>
                  </a:lnTo>
                  <a:cubicBezTo>
                    <a:pt x="16" y="859"/>
                    <a:pt x="12" y="862"/>
                    <a:pt x="8" y="862"/>
                  </a:cubicBezTo>
                  <a:cubicBezTo>
                    <a:pt x="4" y="862"/>
                    <a:pt x="0" y="859"/>
                    <a:pt x="0" y="854"/>
                  </a:cubicBezTo>
                  <a:close/>
                  <a:moveTo>
                    <a:pt x="2086" y="854"/>
                  </a:moveTo>
                  <a:lnTo>
                    <a:pt x="2086" y="8"/>
                  </a:lnTo>
                  <a:cubicBezTo>
                    <a:pt x="2086" y="3"/>
                    <a:pt x="2090" y="0"/>
                    <a:pt x="2094" y="0"/>
                  </a:cubicBezTo>
                  <a:cubicBezTo>
                    <a:pt x="2099" y="0"/>
                    <a:pt x="2102" y="3"/>
                    <a:pt x="2102" y="8"/>
                  </a:cubicBezTo>
                  <a:lnTo>
                    <a:pt x="2102" y="854"/>
                  </a:lnTo>
                  <a:cubicBezTo>
                    <a:pt x="2102" y="859"/>
                    <a:pt x="2099" y="862"/>
                    <a:pt x="2094" y="862"/>
                  </a:cubicBezTo>
                  <a:cubicBezTo>
                    <a:pt x="2090" y="862"/>
                    <a:pt x="2086" y="859"/>
                    <a:pt x="2086" y="8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17" name="Rectangle 333"/>
            <p:cNvSpPr/>
            <p:nvPr/>
          </p:nvSpPr>
          <p:spPr>
            <a:xfrm>
              <a:off x="5543280" y="4194360"/>
              <a:ext cx="958320" cy="39672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18" name="Rectangle 334"/>
            <p:cNvSpPr/>
            <p:nvPr/>
          </p:nvSpPr>
          <p:spPr>
            <a:xfrm>
              <a:off x="5443200" y="4179960"/>
              <a:ext cx="1123560" cy="648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19" name="Rectangle 335"/>
            <p:cNvSpPr/>
            <p:nvPr/>
          </p:nvSpPr>
          <p:spPr>
            <a:xfrm>
              <a:off x="5443200" y="4186440"/>
              <a:ext cx="11235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20" name="Rectangle 336"/>
            <p:cNvSpPr/>
            <p:nvPr/>
          </p:nvSpPr>
          <p:spPr>
            <a:xfrm>
              <a:off x="5443200" y="4200480"/>
              <a:ext cx="1123560" cy="223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21" name="Rectangle 337"/>
            <p:cNvSpPr/>
            <p:nvPr/>
          </p:nvSpPr>
          <p:spPr>
            <a:xfrm>
              <a:off x="5443200" y="4222800"/>
              <a:ext cx="1123560" cy="2232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22" name="Rectangle 338"/>
            <p:cNvSpPr/>
            <p:nvPr/>
          </p:nvSpPr>
          <p:spPr>
            <a:xfrm>
              <a:off x="5443200" y="4245120"/>
              <a:ext cx="1123560" cy="284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23" name="Rectangle 339"/>
            <p:cNvSpPr/>
            <p:nvPr/>
          </p:nvSpPr>
          <p:spPr>
            <a:xfrm>
              <a:off x="5443200" y="4273560"/>
              <a:ext cx="1123560" cy="2052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24" name="Rectangle 340"/>
            <p:cNvSpPr/>
            <p:nvPr/>
          </p:nvSpPr>
          <p:spPr>
            <a:xfrm>
              <a:off x="5443200" y="4294080"/>
              <a:ext cx="1123560" cy="3024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25" name="Rectangle 341"/>
            <p:cNvSpPr/>
            <p:nvPr/>
          </p:nvSpPr>
          <p:spPr>
            <a:xfrm>
              <a:off x="5443200" y="4324320"/>
              <a:ext cx="1123560" cy="2088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26" name="Rectangle 342"/>
            <p:cNvSpPr/>
            <p:nvPr/>
          </p:nvSpPr>
          <p:spPr>
            <a:xfrm>
              <a:off x="5443200" y="4345200"/>
              <a:ext cx="1123560" cy="507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27" name="Rectangle 343"/>
            <p:cNvSpPr/>
            <p:nvPr/>
          </p:nvSpPr>
          <p:spPr>
            <a:xfrm>
              <a:off x="5443200" y="4395960"/>
              <a:ext cx="1123560" cy="284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28" name="Rectangle 344"/>
            <p:cNvSpPr/>
            <p:nvPr/>
          </p:nvSpPr>
          <p:spPr>
            <a:xfrm>
              <a:off x="5443200" y="4424400"/>
              <a:ext cx="1123560" cy="2232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29" name="Rectangle 345"/>
            <p:cNvSpPr/>
            <p:nvPr/>
          </p:nvSpPr>
          <p:spPr>
            <a:xfrm>
              <a:off x="5443200" y="4446720"/>
              <a:ext cx="1123560" cy="205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30" name="Rectangle 346"/>
            <p:cNvSpPr/>
            <p:nvPr/>
          </p:nvSpPr>
          <p:spPr>
            <a:xfrm>
              <a:off x="5443200" y="4467240"/>
              <a:ext cx="1123560" cy="3024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31" name="Rectangle 347"/>
            <p:cNvSpPr/>
            <p:nvPr/>
          </p:nvSpPr>
          <p:spPr>
            <a:xfrm>
              <a:off x="5443200" y="4497480"/>
              <a:ext cx="1123560" cy="205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32" name="Rectangle 348"/>
            <p:cNvSpPr/>
            <p:nvPr/>
          </p:nvSpPr>
          <p:spPr>
            <a:xfrm>
              <a:off x="5443200" y="4518000"/>
              <a:ext cx="1123560" cy="28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33" name="Rectangle 349"/>
            <p:cNvSpPr/>
            <p:nvPr/>
          </p:nvSpPr>
          <p:spPr>
            <a:xfrm>
              <a:off x="5443200" y="4546800"/>
              <a:ext cx="1123560" cy="2196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34" name="Rectangle 350"/>
            <p:cNvSpPr/>
            <p:nvPr/>
          </p:nvSpPr>
          <p:spPr>
            <a:xfrm>
              <a:off x="5443200" y="4568760"/>
              <a:ext cx="1123560" cy="792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35" name="Rectangle 351"/>
            <p:cNvSpPr/>
            <p:nvPr/>
          </p:nvSpPr>
          <p:spPr>
            <a:xfrm>
              <a:off x="5454360" y="4189320"/>
              <a:ext cx="1103040" cy="382680"/>
            </a:xfrm>
            <a:prstGeom prst="rect">
              <a:avLst/>
            </a:prstGeom>
            <a:noFill/>
            <a:ln cap="rnd" w="144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36" name="Freeform 352"/>
            <p:cNvSpPr/>
            <p:nvPr/>
          </p:nvSpPr>
          <p:spPr>
            <a:xfrm>
              <a:off x="5535360" y="4189320"/>
              <a:ext cx="939240" cy="382680"/>
            </a:xfrm>
            <a:custGeom>
              <a:avLst/>
              <a:gdLst/>
              <a:ahLst/>
              <a:rect l="l" t="t" r="r" b="b"/>
              <a:pathLst>
                <a:path w="592" h="241">
                  <a:moveTo>
                    <a:pt x="0" y="241"/>
                  </a:moveTo>
                  <a:lnTo>
                    <a:pt x="0" y="0"/>
                  </a:lnTo>
                  <a:moveTo>
                    <a:pt x="592" y="241"/>
                  </a:moveTo>
                  <a:lnTo>
                    <a:pt x="592" y="0"/>
                  </a:lnTo>
                </a:path>
              </a:pathLst>
            </a:custGeom>
            <a:noFill/>
            <a:ln cap="rnd" w="144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37" name="Rectangle 353"/>
            <p:cNvSpPr/>
            <p:nvPr/>
          </p:nvSpPr>
          <p:spPr>
            <a:xfrm>
              <a:off x="5699880" y="4208400"/>
              <a:ext cx="68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Calibri"/>
                </a:rPr>
                <a:t>DeclRefExpr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38" name="Rectangle 354"/>
            <p:cNvSpPr/>
            <p:nvPr/>
          </p:nvSpPr>
          <p:spPr>
            <a:xfrm>
              <a:off x="5875200" y="43736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70c0"/>
                  </a:solidFill>
                  <a:latin typeface="Calibri"/>
                </a:rPr>
                <a:t>'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39" name="Rectangle 355"/>
            <p:cNvSpPr/>
            <p:nvPr/>
          </p:nvSpPr>
          <p:spPr>
            <a:xfrm>
              <a:off x="5902920" y="4373640"/>
              <a:ext cx="32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70c0"/>
                  </a:solidFill>
                  <a:latin typeface="Calibri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40" name="Rectangle 356"/>
            <p:cNvSpPr/>
            <p:nvPr/>
          </p:nvSpPr>
          <p:spPr>
            <a:xfrm>
              <a:off x="5940000" y="43736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70c0"/>
                  </a:solidFill>
                  <a:latin typeface="Calibri"/>
                </a:rPr>
                <a:t>' 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41" name="Rectangle 357"/>
            <p:cNvSpPr/>
            <p:nvPr/>
          </p:nvSpPr>
          <p:spPr>
            <a:xfrm>
              <a:off x="5997240" y="43736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b050"/>
                  </a:solidFill>
                  <a:latin typeface="Calibri"/>
                </a:rPr>
                <a:t>'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42" name="Rectangle 358"/>
            <p:cNvSpPr/>
            <p:nvPr/>
          </p:nvSpPr>
          <p:spPr>
            <a:xfrm>
              <a:off x="6026040" y="4373640"/>
              <a:ext cx="15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b050"/>
                  </a:solidFill>
                  <a:latin typeface="Calibri"/>
                </a:rPr>
                <a:t>int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43" name="Rectangle 359"/>
            <p:cNvSpPr/>
            <p:nvPr/>
          </p:nvSpPr>
          <p:spPr>
            <a:xfrm>
              <a:off x="6176520" y="43736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b050"/>
                  </a:solidFill>
                  <a:latin typeface="Calibri"/>
                </a:rPr>
                <a:t>'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44" name="Freeform 360"/>
            <p:cNvSpPr/>
            <p:nvPr/>
          </p:nvSpPr>
          <p:spPr>
            <a:xfrm>
              <a:off x="4792320" y="4326120"/>
              <a:ext cx="609120" cy="54000"/>
            </a:xfrm>
            <a:custGeom>
              <a:avLst/>
              <a:gdLst/>
              <a:ahLst/>
              <a:rect l="l" t="t" r="r" b="b"/>
              <a:pathLst>
                <a:path w="384" h="34">
                  <a:moveTo>
                    <a:pt x="0" y="0"/>
                  </a:moveTo>
                  <a:lnTo>
                    <a:pt x="0" y="34"/>
                  </a:lnTo>
                  <a:lnTo>
                    <a:pt x="384" y="34"/>
                  </a:lnTo>
                </a:path>
              </a:pathLst>
            </a:custGeom>
            <a:noFill/>
            <a:ln cap="rnd"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45" name="Freeform 361"/>
            <p:cNvSpPr/>
            <p:nvPr/>
          </p:nvSpPr>
          <p:spPr>
            <a:xfrm>
              <a:off x="5385960" y="4346640"/>
              <a:ext cx="68040" cy="68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0" y="150"/>
                  </a:lnTo>
                  <a:cubicBezTo>
                    <a:pt x="23" y="103"/>
                    <a:pt x="23" y="47"/>
                    <a:pt x="0" y="0"/>
                  </a:cubicBezTo>
                  <a:lnTo>
                    <a:pt x="150" y="75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46" name="Rectangle 362"/>
            <p:cNvSpPr/>
            <p:nvPr/>
          </p:nvSpPr>
          <p:spPr>
            <a:xfrm>
              <a:off x="4252680" y="4792680"/>
              <a:ext cx="1051920" cy="1936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pic>
          <p:nvPicPr>
            <p:cNvPr id="847" name="Picture 363" descr=""/>
            <p:cNvPicPr/>
            <p:nvPr/>
          </p:nvPicPr>
          <p:blipFill>
            <a:blip r:embed="rId10"/>
            <a:stretch/>
          </p:blipFill>
          <p:spPr>
            <a:xfrm>
              <a:off x="4254120" y="4795920"/>
              <a:ext cx="104904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Rectangle 364"/>
            <p:cNvSpPr/>
            <p:nvPr/>
          </p:nvSpPr>
          <p:spPr>
            <a:xfrm>
              <a:off x="4252680" y="4792680"/>
              <a:ext cx="1051920" cy="1936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49" name="Rectangle 365"/>
            <p:cNvSpPr/>
            <p:nvPr/>
          </p:nvSpPr>
          <p:spPr>
            <a:xfrm>
              <a:off x="4246200" y="4792680"/>
              <a:ext cx="1066320" cy="2080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50" name="Freeform 366"/>
            <p:cNvSpPr/>
            <p:nvPr/>
          </p:nvSpPr>
          <p:spPr>
            <a:xfrm>
              <a:off x="4250880" y="4792680"/>
              <a:ext cx="1056960" cy="198360"/>
            </a:xfrm>
            <a:custGeom>
              <a:avLst/>
              <a:gdLst/>
              <a:ahLst/>
              <a:rect l="l" t="t" r="r" b="b"/>
              <a:pathLst>
                <a:path w="2344" h="439">
                  <a:moveTo>
                    <a:pt x="8" y="423"/>
                  </a:moveTo>
                  <a:lnTo>
                    <a:pt x="2336" y="423"/>
                  </a:lnTo>
                  <a:lnTo>
                    <a:pt x="2328" y="431"/>
                  </a:lnTo>
                  <a:lnTo>
                    <a:pt x="2328" y="8"/>
                  </a:lnTo>
                  <a:lnTo>
                    <a:pt x="2336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31"/>
                  </a:lnTo>
                  <a:cubicBezTo>
                    <a:pt x="16" y="436"/>
                    <a:pt x="12" y="439"/>
                    <a:pt x="8" y="439"/>
                  </a:cubicBezTo>
                  <a:cubicBezTo>
                    <a:pt x="3" y="439"/>
                    <a:pt x="0" y="436"/>
                    <a:pt x="0" y="431"/>
                  </a:cubicBezTo>
                  <a:lnTo>
                    <a:pt x="0" y="8"/>
                  </a:lnTo>
                  <a:cubicBezTo>
                    <a:pt x="0" y="4"/>
                    <a:pt x="3" y="0"/>
                    <a:pt x="8" y="0"/>
                  </a:cubicBezTo>
                  <a:lnTo>
                    <a:pt x="2336" y="0"/>
                  </a:lnTo>
                  <a:cubicBezTo>
                    <a:pt x="2340" y="0"/>
                    <a:pt x="2344" y="4"/>
                    <a:pt x="2344" y="8"/>
                  </a:cubicBezTo>
                  <a:lnTo>
                    <a:pt x="2344" y="431"/>
                  </a:lnTo>
                  <a:cubicBezTo>
                    <a:pt x="2344" y="436"/>
                    <a:pt x="2340" y="439"/>
                    <a:pt x="2336" y="439"/>
                  </a:cubicBezTo>
                  <a:lnTo>
                    <a:pt x="8" y="439"/>
                  </a:lnTo>
                  <a:cubicBezTo>
                    <a:pt x="3" y="439"/>
                    <a:pt x="0" y="436"/>
                    <a:pt x="0" y="431"/>
                  </a:cubicBezTo>
                  <a:cubicBezTo>
                    <a:pt x="0" y="427"/>
                    <a:pt x="3" y="423"/>
                    <a:pt x="8" y="4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51" name="Rectangle 367"/>
            <p:cNvSpPr/>
            <p:nvPr/>
          </p:nvSpPr>
          <p:spPr>
            <a:xfrm>
              <a:off x="4246200" y="4792680"/>
              <a:ext cx="1066320" cy="2080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52" name="Rectangle 368"/>
            <p:cNvSpPr/>
            <p:nvPr/>
          </p:nvSpPr>
          <p:spPr>
            <a:xfrm>
              <a:off x="4232160" y="4770360"/>
              <a:ext cx="1066680" cy="792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53" name="Rectangle 369"/>
            <p:cNvSpPr/>
            <p:nvPr/>
          </p:nvSpPr>
          <p:spPr>
            <a:xfrm>
              <a:off x="4232160" y="4778280"/>
              <a:ext cx="106668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54" name="Rectangle 370"/>
            <p:cNvSpPr/>
            <p:nvPr/>
          </p:nvSpPr>
          <p:spPr>
            <a:xfrm>
              <a:off x="4232160" y="4784760"/>
              <a:ext cx="1066680" cy="1440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55" name="Rectangle 371"/>
            <p:cNvSpPr/>
            <p:nvPr/>
          </p:nvSpPr>
          <p:spPr>
            <a:xfrm>
              <a:off x="4232160" y="4799160"/>
              <a:ext cx="1066680" cy="1404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56" name="Rectangle 372"/>
            <p:cNvSpPr/>
            <p:nvPr/>
          </p:nvSpPr>
          <p:spPr>
            <a:xfrm>
              <a:off x="4232160" y="4813200"/>
              <a:ext cx="1066680" cy="828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57" name="Rectangle 373"/>
            <p:cNvSpPr/>
            <p:nvPr/>
          </p:nvSpPr>
          <p:spPr>
            <a:xfrm>
              <a:off x="4232160" y="4821480"/>
              <a:ext cx="1066680" cy="1404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58" name="Rectangle 374"/>
            <p:cNvSpPr/>
            <p:nvPr/>
          </p:nvSpPr>
          <p:spPr>
            <a:xfrm>
              <a:off x="4232160" y="4835520"/>
              <a:ext cx="1066680" cy="144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59" name="Rectangle 375"/>
            <p:cNvSpPr/>
            <p:nvPr/>
          </p:nvSpPr>
          <p:spPr>
            <a:xfrm>
              <a:off x="4232160" y="4849920"/>
              <a:ext cx="1066680" cy="1440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60" name="Rectangle 376"/>
            <p:cNvSpPr/>
            <p:nvPr/>
          </p:nvSpPr>
          <p:spPr>
            <a:xfrm>
              <a:off x="4232160" y="4864320"/>
              <a:ext cx="1066680" cy="219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61" name="Rectangle 377"/>
            <p:cNvSpPr/>
            <p:nvPr/>
          </p:nvSpPr>
          <p:spPr>
            <a:xfrm>
              <a:off x="4232160" y="4886280"/>
              <a:ext cx="1066680" cy="1440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62" name="Rectangle 378"/>
            <p:cNvSpPr/>
            <p:nvPr/>
          </p:nvSpPr>
          <p:spPr>
            <a:xfrm>
              <a:off x="4232160" y="4900680"/>
              <a:ext cx="1066680" cy="1440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63" name="Rectangle 379"/>
            <p:cNvSpPr/>
            <p:nvPr/>
          </p:nvSpPr>
          <p:spPr>
            <a:xfrm>
              <a:off x="4232160" y="4915080"/>
              <a:ext cx="1066680" cy="1404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64" name="Rectangle 380"/>
            <p:cNvSpPr/>
            <p:nvPr/>
          </p:nvSpPr>
          <p:spPr>
            <a:xfrm>
              <a:off x="4232160" y="4929120"/>
              <a:ext cx="1066680" cy="792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65" name="Rectangle 381"/>
            <p:cNvSpPr/>
            <p:nvPr/>
          </p:nvSpPr>
          <p:spPr>
            <a:xfrm>
              <a:off x="4232160" y="4937040"/>
              <a:ext cx="1066680" cy="1440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66" name="Rectangle 382"/>
            <p:cNvSpPr/>
            <p:nvPr/>
          </p:nvSpPr>
          <p:spPr>
            <a:xfrm>
              <a:off x="4232160" y="4951440"/>
              <a:ext cx="1066680" cy="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67" name="Rectangle 383"/>
            <p:cNvSpPr/>
            <p:nvPr/>
          </p:nvSpPr>
          <p:spPr>
            <a:xfrm>
              <a:off x="4232160" y="4965840"/>
              <a:ext cx="1066680" cy="1404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68" name="Rectangle 384"/>
            <p:cNvSpPr/>
            <p:nvPr/>
          </p:nvSpPr>
          <p:spPr>
            <a:xfrm>
              <a:off x="4241520" y="4783320"/>
              <a:ext cx="1047240" cy="190440"/>
            </a:xfrm>
            <a:prstGeom prst="rect">
              <a:avLst/>
            </a:prstGeom>
            <a:noFill/>
            <a:ln cap="rnd" w="144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69" name="Rectangle 385"/>
            <p:cNvSpPr/>
            <p:nvPr/>
          </p:nvSpPr>
          <p:spPr>
            <a:xfrm>
              <a:off x="4358880" y="4784760"/>
              <a:ext cx="898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Calibri"/>
                </a:rPr>
                <a:t>CompoundStmt</a:t>
              </a:r>
              <a:endParaRPr b="0" lang="en-US" sz="11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70" name="Rectangle 386"/>
            <p:cNvSpPr/>
            <p:nvPr/>
          </p:nvSpPr>
          <p:spPr>
            <a:xfrm>
              <a:off x="5406840" y="4943520"/>
              <a:ext cx="1707840" cy="3826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pic>
          <p:nvPicPr>
            <p:cNvPr id="871" name="Picture 387" descr=""/>
            <p:cNvPicPr/>
            <p:nvPr/>
          </p:nvPicPr>
          <p:blipFill>
            <a:blip r:embed="rId11"/>
            <a:stretch/>
          </p:blipFill>
          <p:spPr>
            <a:xfrm>
              <a:off x="5412960" y="4946760"/>
              <a:ext cx="17031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Rectangle 388"/>
            <p:cNvSpPr/>
            <p:nvPr/>
          </p:nvSpPr>
          <p:spPr>
            <a:xfrm>
              <a:off x="5406840" y="4943520"/>
              <a:ext cx="1707840" cy="3826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73" name="Rectangle 389"/>
            <p:cNvSpPr/>
            <p:nvPr/>
          </p:nvSpPr>
          <p:spPr>
            <a:xfrm>
              <a:off x="5406840" y="4937040"/>
              <a:ext cx="1723680" cy="3952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74" name="Freeform 390"/>
            <p:cNvSpPr/>
            <p:nvPr/>
          </p:nvSpPr>
          <p:spPr>
            <a:xfrm>
              <a:off x="5409720" y="4943520"/>
              <a:ext cx="1709640" cy="387360"/>
            </a:xfrm>
            <a:custGeom>
              <a:avLst/>
              <a:gdLst/>
              <a:ahLst/>
              <a:rect l="l" t="t" r="r" b="b"/>
              <a:pathLst>
                <a:path w="3795" h="862">
                  <a:moveTo>
                    <a:pt x="8" y="846"/>
                  </a:moveTo>
                  <a:lnTo>
                    <a:pt x="3787" y="846"/>
                  </a:lnTo>
                  <a:lnTo>
                    <a:pt x="3779" y="854"/>
                  </a:lnTo>
                  <a:lnTo>
                    <a:pt x="3779" y="8"/>
                  </a:lnTo>
                  <a:lnTo>
                    <a:pt x="3787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854"/>
                  </a:lnTo>
                  <a:cubicBezTo>
                    <a:pt x="16" y="859"/>
                    <a:pt x="12" y="862"/>
                    <a:pt x="8" y="862"/>
                  </a:cubicBezTo>
                  <a:cubicBezTo>
                    <a:pt x="3" y="862"/>
                    <a:pt x="0" y="859"/>
                    <a:pt x="0" y="854"/>
                  </a:cubicBezTo>
                  <a:lnTo>
                    <a:pt x="0" y="8"/>
                  </a:lnTo>
                  <a:cubicBezTo>
                    <a:pt x="0" y="3"/>
                    <a:pt x="3" y="0"/>
                    <a:pt x="8" y="0"/>
                  </a:cubicBezTo>
                  <a:lnTo>
                    <a:pt x="3787" y="0"/>
                  </a:lnTo>
                  <a:cubicBezTo>
                    <a:pt x="3792" y="0"/>
                    <a:pt x="3795" y="3"/>
                    <a:pt x="3795" y="8"/>
                  </a:cubicBezTo>
                  <a:lnTo>
                    <a:pt x="3795" y="854"/>
                  </a:lnTo>
                  <a:cubicBezTo>
                    <a:pt x="3795" y="859"/>
                    <a:pt x="3792" y="862"/>
                    <a:pt x="3787" y="862"/>
                  </a:cubicBezTo>
                  <a:lnTo>
                    <a:pt x="8" y="862"/>
                  </a:lnTo>
                  <a:cubicBezTo>
                    <a:pt x="3" y="862"/>
                    <a:pt x="0" y="859"/>
                    <a:pt x="0" y="854"/>
                  </a:cubicBezTo>
                  <a:cubicBezTo>
                    <a:pt x="0" y="850"/>
                    <a:pt x="3" y="846"/>
                    <a:pt x="8" y="8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75" name="Rectangle 391"/>
            <p:cNvSpPr/>
            <p:nvPr/>
          </p:nvSpPr>
          <p:spPr>
            <a:xfrm>
              <a:off x="5406840" y="4937040"/>
              <a:ext cx="1723680" cy="3952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76" name="Rectangle 392"/>
            <p:cNvSpPr/>
            <p:nvPr/>
          </p:nvSpPr>
          <p:spPr>
            <a:xfrm>
              <a:off x="5486040" y="4937040"/>
              <a:ext cx="1557000" cy="3952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77" name="Freeform 393"/>
            <p:cNvSpPr/>
            <p:nvPr/>
          </p:nvSpPr>
          <p:spPr>
            <a:xfrm>
              <a:off x="5490720" y="4943520"/>
              <a:ext cx="1547640" cy="387360"/>
            </a:xfrm>
            <a:custGeom>
              <a:avLst/>
              <a:gdLst/>
              <a:ahLst/>
              <a:rect l="l" t="t" r="r" b="b"/>
              <a:pathLst>
                <a:path w="3433" h="862">
                  <a:moveTo>
                    <a:pt x="0" y="854"/>
                  </a:moveTo>
                  <a:lnTo>
                    <a:pt x="0" y="8"/>
                  </a:lnTo>
                  <a:cubicBezTo>
                    <a:pt x="0" y="3"/>
                    <a:pt x="4" y="0"/>
                    <a:pt x="8" y="0"/>
                  </a:cubicBezTo>
                  <a:cubicBezTo>
                    <a:pt x="12" y="0"/>
                    <a:pt x="16" y="3"/>
                    <a:pt x="16" y="8"/>
                  </a:cubicBezTo>
                  <a:lnTo>
                    <a:pt x="16" y="854"/>
                  </a:lnTo>
                  <a:cubicBezTo>
                    <a:pt x="16" y="859"/>
                    <a:pt x="12" y="862"/>
                    <a:pt x="8" y="862"/>
                  </a:cubicBezTo>
                  <a:cubicBezTo>
                    <a:pt x="4" y="862"/>
                    <a:pt x="0" y="859"/>
                    <a:pt x="0" y="854"/>
                  </a:cubicBezTo>
                  <a:close/>
                  <a:moveTo>
                    <a:pt x="3417" y="854"/>
                  </a:moveTo>
                  <a:lnTo>
                    <a:pt x="3417" y="8"/>
                  </a:lnTo>
                  <a:cubicBezTo>
                    <a:pt x="3417" y="3"/>
                    <a:pt x="3420" y="0"/>
                    <a:pt x="3425" y="0"/>
                  </a:cubicBezTo>
                  <a:cubicBezTo>
                    <a:pt x="3429" y="0"/>
                    <a:pt x="3433" y="3"/>
                    <a:pt x="3433" y="8"/>
                  </a:cubicBezTo>
                  <a:lnTo>
                    <a:pt x="3433" y="854"/>
                  </a:lnTo>
                  <a:cubicBezTo>
                    <a:pt x="3433" y="859"/>
                    <a:pt x="3429" y="862"/>
                    <a:pt x="3425" y="862"/>
                  </a:cubicBezTo>
                  <a:cubicBezTo>
                    <a:pt x="3420" y="862"/>
                    <a:pt x="3417" y="859"/>
                    <a:pt x="3417" y="8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78" name="Rectangle 394"/>
            <p:cNvSpPr/>
            <p:nvPr/>
          </p:nvSpPr>
          <p:spPr>
            <a:xfrm>
              <a:off x="5486040" y="4937040"/>
              <a:ext cx="1557000" cy="3952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79" name="Rectangle 395"/>
            <p:cNvSpPr/>
            <p:nvPr/>
          </p:nvSpPr>
          <p:spPr>
            <a:xfrm>
              <a:off x="5384520" y="4923000"/>
              <a:ext cx="1723680" cy="612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80" name="Rectangle 396"/>
            <p:cNvSpPr/>
            <p:nvPr/>
          </p:nvSpPr>
          <p:spPr>
            <a:xfrm>
              <a:off x="5384520" y="4929120"/>
              <a:ext cx="172368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81" name="Rectangle 397"/>
            <p:cNvSpPr/>
            <p:nvPr/>
          </p:nvSpPr>
          <p:spPr>
            <a:xfrm>
              <a:off x="5384520" y="4943520"/>
              <a:ext cx="1723680" cy="223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82" name="Rectangle 398"/>
            <p:cNvSpPr/>
            <p:nvPr/>
          </p:nvSpPr>
          <p:spPr>
            <a:xfrm>
              <a:off x="5384520" y="4965840"/>
              <a:ext cx="1723680" cy="2052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83" name="Rectangle 399"/>
            <p:cNvSpPr/>
            <p:nvPr/>
          </p:nvSpPr>
          <p:spPr>
            <a:xfrm>
              <a:off x="5384520" y="4986360"/>
              <a:ext cx="1723680" cy="302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84" name="Rectangle 400"/>
            <p:cNvSpPr/>
            <p:nvPr/>
          </p:nvSpPr>
          <p:spPr>
            <a:xfrm>
              <a:off x="5384520" y="5016600"/>
              <a:ext cx="1723680" cy="2052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85" name="Rectangle 401"/>
            <p:cNvSpPr/>
            <p:nvPr/>
          </p:nvSpPr>
          <p:spPr>
            <a:xfrm>
              <a:off x="5384520" y="5037120"/>
              <a:ext cx="1723680" cy="288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86" name="Rectangle 402"/>
            <p:cNvSpPr/>
            <p:nvPr/>
          </p:nvSpPr>
          <p:spPr>
            <a:xfrm>
              <a:off x="5384520" y="5065920"/>
              <a:ext cx="1723680" cy="219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87" name="Rectangle 403"/>
            <p:cNvSpPr/>
            <p:nvPr/>
          </p:nvSpPr>
          <p:spPr>
            <a:xfrm>
              <a:off x="5384520" y="5087880"/>
              <a:ext cx="1723680" cy="507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88" name="Rectangle 404"/>
            <p:cNvSpPr/>
            <p:nvPr/>
          </p:nvSpPr>
          <p:spPr>
            <a:xfrm>
              <a:off x="5384520" y="5138640"/>
              <a:ext cx="1723680" cy="2880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889" name="Rectangle 405"/>
            <p:cNvSpPr/>
            <p:nvPr/>
          </p:nvSpPr>
          <p:spPr>
            <a:xfrm>
              <a:off x="5384520" y="5167440"/>
              <a:ext cx="1723680" cy="2232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  <p:sp>
        <p:nvSpPr>
          <p:cNvPr id="890" name="Rectangle 407"/>
          <p:cNvSpPr/>
          <p:nvPr/>
        </p:nvSpPr>
        <p:spPr>
          <a:xfrm>
            <a:off x="5384880" y="5189400"/>
            <a:ext cx="1724040" cy="208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91" name="Rectangle 408"/>
          <p:cNvSpPr/>
          <p:nvPr/>
        </p:nvSpPr>
        <p:spPr>
          <a:xfrm>
            <a:off x="5384880" y="5210280"/>
            <a:ext cx="1724040" cy="2844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92" name="Rectangle 409"/>
          <p:cNvSpPr/>
          <p:nvPr/>
        </p:nvSpPr>
        <p:spPr>
          <a:xfrm>
            <a:off x="5384880" y="5238720"/>
            <a:ext cx="1724040" cy="2232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93" name="Rectangle 410"/>
          <p:cNvSpPr/>
          <p:nvPr/>
        </p:nvSpPr>
        <p:spPr>
          <a:xfrm>
            <a:off x="5384880" y="5261040"/>
            <a:ext cx="1724040" cy="28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94" name="Rectangle 411"/>
          <p:cNvSpPr/>
          <p:nvPr/>
        </p:nvSpPr>
        <p:spPr>
          <a:xfrm>
            <a:off x="5384880" y="5289480"/>
            <a:ext cx="1724040" cy="223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95" name="Rectangle 412"/>
          <p:cNvSpPr/>
          <p:nvPr/>
        </p:nvSpPr>
        <p:spPr>
          <a:xfrm>
            <a:off x="5384880" y="5311800"/>
            <a:ext cx="1724040" cy="648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96" name="Rectangle 413"/>
          <p:cNvSpPr/>
          <p:nvPr/>
        </p:nvSpPr>
        <p:spPr>
          <a:xfrm>
            <a:off x="5398920" y="4932360"/>
            <a:ext cx="1703520" cy="380880"/>
          </a:xfrm>
          <a:prstGeom prst="rect">
            <a:avLst/>
          </a:prstGeom>
          <a:noFill/>
          <a:ln cap="rnd" w="1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97" name="Freeform 414"/>
          <p:cNvSpPr/>
          <p:nvPr/>
        </p:nvSpPr>
        <p:spPr>
          <a:xfrm>
            <a:off x="5481720" y="4932360"/>
            <a:ext cx="1539720" cy="380880"/>
          </a:xfrm>
          <a:custGeom>
            <a:avLst/>
            <a:gdLst/>
            <a:ahLst/>
            <a:rect l="l" t="t" r="r" b="b"/>
            <a:pathLst>
              <a:path w="970" h="240">
                <a:moveTo>
                  <a:pt x="0" y="240"/>
                </a:moveTo>
                <a:lnTo>
                  <a:pt x="0" y="0"/>
                </a:lnTo>
                <a:moveTo>
                  <a:pt x="970" y="240"/>
                </a:moveTo>
                <a:lnTo>
                  <a:pt x="970" y="0"/>
                </a:lnTo>
              </a:path>
            </a:pathLst>
          </a:custGeom>
          <a:noFill/>
          <a:ln cap="rnd" w="1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98" name="Rectangle 415"/>
          <p:cNvSpPr/>
          <p:nvPr/>
        </p:nvSpPr>
        <p:spPr>
          <a:xfrm>
            <a:off x="5542200" y="4950000"/>
            <a:ext cx="151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Calibri"/>
              </a:rPr>
              <a:t>CompoundAssignOperator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99" name="Rectangle 416"/>
          <p:cNvSpPr/>
          <p:nvPr/>
        </p:nvSpPr>
        <p:spPr>
          <a:xfrm>
            <a:off x="6069240" y="511668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00" name="Rectangle 417"/>
          <p:cNvSpPr/>
          <p:nvPr/>
        </p:nvSpPr>
        <p:spPr>
          <a:xfrm>
            <a:off x="6062760" y="511668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Calibri"/>
              </a:rPr>
              <a:t>+=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01" name="Rectangle 418"/>
          <p:cNvSpPr/>
          <p:nvPr/>
        </p:nvSpPr>
        <p:spPr>
          <a:xfrm>
            <a:off x="6235920" y="511668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02" name="Rectangle 419"/>
          <p:cNvSpPr/>
          <p:nvPr/>
        </p:nvSpPr>
        <p:spPr>
          <a:xfrm>
            <a:off x="6292800" y="511668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03" name="Rectangle 420"/>
          <p:cNvSpPr/>
          <p:nvPr/>
        </p:nvSpPr>
        <p:spPr>
          <a:xfrm>
            <a:off x="6321960" y="5116680"/>
            <a:ext cx="15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int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04" name="Rectangle 421"/>
          <p:cNvSpPr/>
          <p:nvPr/>
        </p:nvSpPr>
        <p:spPr>
          <a:xfrm>
            <a:off x="6472440" y="511668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05" name="Rectangle 422"/>
          <p:cNvSpPr/>
          <p:nvPr/>
        </p:nvSpPr>
        <p:spPr>
          <a:xfrm>
            <a:off x="7224840" y="5678640"/>
            <a:ext cx="1109520" cy="3823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906" name="Picture 423" descr=""/>
          <p:cNvPicPr/>
          <p:nvPr/>
        </p:nvPicPr>
        <p:blipFill>
          <a:blip r:embed="rId12"/>
          <a:stretch/>
        </p:blipFill>
        <p:spPr>
          <a:xfrm>
            <a:off x="7224840" y="5681520"/>
            <a:ext cx="1104840" cy="381240"/>
          </a:xfrm>
          <a:prstGeom prst="rect">
            <a:avLst/>
          </a:prstGeom>
          <a:ln w="0">
            <a:noFill/>
          </a:ln>
        </p:spPr>
      </p:pic>
      <p:sp>
        <p:nvSpPr>
          <p:cNvPr id="907" name="Rectangle 424"/>
          <p:cNvSpPr/>
          <p:nvPr/>
        </p:nvSpPr>
        <p:spPr>
          <a:xfrm>
            <a:off x="7224840" y="5678640"/>
            <a:ext cx="1109520" cy="3823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08" name="Rectangle 425"/>
          <p:cNvSpPr/>
          <p:nvPr/>
        </p:nvSpPr>
        <p:spPr>
          <a:xfrm>
            <a:off x="7216920" y="5672160"/>
            <a:ext cx="1125360" cy="396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09" name="Freeform 426"/>
          <p:cNvSpPr/>
          <p:nvPr/>
        </p:nvSpPr>
        <p:spPr>
          <a:xfrm>
            <a:off x="7221600" y="5678640"/>
            <a:ext cx="1111320" cy="388800"/>
          </a:xfrm>
          <a:custGeom>
            <a:avLst/>
            <a:gdLst/>
            <a:ahLst/>
            <a:rect l="l" t="t" r="r" b="b"/>
            <a:pathLst>
              <a:path w="2465" h="863">
                <a:moveTo>
                  <a:pt x="8" y="847"/>
                </a:moveTo>
                <a:lnTo>
                  <a:pt x="2457" y="847"/>
                </a:lnTo>
                <a:lnTo>
                  <a:pt x="2449" y="855"/>
                </a:lnTo>
                <a:lnTo>
                  <a:pt x="2449" y="8"/>
                </a:lnTo>
                <a:lnTo>
                  <a:pt x="2457" y="16"/>
                </a:lnTo>
                <a:lnTo>
                  <a:pt x="8" y="16"/>
                </a:lnTo>
                <a:lnTo>
                  <a:pt x="16" y="8"/>
                </a:lnTo>
                <a:lnTo>
                  <a:pt x="16" y="855"/>
                </a:lnTo>
                <a:cubicBezTo>
                  <a:pt x="16" y="859"/>
                  <a:pt x="12" y="863"/>
                  <a:pt x="8" y="863"/>
                </a:cubicBezTo>
                <a:cubicBezTo>
                  <a:pt x="4" y="863"/>
                  <a:pt x="0" y="859"/>
                  <a:pt x="0" y="855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2457" y="0"/>
                </a:lnTo>
                <a:cubicBezTo>
                  <a:pt x="2462" y="0"/>
                  <a:pt x="2465" y="4"/>
                  <a:pt x="2465" y="8"/>
                </a:cubicBezTo>
                <a:lnTo>
                  <a:pt x="2465" y="855"/>
                </a:lnTo>
                <a:cubicBezTo>
                  <a:pt x="2465" y="859"/>
                  <a:pt x="2462" y="863"/>
                  <a:pt x="2457" y="863"/>
                </a:cubicBezTo>
                <a:lnTo>
                  <a:pt x="8" y="863"/>
                </a:lnTo>
                <a:cubicBezTo>
                  <a:pt x="4" y="863"/>
                  <a:pt x="0" y="859"/>
                  <a:pt x="0" y="855"/>
                </a:cubicBezTo>
                <a:cubicBezTo>
                  <a:pt x="0" y="850"/>
                  <a:pt x="4" y="847"/>
                  <a:pt x="8" y="847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10" name="Rectangle 427"/>
          <p:cNvSpPr/>
          <p:nvPr/>
        </p:nvSpPr>
        <p:spPr>
          <a:xfrm>
            <a:off x="7216920" y="5672160"/>
            <a:ext cx="1125360" cy="396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11" name="Rectangle 428"/>
          <p:cNvSpPr/>
          <p:nvPr/>
        </p:nvSpPr>
        <p:spPr>
          <a:xfrm>
            <a:off x="7304040" y="5672160"/>
            <a:ext cx="959040" cy="396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12" name="Freeform 429"/>
          <p:cNvSpPr/>
          <p:nvPr/>
        </p:nvSpPr>
        <p:spPr>
          <a:xfrm>
            <a:off x="7304040" y="5678640"/>
            <a:ext cx="947880" cy="388800"/>
          </a:xfrm>
          <a:custGeom>
            <a:avLst/>
            <a:gdLst/>
            <a:ahLst/>
            <a:rect l="l" t="t" r="r" b="b"/>
            <a:pathLst>
              <a:path w="2103" h="863">
                <a:moveTo>
                  <a:pt x="0" y="855"/>
                </a:move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cubicBezTo>
                  <a:pt x="13" y="0"/>
                  <a:pt x="16" y="4"/>
                  <a:pt x="16" y="8"/>
                </a:cubicBezTo>
                <a:lnTo>
                  <a:pt x="16" y="855"/>
                </a:lnTo>
                <a:cubicBezTo>
                  <a:pt x="16" y="859"/>
                  <a:pt x="13" y="863"/>
                  <a:pt x="8" y="863"/>
                </a:cubicBezTo>
                <a:cubicBezTo>
                  <a:pt x="4" y="863"/>
                  <a:pt x="0" y="859"/>
                  <a:pt x="0" y="855"/>
                </a:cubicBezTo>
                <a:close/>
                <a:moveTo>
                  <a:pt x="2087" y="855"/>
                </a:moveTo>
                <a:lnTo>
                  <a:pt x="2087" y="8"/>
                </a:lnTo>
                <a:cubicBezTo>
                  <a:pt x="2087" y="4"/>
                  <a:pt x="2090" y="0"/>
                  <a:pt x="2095" y="0"/>
                </a:cubicBezTo>
                <a:cubicBezTo>
                  <a:pt x="2099" y="0"/>
                  <a:pt x="2103" y="4"/>
                  <a:pt x="2103" y="8"/>
                </a:cubicBezTo>
                <a:lnTo>
                  <a:pt x="2103" y="855"/>
                </a:lnTo>
                <a:cubicBezTo>
                  <a:pt x="2103" y="859"/>
                  <a:pt x="2099" y="863"/>
                  <a:pt x="2095" y="863"/>
                </a:cubicBezTo>
                <a:cubicBezTo>
                  <a:pt x="2090" y="863"/>
                  <a:pt x="2087" y="859"/>
                  <a:pt x="2087" y="855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13" name="Rectangle 430"/>
          <p:cNvSpPr/>
          <p:nvPr/>
        </p:nvSpPr>
        <p:spPr>
          <a:xfrm>
            <a:off x="7304040" y="5672160"/>
            <a:ext cx="959040" cy="396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14" name="Rectangle 431"/>
          <p:cNvSpPr/>
          <p:nvPr/>
        </p:nvSpPr>
        <p:spPr>
          <a:xfrm>
            <a:off x="7202520" y="5657760"/>
            <a:ext cx="1123920" cy="648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15" name="Rectangle 432"/>
          <p:cNvSpPr/>
          <p:nvPr/>
        </p:nvSpPr>
        <p:spPr>
          <a:xfrm>
            <a:off x="7202520" y="5664240"/>
            <a:ext cx="1123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16" name="Rectangle 433"/>
          <p:cNvSpPr/>
          <p:nvPr/>
        </p:nvSpPr>
        <p:spPr>
          <a:xfrm>
            <a:off x="7202520" y="5678640"/>
            <a:ext cx="1123920" cy="2196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17" name="Rectangle 434"/>
          <p:cNvSpPr/>
          <p:nvPr/>
        </p:nvSpPr>
        <p:spPr>
          <a:xfrm>
            <a:off x="7202520" y="5700600"/>
            <a:ext cx="1123920" cy="2880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18" name="Rectangle 435"/>
          <p:cNvSpPr/>
          <p:nvPr/>
        </p:nvSpPr>
        <p:spPr>
          <a:xfrm>
            <a:off x="7202520" y="5729400"/>
            <a:ext cx="1123920" cy="219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19" name="Rectangle 436"/>
          <p:cNvSpPr/>
          <p:nvPr/>
        </p:nvSpPr>
        <p:spPr>
          <a:xfrm>
            <a:off x="7202520" y="5751360"/>
            <a:ext cx="1123920" cy="2088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20" name="Rectangle 437"/>
          <p:cNvSpPr/>
          <p:nvPr/>
        </p:nvSpPr>
        <p:spPr>
          <a:xfrm>
            <a:off x="7202520" y="5772240"/>
            <a:ext cx="1123920" cy="3024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21" name="Rectangle 438"/>
          <p:cNvSpPr/>
          <p:nvPr/>
        </p:nvSpPr>
        <p:spPr>
          <a:xfrm>
            <a:off x="7202520" y="5802480"/>
            <a:ext cx="1123920" cy="2052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22" name="Rectangle 439"/>
          <p:cNvSpPr/>
          <p:nvPr/>
        </p:nvSpPr>
        <p:spPr>
          <a:xfrm>
            <a:off x="7202520" y="5823000"/>
            <a:ext cx="1123920" cy="507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23" name="Rectangle 440"/>
          <p:cNvSpPr/>
          <p:nvPr/>
        </p:nvSpPr>
        <p:spPr>
          <a:xfrm>
            <a:off x="7202520" y="5873760"/>
            <a:ext cx="1123920" cy="284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24" name="Rectangle 441"/>
          <p:cNvSpPr/>
          <p:nvPr/>
        </p:nvSpPr>
        <p:spPr>
          <a:xfrm>
            <a:off x="7202520" y="5902200"/>
            <a:ext cx="1123920" cy="2232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25" name="Rectangle 442"/>
          <p:cNvSpPr/>
          <p:nvPr/>
        </p:nvSpPr>
        <p:spPr>
          <a:xfrm>
            <a:off x="7202520" y="5924520"/>
            <a:ext cx="1123920" cy="205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26" name="Rectangle 443"/>
          <p:cNvSpPr/>
          <p:nvPr/>
        </p:nvSpPr>
        <p:spPr>
          <a:xfrm>
            <a:off x="7202520" y="5945040"/>
            <a:ext cx="1123920" cy="3024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27" name="Rectangle 444"/>
          <p:cNvSpPr/>
          <p:nvPr/>
        </p:nvSpPr>
        <p:spPr>
          <a:xfrm>
            <a:off x="7202520" y="5975280"/>
            <a:ext cx="1123920" cy="2088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28" name="Rectangle 445"/>
          <p:cNvSpPr/>
          <p:nvPr/>
        </p:nvSpPr>
        <p:spPr>
          <a:xfrm>
            <a:off x="7202520" y="5996160"/>
            <a:ext cx="1123920" cy="28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29" name="Rectangle 446"/>
          <p:cNvSpPr/>
          <p:nvPr/>
        </p:nvSpPr>
        <p:spPr>
          <a:xfrm>
            <a:off x="7202520" y="6024600"/>
            <a:ext cx="1123920" cy="223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30" name="Rectangle 447"/>
          <p:cNvSpPr/>
          <p:nvPr/>
        </p:nvSpPr>
        <p:spPr>
          <a:xfrm>
            <a:off x="7202520" y="6046920"/>
            <a:ext cx="1123920" cy="61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31" name="Rectangle 448"/>
          <p:cNvSpPr/>
          <p:nvPr/>
        </p:nvSpPr>
        <p:spPr>
          <a:xfrm>
            <a:off x="7211880" y="5668920"/>
            <a:ext cx="1103400" cy="380880"/>
          </a:xfrm>
          <a:prstGeom prst="rect">
            <a:avLst/>
          </a:prstGeom>
          <a:noFill/>
          <a:ln cap="rnd" w="1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32" name="Freeform 449"/>
          <p:cNvSpPr/>
          <p:nvPr/>
        </p:nvSpPr>
        <p:spPr>
          <a:xfrm>
            <a:off x="7292880" y="5668920"/>
            <a:ext cx="939960" cy="380880"/>
          </a:xfrm>
          <a:custGeom>
            <a:avLst/>
            <a:gdLst/>
            <a:ahLst/>
            <a:rect l="l" t="t" r="r" b="b"/>
            <a:pathLst>
              <a:path w="592" h="240">
                <a:moveTo>
                  <a:pt x="0" y="240"/>
                </a:moveTo>
                <a:lnTo>
                  <a:pt x="0" y="0"/>
                </a:lnTo>
                <a:moveTo>
                  <a:pt x="592" y="240"/>
                </a:moveTo>
                <a:lnTo>
                  <a:pt x="592" y="0"/>
                </a:lnTo>
              </a:path>
            </a:pathLst>
          </a:custGeom>
          <a:noFill/>
          <a:ln cap="rnd" w="1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33" name="Rectangle 450"/>
          <p:cNvSpPr/>
          <p:nvPr/>
        </p:nvSpPr>
        <p:spPr>
          <a:xfrm>
            <a:off x="7349040" y="5686560"/>
            <a:ext cx="91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Calibri"/>
              </a:rPr>
              <a:t>ImplicitCastExpr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34" name="Rectangle 451"/>
          <p:cNvSpPr/>
          <p:nvPr/>
        </p:nvSpPr>
        <p:spPr>
          <a:xfrm>
            <a:off x="7691400" y="585144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35" name="Rectangle 452"/>
          <p:cNvSpPr/>
          <p:nvPr/>
        </p:nvSpPr>
        <p:spPr>
          <a:xfrm>
            <a:off x="7728480" y="5851440"/>
            <a:ext cx="15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int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36" name="Rectangle 453"/>
          <p:cNvSpPr/>
          <p:nvPr/>
        </p:nvSpPr>
        <p:spPr>
          <a:xfrm>
            <a:off x="7872480" y="585144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37" name="Rectangle 454"/>
          <p:cNvSpPr/>
          <p:nvPr/>
        </p:nvSpPr>
        <p:spPr>
          <a:xfrm>
            <a:off x="8435880" y="6010200"/>
            <a:ext cx="110988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938" name="Picture 455" descr=""/>
          <p:cNvPicPr/>
          <p:nvPr/>
        </p:nvPicPr>
        <p:blipFill>
          <a:blip r:embed="rId13"/>
          <a:stretch/>
        </p:blipFill>
        <p:spPr>
          <a:xfrm>
            <a:off x="8437680" y="6014880"/>
            <a:ext cx="1104840" cy="382680"/>
          </a:xfrm>
          <a:prstGeom prst="rect">
            <a:avLst/>
          </a:prstGeom>
          <a:ln w="0">
            <a:noFill/>
          </a:ln>
        </p:spPr>
      </p:pic>
      <p:sp>
        <p:nvSpPr>
          <p:cNvPr id="939" name="Rectangle 456"/>
          <p:cNvSpPr/>
          <p:nvPr/>
        </p:nvSpPr>
        <p:spPr>
          <a:xfrm>
            <a:off x="8435880" y="6010200"/>
            <a:ext cx="110988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40" name="Rectangle 457"/>
          <p:cNvSpPr/>
          <p:nvPr/>
        </p:nvSpPr>
        <p:spPr>
          <a:xfrm>
            <a:off x="8427960" y="6010200"/>
            <a:ext cx="1125720" cy="3970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41" name="Freeform 458"/>
          <p:cNvSpPr/>
          <p:nvPr/>
        </p:nvSpPr>
        <p:spPr>
          <a:xfrm>
            <a:off x="8434440" y="6012000"/>
            <a:ext cx="1111320" cy="388800"/>
          </a:xfrm>
          <a:custGeom>
            <a:avLst/>
            <a:gdLst/>
            <a:ahLst/>
            <a:rect l="l" t="t" r="r" b="b"/>
            <a:pathLst>
              <a:path w="2465" h="863">
                <a:moveTo>
                  <a:pt x="8" y="847"/>
                </a:moveTo>
                <a:lnTo>
                  <a:pt x="2457" y="847"/>
                </a:lnTo>
                <a:lnTo>
                  <a:pt x="2449" y="855"/>
                </a:lnTo>
                <a:lnTo>
                  <a:pt x="2449" y="8"/>
                </a:lnTo>
                <a:lnTo>
                  <a:pt x="2457" y="16"/>
                </a:lnTo>
                <a:lnTo>
                  <a:pt x="8" y="16"/>
                </a:lnTo>
                <a:lnTo>
                  <a:pt x="16" y="8"/>
                </a:lnTo>
                <a:lnTo>
                  <a:pt x="16" y="855"/>
                </a:lnTo>
                <a:cubicBezTo>
                  <a:pt x="16" y="859"/>
                  <a:pt x="12" y="863"/>
                  <a:pt x="8" y="863"/>
                </a:cubicBezTo>
                <a:cubicBezTo>
                  <a:pt x="4" y="863"/>
                  <a:pt x="0" y="859"/>
                  <a:pt x="0" y="855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2457" y="0"/>
                </a:lnTo>
                <a:cubicBezTo>
                  <a:pt x="2462" y="0"/>
                  <a:pt x="2465" y="4"/>
                  <a:pt x="2465" y="8"/>
                </a:cubicBezTo>
                <a:lnTo>
                  <a:pt x="2465" y="855"/>
                </a:lnTo>
                <a:cubicBezTo>
                  <a:pt x="2465" y="859"/>
                  <a:pt x="2462" y="863"/>
                  <a:pt x="2457" y="863"/>
                </a:cubicBezTo>
                <a:lnTo>
                  <a:pt x="8" y="863"/>
                </a:lnTo>
                <a:cubicBezTo>
                  <a:pt x="4" y="863"/>
                  <a:pt x="0" y="859"/>
                  <a:pt x="0" y="855"/>
                </a:cubicBezTo>
                <a:cubicBezTo>
                  <a:pt x="0" y="850"/>
                  <a:pt x="4" y="847"/>
                  <a:pt x="8" y="847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42" name="Rectangle 459"/>
          <p:cNvSpPr/>
          <p:nvPr/>
        </p:nvSpPr>
        <p:spPr>
          <a:xfrm>
            <a:off x="8427960" y="6010200"/>
            <a:ext cx="1125720" cy="3970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43" name="Rectangle 460"/>
          <p:cNvSpPr/>
          <p:nvPr/>
        </p:nvSpPr>
        <p:spPr>
          <a:xfrm>
            <a:off x="8515440" y="6010200"/>
            <a:ext cx="958680" cy="3970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44" name="Freeform 461"/>
          <p:cNvSpPr/>
          <p:nvPr/>
        </p:nvSpPr>
        <p:spPr>
          <a:xfrm>
            <a:off x="8515440" y="6012000"/>
            <a:ext cx="947520" cy="388800"/>
          </a:xfrm>
          <a:custGeom>
            <a:avLst/>
            <a:gdLst/>
            <a:ahLst/>
            <a:rect l="l" t="t" r="r" b="b"/>
            <a:pathLst>
              <a:path w="2103" h="863">
                <a:moveTo>
                  <a:pt x="0" y="855"/>
                </a:move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cubicBezTo>
                  <a:pt x="13" y="0"/>
                  <a:pt x="16" y="4"/>
                  <a:pt x="16" y="8"/>
                </a:cubicBezTo>
                <a:lnTo>
                  <a:pt x="16" y="855"/>
                </a:lnTo>
                <a:cubicBezTo>
                  <a:pt x="16" y="859"/>
                  <a:pt x="13" y="863"/>
                  <a:pt x="8" y="863"/>
                </a:cubicBezTo>
                <a:cubicBezTo>
                  <a:pt x="4" y="863"/>
                  <a:pt x="0" y="859"/>
                  <a:pt x="0" y="855"/>
                </a:cubicBezTo>
                <a:close/>
                <a:moveTo>
                  <a:pt x="2087" y="855"/>
                </a:moveTo>
                <a:lnTo>
                  <a:pt x="2087" y="8"/>
                </a:lnTo>
                <a:cubicBezTo>
                  <a:pt x="2087" y="4"/>
                  <a:pt x="2090" y="0"/>
                  <a:pt x="2095" y="0"/>
                </a:cubicBezTo>
                <a:cubicBezTo>
                  <a:pt x="2099" y="0"/>
                  <a:pt x="2103" y="4"/>
                  <a:pt x="2103" y="8"/>
                </a:cubicBezTo>
                <a:lnTo>
                  <a:pt x="2103" y="855"/>
                </a:lnTo>
                <a:cubicBezTo>
                  <a:pt x="2103" y="859"/>
                  <a:pt x="2099" y="863"/>
                  <a:pt x="2095" y="863"/>
                </a:cubicBezTo>
                <a:cubicBezTo>
                  <a:pt x="2090" y="863"/>
                  <a:pt x="2087" y="859"/>
                  <a:pt x="2087" y="855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45" name="Rectangle 462"/>
          <p:cNvSpPr/>
          <p:nvPr/>
        </p:nvSpPr>
        <p:spPr>
          <a:xfrm>
            <a:off x="8515440" y="6010200"/>
            <a:ext cx="958680" cy="3970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46" name="Rectangle 463"/>
          <p:cNvSpPr/>
          <p:nvPr/>
        </p:nvSpPr>
        <p:spPr>
          <a:xfrm>
            <a:off x="8413920" y="5989680"/>
            <a:ext cx="1125360" cy="648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47" name="Rectangle 464"/>
          <p:cNvSpPr/>
          <p:nvPr/>
        </p:nvSpPr>
        <p:spPr>
          <a:xfrm>
            <a:off x="8413920" y="5996160"/>
            <a:ext cx="1125360" cy="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48" name="Rectangle 465"/>
          <p:cNvSpPr/>
          <p:nvPr/>
        </p:nvSpPr>
        <p:spPr>
          <a:xfrm>
            <a:off x="8413920" y="6010200"/>
            <a:ext cx="1125360" cy="2232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49" name="Rectangle 466"/>
          <p:cNvSpPr/>
          <p:nvPr/>
        </p:nvSpPr>
        <p:spPr>
          <a:xfrm>
            <a:off x="8413920" y="6032520"/>
            <a:ext cx="1125360" cy="2844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50" name="Rectangle 467"/>
          <p:cNvSpPr/>
          <p:nvPr/>
        </p:nvSpPr>
        <p:spPr>
          <a:xfrm>
            <a:off x="8413920" y="6060960"/>
            <a:ext cx="1125360" cy="2232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51" name="Rectangle 468"/>
          <p:cNvSpPr/>
          <p:nvPr/>
        </p:nvSpPr>
        <p:spPr>
          <a:xfrm>
            <a:off x="8413920" y="6083280"/>
            <a:ext cx="1125360" cy="2844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52" name="Rectangle 469"/>
          <p:cNvSpPr/>
          <p:nvPr/>
        </p:nvSpPr>
        <p:spPr>
          <a:xfrm>
            <a:off x="8413920" y="6111720"/>
            <a:ext cx="1125360" cy="2088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53" name="Rectangle 470"/>
          <p:cNvSpPr/>
          <p:nvPr/>
        </p:nvSpPr>
        <p:spPr>
          <a:xfrm>
            <a:off x="8413920" y="6132600"/>
            <a:ext cx="1125360" cy="302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54" name="Rectangle 471"/>
          <p:cNvSpPr/>
          <p:nvPr/>
        </p:nvSpPr>
        <p:spPr>
          <a:xfrm>
            <a:off x="8413920" y="6162840"/>
            <a:ext cx="1125360" cy="42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55" name="Rectangle 472"/>
          <p:cNvSpPr/>
          <p:nvPr/>
        </p:nvSpPr>
        <p:spPr>
          <a:xfrm>
            <a:off x="8413920" y="6205680"/>
            <a:ext cx="1125360" cy="284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56" name="Rectangle 473"/>
          <p:cNvSpPr/>
          <p:nvPr/>
        </p:nvSpPr>
        <p:spPr>
          <a:xfrm>
            <a:off x="8413920" y="6234120"/>
            <a:ext cx="1125360" cy="2232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57" name="Rectangle 474"/>
          <p:cNvSpPr/>
          <p:nvPr/>
        </p:nvSpPr>
        <p:spPr>
          <a:xfrm>
            <a:off x="8413920" y="6256440"/>
            <a:ext cx="1125360" cy="2844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58" name="Rectangle 475"/>
          <p:cNvSpPr/>
          <p:nvPr/>
        </p:nvSpPr>
        <p:spPr>
          <a:xfrm>
            <a:off x="8413920" y="6284880"/>
            <a:ext cx="1125360" cy="205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59" name="Rectangle 476"/>
          <p:cNvSpPr/>
          <p:nvPr/>
        </p:nvSpPr>
        <p:spPr>
          <a:xfrm>
            <a:off x="8413920" y="6305400"/>
            <a:ext cx="1125360" cy="302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60" name="Rectangle 477"/>
          <p:cNvSpPr/>
          <p:nvPr/>
        </p:nvSpPr>
        <p:spPr>
          <a:xfrm>
            <a:off x="8413920" y="6335640"/>
            <a:ext cx="1125360" cy="20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61" name="Rectangle 478"/>
          <p:cNvSpPr/>
          <p:nvPr/>
        </p:nvSpPr>
        <p:spPr>
          <a:xfrm>
            <a:off x="8413920" y="6356520"/>
            <a:ext cx="1125360" cy="219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62" name="Rectangle 479"/>
          <p:cNvSpPr/>
          <p:nvPr/>
        </p:nvSpPr>
        <p:spPr>
          <a:xfrm>
            <a:off x="8413920" y="6378480"/>
            <a:ext cx="1125360" cy="648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63" name="Rectangle 480"/>
          <p:cNvSpPr/>
          <p:nvPr/>
        </p:nvSpPr>
        <p:spPr>
          <a:xfrm>
            <a:off x="8424720" y="6002280"/>
            <a:ext cx="1103400" cy="380880"/>
          </a:xfrm>
          <a:prstGeom prst="rect">
            <a:avLst/>
          </a:prstGeom>
          <a:noFill/>
          <a:ln cap="rnd" w="1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64" name="Freeform 481"/>
          <p:cNvSpPr/>
          <p:nvPr/>
        </p:nvSpPr>
        <p:spPr>
          <a:xfrm>
            <a:off x="8505720" y="6002280"/>
            <a:ext cx="939960" cy="380880"/>
          </a:xfrm>
          <a:custGeom>
            <a:avLst/>
            <a:gdLst/>
            <a:ahLst/>
            <a:rect l="l" t="t" r="r" b="b"/>
            <a:pathLst>
              <a:path w="592" h="240">
                <a:moveTo>
                  <a:pt x="0" y="240"/>
                </a:moveTo>
                <a:lnTo>
                  <a:pt x="0" y="0"/>
                </a:lnTo>
                <a:moveTo>
                  <a:pt x="592" y="240"/>
                </a:moveTo>
                <a:lnTo>
                  <a:pt x="592" y="0"/>
                </a:lnTo>
              </a:path>
            </a:pathLst>
          </a:custGeom>
          <a:noFill/>
          <a:ln cap="rnd" w="1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65" name="Rectangle 482"/>
          <p:cNvSpPr/>
          <p:nvPr/>
        </p:nvSpPr>
        <p:spPr>
          <a:xfrm>
            <a:off x="8670600" y="6024600"/>
            <a:ext cx="689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Calibri"/>
              </a:rPr>
              <a:t>DeclRefExpr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66" name="Rectangle 483"/>
          <p:cNvSpPr/>
          <p:nvPr/>
        </p:nvSpPr>
        <p:spPr>
          <a:xfrm>
            <a:off x="8845560" y="618336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67" name="Rectangle 484"/>
          <p:cNvSpPr/>
          <p:nvPr/>
        </p:nvSpPr>
        <p:spPr>
          <a:xfrm>
            <a:off x="8873640" y="618336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Calibri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68" name="Rectangle 485"/>
          <p:cNvSpPr/>
          <p:nvPr/>
        </p:nvSpPr>
        <p:spPr>
          <a:xfrm>
            <a:off x="8912160" y="6183360"/>
            <a:ext cx="63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Calibri"/>
              </a:rPr>
              <a:t>' 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69" name="Rectangle 486"/>
          <p:cNvSpPr/>
          <p:nvPr/>
        </p:nvSpPr>
        <p:spPr>
          <a:xfrm>
            <a:off x="8967960" y="618336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70" name="Rectangle 487"/>
          <p:cNvSpPr/>
          <p:nvPr/>
        </p:nvSpPr>
        <p:spPr>
          <a:xfrm>
            <a:off x="8996760" y="6183360"/>
            <a:ext cx="15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int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71" name="Rectangle 488"/>
          <p:cNvSpPr/>
          <p:nvPr/>
        </p:nvSpPr>
        <p:spPr>
          <a:xfrm>
            <a:off x="9148680" y="618336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72" name="Freeform 489"/>
          <p:cNvSpPr/>
          <p:nvPr/>
        </p:nvSpPr>
        <p:spPr>
          <a:xfrm>
            <a:off x="7763040" y="6049800"/>
            <a:ext cx="609480" cy="142920"/>
          </a:xfrm>
          <a:custGeom>
            <a:avLst/>
            <a:gdLst/>
            <a:ahLst/>
            <a:rect l="l" t="t" r="r" b="b"/>
            <a:pathLst>
              <a:path w="384" h="90">
                <a:moveTo>
                  <a:pt x="0" y="0"/>
                </a:moveTo>
                <a:lnTo>
                  <a:pt x="0" y="90"/>
                </a:lnTo>
                <a:lnTo>
                  <a:pt x="384" y="90"/>
                </a:lnTo>
              </a:path>
            </a:pathLst>
          </a:custGeom>
          <a:noFill/>
          <a:ln cap="rnd"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73" name="Freeform 490"/>
          <p:cNvSpPr/>
          <p:nvPr/>
        </p:nvSpPr>
        <p:spPr>
          <a:xfrm>
            <a:off x="8356680" y="6159600"/>
            <a:ext cx="68040" cy="666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50" y="75"/>
                </a:moveTo>
                <a:lnTo>
                  <a:pt x="0" y="150"/>
                </a:lnTo>
                <a:cubicBezTo>
                  <a:pt x="24" y="103"/>
                  <a:pt x="24" y="47"/>
                  <a:pt x="0" y="0"/>
                </a:cubicBezTo>
                <a:lnTo>
                  <a:pt x="150" y="75"/>
                </a:lnTo>
                <a:close/>
              </a:path>
            </a:pathLst>
          </a:custGeom>
          <a:solidFill>
            <a:srgbClr val="4040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74" name="Rectangle 491"/>
          <p:cNvSpPr/>
          <p:nvPr/>
        </p:nvSpPr>
        <p:spPr>
          <a:xfrm>
            <a:off x="7224840" y="5189400"/>
            <a:ext cx="1109520" cy="3812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975" name="Picture 492" descr=""/>
          <p:cNvPicPr/>
          <p:nvPr/>
        </p:nvPicPr>
        <p:blipFill>
          <a:blip r:embed="rId14"/>
          <a:stretch/>
        </p:blipFill>
        <p:spPr>
          <a:xfrm>
            <a:off x="7224840" y="5191200"/>
            <a:ext cx="1104840" cy="380880"/>
          </a:xfrm>
          <a:prstGeom prst="rect">
            <a:avLst/>
          </a:prstGeom>
          <a:ln w="0">
            <a:noFill/>
          </a:ln>
        </p:spPr>
      </p:pic>
      <p:sp>
        <p:nvSpPr>
          <p:cNvPr id="976" name="Rectangle 493"/>
          <p:cNvSpPr/>
          <p:nvPr/>
        </p:nvSpPr>
        <p:spPr>
          <a:xfrm>
            <a:off x="7224840" y="5189400"/>
            <a:ext cx="1109520" cy="3812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77" name="Rectangle 494"/>
          <p:cNvSpPr/>
          <p:nvPr/>
        </p:nvSpPr>
        <p:spPr>
          <a:xfrm>
            <a:off x="7216920" y="5181480"/>
            <a:ext cx="1125360" cy="3970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78" name="Freeform 495"/>
          <p:cNvSpPr/>
          <p:nvPr/>
        </p:nvSpPr>
        <p:spPr>
          <a:xfrm>
            <a:off x="7221600" y="5187960"/>
            <a:ext cx="1111320" cy="388800"/>
          </a:xfrm>
          <a:custGeom>
            <a:avLst/>
            <a:gdLst/>
            <a:ahLst/>
            <a:rect l="l" t="t" r="r" b="b"/>
            <a:pathLst>
              <a:path w="2465" h="862">
                <a:moveTo>
                  <a:pt x="8" y="846"/>
                </a:moveTo>
                <a:lnTo>
                  <a:pt x="2457" y="846"/>
                </a:lnTo>
                <a:lnTo>
                  <a:pt x="2449" y="854"/>
                </a:lnTo>
                <a:lnTo>
                  <a:pt x="2449" y="8"/>
                </a:lnTo>
                <a:lnTo>
                  <a:pt x="2457" y="16"/>
                </a:lnTo>
                <a:lnTo>
                  <a:pt x="8" y="16"/>
                </a:lnTo>
                <a:lnTo>
                  <a:pt x="16" y="8"/>
                </a:lnTo>
                <a:lnTo>
                  <a:pt x="16" y="854"/>
                </a:lnTo>
                <a:cubicBezTo>
                  <a:pt x="16" y="859"/>
                  <a:pt x="12" y="862"/>
                  <a:pt x="8" y="862"/>
                </a:cubicBezTo>
                <a:cubicBezTo>
                  <a:pt x="4" y="862"/>
                  <a:pt x="0" y="859"/>
                  <a:pt x="0" y="854"/>
                </a:cubicBezTo>
                <a:lnTo>
                  <a:pt x="0" y="8"/>
                </a:lnTo>
                <a:cubicBezTo>
                  <a:pt x="0" y="3"/>
                  <a:pt x="4" y="0"/>
                  <a:pt x="8" y="0"/>
                </a:cubicBezTo>
                <a:lnTo>
                  <a:pt x="2457" y="0"/>
                </a:lnTo>
                <a:cubicBezTo>
                  <a:pt x="2462" y="0"/>
                  <a:pt x="2465" y="3"/>
                  <a:pt x="2465" y="8"/>
                </a:cubicBezTo>
                <a:lnTo>
                  <a:pt x="2465" y="854"/>
                </a:lnTo>
                <a:cubicBezTo>
                  <a:pt x="2465" y="859"/>
                  <a:pt x="2462" y="862"/>
                  <a:pt x="2457" y="862"/>
                </a:cubicBezTo>
                <a:lnTo>
                  <a:pt x="8" y="862"/>
                </a:lnTo>
                <a:cubicBezTo>
                  <a:pt x="4" y="862"/>
                  <a:pt x="0" y="859"/>
                  <a:pt x="0" y="854"/>
                </a:cubicBezTo>
                <a:cubicBezTo>
                  <a:pt x="0" y="850"/>
                  <a:pt x="4" y="846"/>
                  <a:pt x="8" y="846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79" name="Rectangle 496"/>
          <p:cNvSpPr/>
          <p:nvPr/>
        </p:nvSpPr>
        <p:spPr>
          <a:xfrm>
            <a:off x="7216920" y="5181480"/>
            <a:ext cx="1125360" cy="3970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80" name="Rectangle 497"/>
          <p:cNvSpPr/>
          <p:nvPr/>
        </p:nvSpPr>
        <p:spPr>
          <a:xfrm>
            <a:off x="7304040" y="5181480"/>
            <a:ext cx="959040" cy="3970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81" name="Freeform 498"/>
          <p:cNvSpPr/>
          <p:nvPr/>
        </p:nvSpPr>
        <p:spPr>
          <a:xfrm>
            <a:off x="7304040" y="5187960"/>
            <a:ext cx="947880" cy="388800"/>
          </a:xfrm>
          <a:custGeom>
            <a:avLst/>
            <a:gdLst/>
            <a:ahLst/>
            <a:rect l="l" t="t" r="r" b="b"/>
            <a:pathLst>
              <a:path w="2103" h="862">
                <a:moveTo>
                  <a:pt x="0" y="854"/>
                </a:moveTo>
                <a:lnTo>
                  <a:pt x="0" y="8"/>
                </a:lnTo>
                <a:cubicBezTo>
                  <a:pt x="0" y="3"/>
                  <a:pt x="4" y="0"/>
                  <a:pt x="8" y="0"/>
                </a:cubicBezTo>
                <a:cubicBezTo>
                  <a:pt x="13" y="0"/>
                  <a:pt x="16" y="3"/>
                  <a:pt x="16" y="8"/>
                </a:cubicBezTo>
                <a:lnTo>
                  <a:pt x="16" y="854"/>
                </a:lnTo>
                <a:cubicBezTo>
                  <a:pt x="16" y="859"/>
                  <a:pt x="13" y="862"/>
                  <a:pt x="8" y="862"/>
                </a:cubicBezTo>
                <a:cubicBezTo>
                  <a:pt x="4" y="862"/>
                  <a:pt x="0" y="859"/>
                  <a:pt x="0" y="854"/>
                </a:cubicBezTo>
                <a:close/>
                <a:moveTo>
                  <a:pt x="2087" y="854"/>
                </a:moveTo>
                <a:lnTo>
                  <a:pt x="2087" y="8"/>
                </a:lnTo>
                <a:cubicBezTo>
                  <a:pt x="2087" y="3"/>
                  <a:pt x="2090" y="0"/>
                  <a:pt x="2095" y="0"/>
                </a:cubicBezTo>
                <a:cubicBezTo>
                  <a:pt x="2099" y="0"/>
                  <a:pt x="2103" y="3"/>
                  <a:pt x="2103" y="8"/>
                </a:cubicBezTo>
                <a:lnTo>
                  <a:pt x="2103" y="854"/>
                </a:lnTo>
                <a:cubicBezTo>
                  <a:pt x="2103" y="859"/>
                  <a:pt x="2099" y="862"/>
                  <a:pt x="2095" y="862"/>
                </a:cubicBezTo>
                <a:cubicBezTo>
                  <a:pt x="2090" y="862"/>
                  <a:pt x="2087" y="859"/>
                  <a:pt x="2087" y="854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82" name="Rectangle 499"/>
          <p:cNvSpPr/>
          <p:nvPr/>
        </p:nvSpPr>
        <p:spPr>
          <a:xfrm>
            <a:off x="7304040" y="5181480"/>
            <a:ext cx="959040" cy="3970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83" name="Rectangle 500"/>
          <p:cNvSpPr/>
          <p:nvPr/>
        </p:nvSpPr>
        <p:spPr>
          <a:xfrm>
            <a:off x="7202520" y="5167440"/>
            <a:ext cx="1123920" cy="61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84" name="Rectangle 501"/>
          <p:cNvSpPr/>
          <p:nvPr/>
        </p:nvSpPr>
        <p:spPr>
          <a:xfrm>
            <a:off x="7202520" y="5173560"/>
            <a:ext cx="112392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85" name="Rectangle 502"/>
          <p:cNvSpPr/>
          <p:nvPr/>
        </p:nvSpPr>
        <p:spPr>
          <a:xfrm>
            <a:off x="7202520" y="5189400"/>
            <a:ext cx="1123920" cy="2088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86" name="Rectangle 503"/>
          <p:cNvSpPr/>
          <p:nvPr/>
        </p:nvSpPr>
        <p:spPr>
          <a:xfrm>
            <a:off x="7202520" y="5210280"/>
            <a:ext cx="1123920" cy="219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87" name="Rectangle 504"/>
          <p:cNvSpPr/>
          <p:nvPr/>
        </p:nvSpPr>
        <p:spPr>
          <a:xfrm>
            <a:off x="7202520" y="5232240"/>
            <a:ext cx="1123920" cy="2880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88" name="Rectangle 505"/>
          <p:cNvSpPr/>
          <p:nvPr/>
        </p:nvSpPr>
        <p:spPr>
          <a:xfrm>
            <a:off x="7202520" y="5261040"/>
            <a:ext cx="1123920" cy="2232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89" name="Rectangle 506"/>
          <p:cNvSpPr/>
          <p:nvPr/>
        </p:nvSpPr>
        <p:spPr>
          <a:xfrm>
            <a:off x="7202520" y="5283360"/>
            <a:ext cx="1123920" cy="2844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90" name="Rectangle 507"/>
          <p:cNvSpPr/>
          <p:nvPr/>
        </p:nvSpPr>
        <p:spPr>
          <a:xfrm>
            <a:off x="7202520" y="5311800"/>
            <a:ext cx="1123920" cy="2052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91" name="Rectangle 508"/>
          <p:cNvSpPr/>
          <p:nvPr/>
        </p:nvSpPr>
        <p:spPr>
          <a:xfrm>
            <a:off x="7202520" y="5332320"/>
            <a:ext cx="1123920" cy="507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92" name="Rectangle 509"/>
          <p:cNvSpPr/>
          <p:nvPr/>
        </p:nvSpPr>
        <p:spPr>
          <a:xfrm>
            <a:off x="7202520" y="5383080"/>
            <a:ext cx="1123920" cy="2880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93" name="Rectangle 510"/>
          <p:cNvSpPr/>
          <p:nvPr/>
        </p:nvSpPr>
        <p:spPr>
          <a:xfrm>
            <a:off x="7202520" y="5411880"/>
            <a:ext cx="1123920" cy="2196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94" name="Rectangle 511"/>
          <p:cNvSpPr/>
          <p:nvPr/>
        </p:nvSpPr>
        <p:spPr>
          <a:xfrm>
            <a:off x="7202520" y="5433840"/>
            <a:ext cx="1123920" cy="223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95" name="Rectangle 512"/>
          <p:cNvSpPr/>
          <p:nvPr/>
        </p:nvSpPr>
        <p:spPr>
          <a:xfrm>
            <a:off x="7202520" y="5456160"/>
            <a:ext cx="1123920" cy="2880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96" name="Rectangle 513"/>
          <p:cNvSpPr/>
          <p:nvPr/>
        </p:nvSpPr>
        <p:spPr>
          <a:xfrm>
            <a:off x="7202520" y="5484960"/>
            <a:ext cx="1123920" cy="2052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97" name="Rectangle 514"/>
          <p:cNvSpPr/>
          <p:nvPr/>
        </p:nvSpPr>
        <p:spPr>
          <a:xfrm>
            <a:off x="7202520" y="5505480"/>
            <a:ext cx="1123920" cy="30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98" name="Rectangle 515"/>
          <p:cNvSpPr/>
          <p:nvPr/>
        </p:nvSpPr>
        <p:spPr>
          <a:xfrm>
            <a:off x="7202520" y="5535720"/>
            <a:ext cx="1123920" cy="205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99" name="Rectangle 516"/>
          <p:cNvSpPr/>
          <p:nvPr/>
        </p:nvSpPr>
        <p:spPr>
          <a:xfrm>
            <a:off x="7202520" y="5556240"/>
            <a:ext cx="1123920" cy="79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00" name="Rectangle 517"/>
          <p:cNvSpPr/>
          <p:nvPr/>
        </p:nvSpPr>
        <p:spPr>
          <a:xfrm>
            <a:off x="7211880" y="5176800"/>
            <a:ext cx="1103400" cy="382680"/>
          </a:xfrm>
          <a:prstGeom prst="rect">
            <a:avLst/>
          </a:prstGeom>
          <a:noFill/>
          <a:ln cap="rnd" w="1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01" name="Freeform 518"/>
          <p:cNvSpPr/>
          <p:nvPr/>
        </p:nvSpPr>
        <p:spPr>
          <a:xfrm>
            <a:off x="7292880" y="5176800"/>
            <a:ext cx="939960" cy="382680"/>
          </a:xfrm>
          <a:custGeom>
            <a:avLst/>
            <a:gdLst/>
            <a:ahLst/>
            <a:rect l="l" t="t" r="r" b="b"/>
            <a:pathLst>
              <a:path w="592" h="241">
                <a:moveTo>
                  <a:pt x="0" y="241"/>
                </a:moveTo>
                <a:lnTo>
                  <a:pt x="0" y="0"/>
                </a:lnTo>
                <a:moveTo>
                  <a:pt x="592" y="241"/>
                </a:moveTo>
                <a:lnTo>
                  <a:pt x="592" y="0"/>
                </a:lnTo>
              </a:path>
            </a:pathLst>
          </a:custGeom>
          <a:noFill/>
          <a:ln cap="rnd" w="1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02" name="Rectangle 519"/>
          <p:cNvSpPr/>
          <p:nvPr/>
        </p:nvSpPr>
        <p:spPr>
          <a:xfrm>
            <a:off x="7459200" y="5195880"/>
            <a:ext cx="689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Calibri"/>
              </a:rPr>
              <a:t>DeclRefExpr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03" name="Rectangle 520"/>
          <p:cNvSpPr/>
          <p:nvPr/>
        </p:nvSpPr>
        <p:spPr>
          <a:xfrm>
            <a:off x="7481880" y="536112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04" name="Rectangle 521"/>
          <p:cNvSpPr/>
          <p:nvPr/>
        </p:nvSpPr>
        <p:spPr>
          <a:xfrm>
            <a:off x="7509960" y="5361120"/>
            <a:ext cx="34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Calibri"/>
              </a:rPr>
              <a:t>global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05" name="Rectangle 522"/>
          <p:cNvSpPr/>
          <p:nvPr/>
        </p:nvSpPr>
        <p:spPr>
          <a:xfrm>
            <a:off x="7843680" y="5361120"/>
            <a:ext cx="63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Calibri"/>
              </a:rPr>
              <a:t>' 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06" name="Rectangle 523"/>
          <p:cNvSpPr/>
          <p:nvPr/>
        </p:nvSpPr>
        <p:spPr>
          <a:xfrm>
            <a:off x="7907400" y="536112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07" name="Rectangle 524"/>
          <p:cNvSpPr/>
          <p:nvPr/>
        </p:nvSpPr>
        <p:spPr>
          <a:xfrm>
            <a:off x="7938000" y="5361120"/>
            <a:ext cx="15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int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08" name="Rectangle 525"/>
          <p:cNvSpPr/>
          <p:nvPr/>
        </p:nvSpPr>
        <p:spPr>
          <a:xfrm>
            <a:off x="8080560" y="536112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b050"/>
                </a:solidFill>
                <a:latin typeface="Calibri"/>
              </a:rPr>
              <a:t>'</a:t>
            </a:r>
            <a:endParaRPr b="0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09" name="Freeform 526"/>
          <p:cNvSpPr/>
          <p:nvPr/>
        </p:nvSpPr>
        <p:spPr>
          <a:xfrm>
            <a:off x="3790800" y="1432080"/>
            <a:ext cx="398520" cy="904680"/>
          </a:xfrm>
          <a:custGeom>
            <a:avLst/>
            <a:gdLst/>
            <a:ahLst/>
            <a:rect l="l" t="t" r="r" b="b"/>
            <a:pathLst>
              <a:path w="251" h="570">
                <a:moveTo>
                  <a:pt x="0" y="0"/>
                </a:moveTo>
                <a:lnTo>
                  <a:pt x="0" y="570"/>
                </a:lnTo>
                <a:lnTo>
                  <a:pt x="251" y="570"/>
                </a:lnTo>
              </a:path>
            </a:pathLst>
          </a:custGeom>
          <a:noFill/>
          <a:ln cap="rnd"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10" name="Freeform 527"/>
          <p:cNvSpPr/>
          <p:nvPr/>
        </p:nvSpPr>
        <p:spPr>
          <a:xfrm>
            <a:off x="4173480" y="2303640"/>
            <a:ext cx="68400" cy="6804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50" y="75"/>
                </a:moveTo>
                <a:lnTo>
                  <a:pt x="0" y="150"/>
                </a:lnTo>
                <a:cubicBezTo>
                  <a:pt x="23" y="103"/>
                  <a:pt x="23" y="47"/>
                  <a:pt x="0" y="0"/>
                </a:cubicBezTo>
                <a:lnTo>
                  <a:pt x="150" y="75"/>
                </a:lnTo>
                <a:close/>
              </a:path>
            </a:pathLst>
          </a:custGeom>
          <a:solidFill>
            <a:srgbClr val="4040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11" name="Freeform 528"/>
          <p:cNvSpPr/>
          <p:nvPr/>
        </p:nvSpPr>
        <p:spPr>
          <a:xfrm>
            <a:off x="3790800" y="1432080"/>
            <a:ext cx="398520" cy="1368360"/>
          </a:xfrm>
          <a:custGeom>
            <a:avLst/>
            <a:gdLst/>
            <a:ahLst/>
            <a:rect l="l" t="t" r="r" b="b"/>
            <a:pathLst>
              <a:path w="251" h="862">
                <a:moveTo>
                  <a:pt x="0" y="0"/>
                </a:moveTo>
                <a:lnTo>
                  <a:pt x="0" y="862"/>
                </a:lnTo>
                <a:lnTo>
                  <a:pt x="251" y="862"/>
                </a:lnTo>
              </a:path>
            </a:pathLst>
          </a:custGeom>
          <a:noFill/>
          <a:ln cap="rnd"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12" name="Freeform 529"/>
          <p:cNvSpPr/>
          <p:nvPr/>
        </p:nvSpPr>
        <p:spPr>
          <a:xfrm>
            <a:off x="4173480" y="2766960"/>
            <a:ext cx="68400" cy="666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50" y="75"/>
                </a:moveTo>
                <a:lnTo>
                  <a:pt x="0" y="150"/>
                </a:lnTo>
                <a:cubicBezTo>
                  <a:pt x="23" y="103"/>
                  <a:pt x="23" y="47"/>
                  <a:pt x="0" y="0"/>
                </a:cubicBezTo>
                <a:lnTo>
                  <a:pt x="150" y="75"/>
                </a:lnTo>
                <a:close/>
              </a:path>
            </a:pathLst>
          </a:custGeom>
          <a:solidFill>
            <a:srgbClr val="4040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13" name="Freeform 530"/>
          <p:cNvSpPr/>
          <p:nvPr/>
        </p:nvSpPr>
        <p:spPr>
          <a:xfrm>
            <a:off x="3790800" y="1432080"/>
            <a:ext cx="398520" cy="2703240"/>
          </a:xfrm>
          <a:custGeom>
            <a:avLst/>
            <a:gdLst/>
            <a:ahLst/>
            <a:rect l="l" t="t" r="r" b="b"/>
            <a:pathLst>
              <a:path w="251" h="1703">
                <a:moveTo>
                  <a:pt x="0" y="0"/>
                </a:moveTo>
                <a:lnTo>
                  <a:pt x="0" y="1703"/>
                </a:lnTo>
                <a:lnTo>
                  <a:pt x="251" y="1703"/>
                </a:lnTo>
              </a:path>
            </a:pathLst>
          </a:custGeom>
          <a:noFill/>
          <a:ln cap="rnd"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14" name="Freeform 531"/>
          <p:cNvSpPr/>
          <p:nvPr/>
        </p:nvSpPr>
        <p:spPr>
          <a:xfrm>
            <a:off x="4173480" y="4102200"/>
            <a:ext cx="68400" cy="666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50" y="75"/>
                </a:moveTo>
                <a:lnTo>
                  <a:pt x="0" y="150"/>
                </a:lnTo>
                <a:cubicBezTo>
                  <a:pt x="23" y="103"/>
                  <a:pt x="23" y="47"/>
                  <a:pt x="0" y="0"/>
                </a:cubicBezTo>
                <a:lnTo>
                  <a:pt x="150" y="75"/>
                </a:lnTo>
                <a:close/>
              </a:path>
            </a:pathLst>
          </a:custGeom>
          <a:solidFill>
            <a:srgbClr val="4040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15" name="Freeform 532"/>
          <p:cNvSpPr/>
          <p:nvPr/>
        </p:nvSpPr>
        <p:spPr>
          <a:xfrm>
            <a:off x="3790800" y="1432080"/>
            <a:ext cx="398520" cy="3446280"/>
          </a:xfrm>
          <a:custGeom>
            <a:avLst/>
            <a:gdLst/>
            <a:ahLst/>
            <a:rect l="l" t="t" r="r" b="b"/>
            <a:pathLst>
              <a:path w="251" h="2171">
                <a:moveTo>
                  <a:pt x="0" y="0"/>
                </a:moveTo>
                <a:lnTo>
                  <a:pt x="0" y="2171"/>
                </a:lnTo>
                <a:lnTo>
                  <a:pt x="251" y="2171"/>
                </a:lnTo>
              </a:path>
            </a:pathLst>
          </a:custGeom>
          <a:noFill/>
          <a:ln cap="rnd"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16" name="Freeform 533"/>
          <p:cNvSpPr/>
          <p:nvPr/>
        </p:nvSpPr>
        <p:spPr>
          <a:xfrm>
            <a:off x="4173480" y="4843440"/>
            <a:ext cx="68400" cy="684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50" y="75"/>
                </a:moveTo>
                <a:lnTo>
                  <a:pt x="0" y="150"/>
                </a:lnTo>
                <a:cubicBezTo>
                  <a:pt x="23" y="103"/>
                  <a:pt x="23" y="47"/>
                  <a:pt x="0" y="0"/>
                </a:cubicBezTo>
                <a:lnTo>
                  <a:pt x="150" y="75"/>
                </a:lnTo>
                <a:close/>
              </a:path>
            </a:pathLst>
          </a:custGeom>
          <a:solidFill>
            <a:srgbClr val="4040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17" name="Freeform 534"/>
          <p:cNvSpPr/>
          <p:nvPr/>
        </p:nvSpPr>
        <p:spPr>
          <a:xfrm>
            <a:off x="4765680" y="4973760"/>
            <a:ext cx="582480" cy="149040"/>
          </a:xfrm>
          <a:custGeom>
            <a:avLst/>
            <a:gdLst/>
            <a:ahLst/>
            <a:rect l="l" t="t" r="r" b="b"/>
            <a:pathLst>
              <a:path w="367" h="94">
                <a:moveTo>
                  <a:pt x="0" y="0"/>
                </a:moveTo>
                <a:lnTo>
                  <a:pt x="0" y="94"/>
                </a:lnTo>
                <a:lnTo>
                  <a:pt x="367" y="94"/>
                </a:lnTo>
              </a:path>
            </a:pathLst>
          </a:custGeom>
          <a:noFill/>
          <a:ln cap="rnd"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18" name="Freeform 535"/>
          <p:cNvSpPr/>
          <p:nvPr/>
        </p:nvSpPr>
        <p:spPr>
          <a:xfrm>
            <a:off x="5332320" y="5089680"/>
            <a:ext cx="66600" cy="666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50" y="75"/>
                </a:moveTo>
                <a:lnTo>
                  <a:pt x="0" y="150"/>
                </a:lnTo>
                <a:cubicBezTo>
                  <a:pt x="23" y="103"/>
                  <a:pt x="23" y="47"/>
                  <a:pt x="0" y="0"/>
                </a:cubicBezTo>
                <a:lnTo>
                  <a:pt x="150" y="75"/>
                </a:lnTo>
                <a:close/>
              </a:path>
            </a:pathLst>
          </a:custGeom>
          <a:solidFill>
            <a:srgbClr val="4040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19" name="Freeform 536"/>
          <p:cNvSpPr/>
          <p:nvPr/>
        </p:nvSpPr>
        <p:spPr>
          <a:xfrm>
            <a:off x="6251400" y="5313240"/>
            <a:ext cx="909720" cy="55800"/>
          </a:xfrm>
          <a:custGeom>
            <a:avLst/>
            <a:gdLst/>
            <a:ahLst/>
            <a:rect l="l" t="t" r="r" b="b"/>
            <a:pathLst>
              <a:path w="573" h="35">
                <a:moveTo>
                  <a:pt x="0" y="0"/>
                </a:moveTo>
                <a:lnTo>
                  <a:pt x="0" y="35"/>
                </a:lnTo>
                <a:lnTo>
                  <a:pt x="573" y="35"/>
                </a:lnTo>
              </a:path>
            </a:pathLst>
          </a:custGeom>
          <a:noFill/>
          <a:ln cap="rnd"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20" name="Freeform 537"/>
          <p:cNvSpPr/>
          <p:nvPr/>
        </p:nvSpPr>
        <p:spPr>
          <a:xfrm>
            <a:off x="7143840" y="5334120"/>
            <a:ext cx="68040" cy="6804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50" y="75"/>
                </a:moveTo>
                <a:lnTo>
                  <a:pt x="0" y="150"/>
                </a:lnTo>
                <a:cubicBezTo>
                  <a:pt x="24" y="103"/>
                  <a:pt x="24" y="48"/>
                  <a:pt x="0" y="0"/>
                </a:cubicBezTo>
                <a:lnTo>
                  <a:pt x="150" y="75"/>
                </a:lnTo>
                <a:close/>
              </a:path>
            </a:pathLst>
          </a:custGeom>
          <a:solidFill>
            <a:srgbClr val="4040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21" name="Freeform 538"/>
          <p:cNvSpPr/>
          <p:nvPr/>
        </p:nvSpPr>
        <p:spPr>
          <a:xfrm>
            <a:off x="6251400" y="5313240"/>
            <a:ext cx="909720" cy="546120"/>
          </a:xfrm>
          <a:custGeom>
            <a:avLst/>
            <a:gdLst/>
            <a:ahLst/>
            <a:rect l="l" t="t" r="r" b="b"/>
            <a:pathLst>
              <a:path w="573" h="344">
                <a:moveTo>
                  <a:pt x="0" y="0"/>
                </a:moveTo>
                <a:lnTo>
                  <a:pt x="0" y="344"/>
                </a:lnTo>
                <a:lnTo>
                  <a:pt x="573" y="344"/>
                </a:lnTo>
              </a:path>
            </a:pathLst>
          </a:custGeom>
          <a:noFill/>
          <a:ln cap="rnd"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22" name="Freeform 539"/>
          <p:cNvSpPr/>
          <p:nvPr/>
        </p:nvSpPr>
        <p:spPr>
          <a:xfrm>
            <a:off x="7143840" y="5824440"/>
            <a:ext cx="68040" cy="684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50" y="75"/>
                </a:moveTo>
                <a:lnTo>
                  <a:pt x="0" y="150"/>
                </a:lnTo>
                <a:cubicBezTo>
                  <a:pt x="24" y="103"/>
                  <a:pt x="24" y="47"/>
                  <a:pt x="0" y="0"/>
                </a:cubicBezTo>
                <a:lnTo>
                  <a:pt x="150" y="75"/>
                </a:lnTo>
                <a:close/>
              </a:path>
            </a:pathLst>
          </a:custGeom>
          <a:solidFill>
            <a:srgbClr val="40404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cxnSp>
        <p:nvCxnSpPr>
          <p:cNvPr id="1023" name="직선 화살표 연결선 3"/>
          <p:cNvCxnSpPr/>
          <p:nvPr/>
        </p:nvCxnSpPr>
        <p:spPr>
          <a:xfrm flipH="1">
            <a:off x="6878160" y="4568400"/>
            <a:ext cx="248400" cy="281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24" name="직사각형 4"/>
          <p:cNvSpPr/>
          <p:nvPr/>
        </p:nvSpPr>
        <p:spPr>
          <a:xfrm>
            <a:off x="7016760" y="674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777960" indent="-298440"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25" name="TextBox 562"/>
          <p:cNvSpPr/>
          <p:nvPr/>
        </p:nvSpPr>
        <p:spPr>
          <a:xfrm>
            <a:off x="6593040" y="1077840"/>
            <a:ext cx="2801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myPrint(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수의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lang AST tree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각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T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노드를 탐색하면서 포인터 참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수에 대한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+, -, *, &lt;&lt;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산 노드를 방문할 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우 해당 노드에 맞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(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문 삽입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26" name="Text Box 177"/>
          <p:cNvSpPr/>
          <p:nvPr/>
        </p:nvSpPr>
        <p:spPr>
          <a:xfrm>
            <a:off x="57240" y="3032280"/>
            <a:ext cx="35384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lang/LLVM 3.4 C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 프레임워크 사용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T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탐색 및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()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문 삽입을 위해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00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라인 규모의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++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코드 작성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슬라이드 번호 개체 틀 3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DC87-9BFA-49E9-AD2D-3F49524D690C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22200" y="728640"/>
          <a:ext cx="9286920" cy="4829040"/>
        </p:xfrm>
        <a:graphic>
          <a:graphicData uri="http://schemas.openxmlformats.org/drawingml/2006/table">
            <a:tbl>
              <a:tblPr/>
              <a:tblGrid>
                <a:gridCol w="1432080"/>
                <a:gridCol w="2790720"/>
                <a:gridCol w="2071800"/>
                <a:gridCol w="2992320"/>
              </a:tblGrid>
              <a:tr h="528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 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ce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  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ce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   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ce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  메  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cefff"/>
                    </a:solidFill>
                  </a:tcPr>
                </a:tc>
              </a:tr>
              <a:tr h="84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책임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AIST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산학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김문주 교수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onzoo@cs.kaist.ac.k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무책임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AIST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산학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김윤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박사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후 연구원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unho.kim03@gmail.c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3016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연구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AIST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산학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봉석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박사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sko5006@gmail.c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AIST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산학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김현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석사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yunooudy@gmail.c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AIST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산학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현수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석사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ookman1209@gmail.c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Rectangle 685"/>
          <p:cNvSpPr/>
          <p:nvPr/>
        </p:nvSpPr>
        <p:spPr>
          <a:xfrm>
            <a:off x="125280" y="9360"/>
            <a:ext cx="97045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▣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여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원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A78A-2839-4873-BB55-5381996A4AF6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28" name="AutoShape 45"/>
          <p:cNvSpPr/>
          <p:nvPr/>
        </p:nvSpPr>
        <p:spPr>
          <a:xfrm>
            <a:off x="264960" y="638280"/>
            <a:ext cx="9428400" cy="404640"/>
          </a:xfrm>
          <a:prstGeom prst="roundRect">
            <a:avLst>
              <a:gd name="adj" fmla="val 10718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ger Under/Overflow Assertion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 실행 결과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29" name="Rectangle 179"/>
          <p:cNvSpPr/>
          <p:nvPr/>
        </p:nvSpPr>
        <p:spPr>
          <a:xfrm>
            <a:off x="125280" y="6480"/>
            <a:ext cx="97045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연구내용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30" name="Text Box 177"/>
          <p:cNvSpPr/>
          <p:nvPr/>
        </p:nvSpPr>
        <p:spPr>
          <a:xfrm>
            <a:off x="317520" y="1355760"/>
            <a:ext cx="92185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MC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선정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함수에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nder/overflow assertion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 결과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수 당 평균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라인 삽입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2" marL="1047600" indent="-2286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UN_Get_Lookup_1DInterpol_Exterpol, FUN_Get_Lookup_1DInterpol_NearVal, FUN_Get_Sqrt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수는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loating-point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산을 수행해서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ger overflow assertion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 미적용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1031" name=""/>
          <p:cNvGraphicFramePr/>
          <p:nvPr/>
        </p:nvGraphicFramePr>
        <p:xfrm>
          <a:off x="317520" y="3606840"/>
          <a:ext cx="9315360" cy="2857320"/>
        </p:xfrm>
        <a:graphic>
          <a:graphicData uri="http://schemas.openxmlformats.org/drawingml/2006/table">
            <a:tbl>
              <a:tblPr/>
              <a:tblGrid>
                <a:gridCol w="2867040"/>
                <a:gridCol w="603360"/>
                <a:gridCol w="1415880"/>
                <a:gridCol w="2214720"/>
                <a:gridCol w="2214360"/>
              </a:tblGrid>
              <a:tr h="191880"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겟 함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o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삽입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ssertio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ssertion Violatio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겟 함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겟 함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위 호출 함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dd_int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t64_Multiply_u32_u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ubtract_int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FUN_Get_Lookup_1DInterpol_Exterp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FUN_Get_Lookup_1DInterpol_Near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FUN_Get_Sq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평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6D89-1E18-4701-99DE-2F1A3B166EC0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33" name="AutoShape 45"/>
          <p:cNvSpPr/>
          <p:nvPr/>
        </p:nvSpPr>
        <p:spPr>
          <a:xfrm>
            <a:off x="264960" y="638280"/>
            <a:ext cx="9428400" cy="404640"/>
          </a:xfrm>
          <a:prstGeom prst="roundRect">
            <a:avLst>
              <a:gd name="adj" fmla="val 10718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ion violation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 라인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34" name="Rectangle 179"/>
          <p:cNvSpPr/>
          <p:nvPr/>
        </p:nvSpPr>
        <p:spPr>
          <a:xfrm>
            <a:off x="125280" y="6480"/>
            <a:ext cx="97045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연구내용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35" name="Text Box 177"/>
          <p:cNvSpPr/>
          <p:nvPr/>
        </p:nvSpPr>
        <p:spPr>
          <a:xfrm>
            <a:off x="317520" y="1087560"/>
            <a:ext cx="92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타겟 함수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dd_int64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서 발생한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ion violation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라인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36" name="직사각형 6"/>
          <p:cNvSpPr/>
          <p:nvPr/>
        </p:nvSpPr>
        <p:spPr>
          <a:xfrm>
            <a:off x="409680" y="2108160"/>
            <a:ext cx="4302000" cy="44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void Add_int64(int64_Data * Result,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int64_Data * op1_v, int64_Data * op2_v)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int32_t signFlag = 1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int64_Data * FirstOp = 0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int64_Data * SecondOp = 0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uint32_t TempValue = 0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// False alarm: SignFlag can be either 1 or -1.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Calibri"/>
              </a:rPr>
              <a:t>int16_t equalSign = (*op1_v).SignFlag*(*op2_v).SignFlag;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FirstOp = op1_v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SecondOp = op2_v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switch(equalSign)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case 1: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if(((*op1_v).SignFlag == 1) &amp;&amp; ((*op2_v).SignFlag == 1))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signFlag = 1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FirstOp = op1_v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SecondOp = op2_v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37" name="직사각형 7"/>
          <p:cNvSpPr/>
          <p:nvPr/>
        </p:nvSpPr>
        <p:spPr>
          <a:xfrm>
            <a:off x="4773600" y="2108160"/>
            <a:ext cx="4589640" cy="44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else if(((*op1_v).SignFlag == -1) &amp;&amp; ((*op2_v).SignFlag == -1))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signFlag = -1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FirstOp = op1_v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SecondOp = op2_v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//No Value Changed;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// Intentional overflow: 841-844 handles a carry value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ko-KR" sz="1200" spc="-1" strike="noStrike">
                <a:solidFill>
                  <a:srgbClr val="ff0000"/>
                </a:solidFill>
                <a:latin typeface="Calibri"/>
              </a:rPr>
              <a:t>(*Result).Lower =(*FirstOp).Lower + (*SecondOp).Lower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if(((*Result).Lower &lt; (*FirstOp).Lower) ||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((*Result).Lower &lt; (*SecondOp).Lower))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TempValue = 1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// Real bug???  Overflow carry bit is missing.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ko-KR" sz="1200" spc="-1" strike="noStrike">
                <a:solidFill>
                  <a:srgbClr val="ff0000"/>
                </a:solidFill>
                <a:latin typeface="Calibri"/>
              </a:rPr>
              <a:t>(*Result).Upper = (*FirstOp).Upper + (*SecondOp).Upper + TempValue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…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38" name="TextBox 10"/>
          <p:cNvSpPr/>
          <p:nvPr/>
        </p:nvSpPr>
        <p:spPr>
          <a:xfrm>
            <a:off x="325440" y="1531800"/>
            <a:ext cx="54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DC_Lib.c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파라미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ult, op1_v, op_2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해 심볼릭 선언 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F2B7-2BCE-4BD3-9CBB-560B80976C91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40" name="AutoShape 45"/>
          <p:cNvSpPr/>
          <p:nvPr/>
        </p:nvSpPr>
        <p:spPr>
          <a:xfrm>
            <a:off x="264960" y="638280"/>
            <a:ext cx="9428400" cy="404640"/>
          </a:xfrm>
          <a:prstGeom prst="roundRect">
            <a:avLst>
              <a:gd name="adj" fmla="val 10718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ion violation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보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41" name="Rectangle 179"/>
          <p:cNvSpPr/>
          <p:nvPr/>
        </p:nvSpPr>
        <p:spPr>
          <a:xfrm>
            <a:off x="125280" y="6480"/>
            <a:ext cx="97045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연구내용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42" name="Text Box 177"/>
          <p:cNvSpPr/>
          <p:nvPr/>
        </p:nvSpPr>
        <p:spPr>
          <a:xfrm>
            <a:off x="317520" y="1087560"/>
            <a:ext cx="921852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dd_int64: 3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의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ion violation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704880" indent="-34308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DC_Lib.c, 813 Line (Add_int64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수 내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047600" indent="-2286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13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ine: </a:t>
            </a:r>
            <a:r>
              <a:rPr b="0" lang="da-DK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16_t equalSign = (*op1_v).SignFlag*(*op2_v).SignFlag;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2" marL="1047600" indent="-2286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*op1_v).SignFlag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값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-23232, </a:t>
            </a:r>
            <a:r>
              <a:rPr b="0" lang="da-DK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*op2_v).SignFlag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값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-20481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 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곱셈 연산에서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ver/Underflow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704880" indent="-34308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DC_Lib.c, 839 Line (Add_int64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수 내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047600" indent="-2286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39 line: (*Result).Lower =(*FirstOp).Lower + (*SecondOp).Lower;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2" marL="1047600" indent="-2286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*FirstOp).Lower</a:t>
            </a:r>
            <a:r>
              <a:rPr b="0" lang="da-DK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값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4294901760, (*SecondOp).Lower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값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4293853184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 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덧셈 연산에서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ver/Underflow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704880" indent="-34308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DC_Lib.c, 846 Line (Add_int64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수 내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047600" indent="-2286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46 line: (*Result).Upper = (*FirstOp).Upper + (*SecondOp).Upper + TempValue;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2" marL="1047600" indent="-2286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*FirstOp).Upper</a:t>
            </a:r>
            <a:r>
              <a:rPr b="0" lang="da-DK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값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2147483647, (*SecondOp).Upper</a:t>
            </a:r>
            <a:r>
              <a:rPr b="0" lang="da-DK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값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3221225472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 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덧셈 연산에서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ver/Underflow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6AD4-540A-4B59-A1ED-0C1225E4546D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44" name="AutoShape 45"/>
          <p:cNvSpPr/>
          <p:nvPr/>
        </p:nvSpPr>
        <p:spPr>
          <a:xfrm>
            <a:off x="264960" y="638280"/>
            <a:ext cx="9428400" cy="404640"/>
          </a:xfrm>
          <a:prstGeom prst="roundRect">
            <a:avLst>
              <a:gd name="adj" fmla="val 10718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ion violation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 라인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45" name="Rectangle 179"/>
          <p:cNvSpPr/>
          <p:nvPr/>
        </p:nvSpPr>
        <p:spPr>
          <a:xfrm>
            <a:off x="125280" y="6480"/>
            <a:ext cx="97045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연구내용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46" name="Text Box 177"/>
          <p:cNvSpPr/>
          <p:nvPr/>
        </p:nvSpPr>
        <p:spPr>
          <a:xfrm>
            <a:off x="317520" y="1087560"/>
            <a:ext cx="92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타겟 함수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ubtract_int64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서 발생한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ion violation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라인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47" name="직사각형 6"/>
          <p:cNvSpPr/>
          <p:nvPr/>
        </p:nvSpPr>
        <p:spPr>
          <a:xfrm>
            <a:off x="409680" y="2108160"/>
            <a:ext cx="4302000" cy="465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id Subtract_int64(int64_Data * Resul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t64_Data * op1_v, int64_Data * op2_v)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32_t signFlag = 1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64_Data * FirstOp = 0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64_Data * SecondOp = 0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int32_t TempValue = 0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16_t equalSign;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*op2_v).SignFlag *= -1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equalSign = (*op1_v).SignFlag*(*op2_v).SignFlag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Op = op1_v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Op = op2_v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(equalSign)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1: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(((*op1_v).SignFlag == 1) &amp;&amp; ((*op2_v).SignFlag == 1))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Flag = 1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Op = op1_v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Op = op2_v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48" name="직사각형 7"/>
          <p:cNvSpPr/>
          <p:nvPr/>
        </p:nvSpPr>
        <p:spPr>
          <a:xfrm>
            <a:off x="4773600" y="2108160"/>
            <a:ext cx="4589640" cy="44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se if(((*op1_v).SignFlag == -1) &amp;&amp; ((*op2_v).SignFlag == -1))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Flag = -1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Op = op1_v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Op = op2_v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/No Value Changed;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(*Result).Lower =(*FirstOp).Lower + (*SecondOp).Lower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(((*Result).Lower &lt; (*FirstOp).Lower) ||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(*Result).Lower &lt; (*SecondOp).Lower))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Value = 1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(*Result).Upper = (*FirstOp).Upper + (*SecondOp).Upper + TempValue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…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49" name="TextBox 10"/>
          <p:cNvSpPr/>
          <p:nvPr/>
        </p:nvSpPr>
        <p:spPr>
          <a:xfrm>
            <a:off x="325440" y="1531800"/>
            <a:ext cx="54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DC_Lib.c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파라미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ult, op1_v, op_2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해 심볼릭 선언 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24AF-8B6E-4E9C-A369-2FE26FF41B24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51" name="AutoShape 45"/>
          <p:cNvSpPr/>
          <p:nvPr/>
        </p:nvSpPr>
        <p:spPr>
          <a:xfrm>
            <a:off x="264960" y="638280"/>
            <a:ext cx="9428400" cy="404640"/>
          </a:xfrm>
          <a:prstGeom prst="roundRect">
            <a:avLst>
              <a:gd name="adj" fmla="val 10718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)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대차 개발 코드 적용 사례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52" name="Rectangle 179"/>
          <p:cNvSpPr/>
          <p:nvPr/>
        </p:nvSpPr>
        <p:spPr>
          <a:xfrm>
            <a:off x="125280" y="6480"/>
            <a:ext cx="97045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연구내용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53" name="Text Box 177"/>
          <p:cNvSpPr/>
          <p:nvPr/>
        </p:nvSpPr>
        <p:spPr>
          <a:xfrm>
            <a:off x="368280" y="1144440"/>
            <a:ext cx="921852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용코드에 대한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nch Coverage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0,000 TCs per search strategy)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712800" y="1619280"/>
          <a:ext cx="8427960" cy="4755960"/>
        </p:xfrm>
        <a:graphic>
          <a:graphicData uri="http://schemas.openxmlformats.org/drawingml/2006/table">
            <a:tbl>
              <a:tblPr/>
              <a:tblGrid>
                <a:gridCol w="1982880"/>
                <a:gridCol w="768240"/>
                <a:gridCol w="1374840"/>
                <a:gridCol w="1320840"/>
                <a:gridCol w="1353960"/>
                <a:gridCol w="1627200"/>
              </a:tblGrid>
              <a:tr h="254880"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ource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o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arget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ranch Co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RAND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4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3.7% (15/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0.0% (8/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2/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3.7% (15/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0.0% (8/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2/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3.7% (15/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0.0% (8/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2/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10/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0.6% (24/3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10/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4/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0.0% (16/2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2/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4/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10/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9.4% (27/3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10/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4/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20/2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2/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4/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10/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9.4% (27/3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10/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4/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20/2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2/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4/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7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0.0% (1/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2/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8/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0.0% (1/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2/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8/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0.0% (1/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 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2/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 (8/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 gridSpan="3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1.5% (106/13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6.9% (113/13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6.9% (113/13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0FE0-3850-400F-AEB9-58842C856721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56" name="AutoShape 45"/>
          <p:cNvSpPr/>
          <p:nvPr/>
        </p:nvSpPr>
        <p:spPr>
          <a:xfrm>
            <a:off x="264960" y="638280"/>
            <a:ext cx="9428400" cy="404640"/>
          </a:xfrm>
          <a:prstGeom prst="roundRect">
            <a:avLst>
              <a:gd name="adj" fmla="val 10718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ion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 결과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57" name="Rectangle 179"/>
          <p:cNvSpPr/>
          <p:nvPr/>
        </p:nvSpPr>
        <p:spPr>
          <a:xfrm>
            <a:off x="125280" y="6480"/>
            <a:ext cx="97045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연구내용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58" name="Text Box 177"/>
          <p:cNvSpPr/>
          <p:nvPr/>
        </p:nvSpPr>
        <p:spPr>
          <a:xfrm>
            <a:off x="317520" y="1087560"/>
            <a:ext cx="9218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 된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rash bug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ger over/underflow assertions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olations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 개수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1059" name=""/>
          <p:cNvGraphicFramePr/>
          <p:nvPr/>
        </p:nvGraphicFramePr>
        <p:xfrm>
          <a:off x="503280" y="1471680"/>
          <a:ext cx="8975520" cy="5148360"/>
        </p:xfrm>
        <a:graphic>
          <a:graphicData uri="http://schemas.openxmlformats.org/drawingml/2006/table">
            <a:tbl>
              <a:tblPr/>
              <a:tblGrid>
                <a:gridCol w="1352520"/>
                <a:gridCol w="650880"/>
                <a:gridCol w="895320"/>
                <a:gridCol w="1347840"/>
                <a:gridCol w="1347840"/>
                <a:gridCol w="1387440"/>
                <a:gridCol w="996840"/>
                <a:gridCol w="996840"/>
              </a:tblGrid>
              <a:tr h="619920"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ource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o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arget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겟 함수 자체에만 </a:t>
                      </a:r>
                      <a:br>
                        <a:rPr sz="1200"/>
                      </a:b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포함 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ssertio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삽입 개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겟 함수 및 하위함수에 </a:t>
                      </a:r>
                      <a:br>
                        <a:rPr sz="1200"/>
                      </a:b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포함 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ssertio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삽입 개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ssertion viol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ra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te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te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ra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te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4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7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 gridSpan="3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슬라이드 번호 개체 틀 3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482B-17C1-4FC5-9DFF-A14A974FE89D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1061" name=""/>
          <p:cNvGraphicFramePr/>
          <p:nvPr/>
        </p:nvGraphicFramePr>
        <p:xfrm>
          <a:off x="322200" y="728640"/>
          <a:ext cx="9264600" cy="5646600"/>
        </p:xfrm>
        <a:graphic>
          <a:graphicData uri="http://schemas.openxmlformats.org/drawingml/2006/table">
            <a:tbl>
              <a:tblPr/>
              <a:tblGrid>
                <a:gridCol w="2852640"/>
                <a:gridCol w="5334120"/>
                <a:gridCol w="1077840"/>
              </a:tblGrid>
              <a:tr h="946080"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결과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특징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944640"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Windows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환경에서 사용 가능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REST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Windows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환경에서 실행이 가능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REST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구 제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rash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탐지를 위한 자동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ssertion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삽입 도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rash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생 가능한 예제 코드 및 기존 배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verflow/underflow, 0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으로 나누기 발생이 가능한 코드를 대상으로 적용하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ncolic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테스팅으로 탐지하지 못했던 오류 탐지 가능 확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C/DC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커버리지 향상을 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위한 추가 조건문 삽입 도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REST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에서는 불가능했던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unique-cause MC/DC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달성하는 테스트케이스 생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teger Overflow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탐지를 위한 자동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ssertion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삽입 도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teger overflow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생 가능한 코드를 대상으로 적용하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ncolic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테스팅으로 탐지하지 못했던 오류 탐지 가능 확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선된 도구 사용 설명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REST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구 설명서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Windows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환경 설치 및 사용법 추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2" name="Rectangle 136"/>
          <p:cNvSpPr/>
          <p:nvPr/>
        </p:nvSpPr>
        <p:spPr>
          <a:xfrm>
            <a:off x="201600" y="9360"/>
            <a:ext cx="97045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결과물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슬라이드 번호 개체 틀 1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83D3-59D9-430D-A824-16CF880445F4}" type="slidenum">
              <a:rPr b="0" lang="en-US" sz="1200" spc="-1" strike="noStrike">
                <a:solidFill>
                  <a:srgbClr val="000099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64" name="Rectangle 136"/>
          <p:cNvSpPr/>
          <p:nvPr/>
        </p:nvSpPr>
        <p:spPr>
          <a:xfrm>
            <a:off x="201600" y="9360"/>
            <a:ext cx="97045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년도 연구 제안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65" name="Text Box 177"/>
          <p:cNvSpPr/>
          <p:nvPr/>
        </p:nvSpPr>
        <p:spPr>
          <a:xfrm>
            <a:off x="317520" y="1087560"/>
            <a:ext cx="9218520" cy="43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nit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테스팅 자동화 프레임워크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 프로그램의 함수 하나하나를 개별적으로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자동으로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colic testing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행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점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크고 복잡한 대상 프로그램이라도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별 함수의 복잡도는 크지 않으므로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효과적인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colic testing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행가능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점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별 함수의 모든 입력값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수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arameter +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역 변수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자동으로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ymbolic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선언하여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타겟 프로그램의 심볼릭 입력 환경을 수작업으로 작성하는 업무 부담 감소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utation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버리지 적용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기 커버리지나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/DC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다 오류 검출 효과가 큰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utation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버리지 사용 제안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lvl="2" marL="1047600" indent="-2286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많은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utants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들을 많이 검출할 수록 오류 검출 효과가 큰 테스트 케이스임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lvl="2" marL="1047600" indent="-2286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RIPR Bug detection model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기 커버리지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eachability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MC/DC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eachability + infection, Mutation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버리지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eachability, infection, propergation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두 활용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동차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적합하고 효율적인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utant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성 도구 및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utation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버리지 적용 연구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lvl="2" marL="1047600" indent="-2286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20200" y="96840"/>
            <a:ext cx="88376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utant exampl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Slide Number Placeholder 5"/>
          <p:cNvSpPr/>
          <p:nvPr/>
        </p:nvSpPr>
        <p:spPr>
          <a:xfrm>
            <a:off x="706752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5690-6D93-4BE0-A90D-ED4B042F7729}" type="slidenum">
              <a:rPr b="0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68" name="Rectangle 3"/>
          <p:cNvSpPr/>
          <p:nvPr/>
        </p:nvSpPr>
        <p:spPr>
          <a:xfrm>
            <a:off x="1027080" y="946080"/>
            <a:ext cx="2745000" cy="381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f0"/>
                </a:solidFill>
                <a:uFillTx/>
                <a:latin typeface="Calibri"/>
                <a:ea typeface="宋体"/>
              </a:rPr>
              <a:t>Original Method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nt Min (int A, int B)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nt minVal;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minVal = A;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(B &lt; A)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minVal = B; 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return (minVal);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} // end Min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69" name="Rectangle 4"/>
          <p:cNvSpPr/>
          <p:nvPr/>
        </p:nvSpPr>
        <p:spPr>
          <a:xfrm>
            <a:off x="4419720" y="946080"/>
            <a:ext cx="4459320" cy="503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f0"/>
                </a:solidFill>
                <a:uFillTx/>
                <a:latin typeface="Calibri"/>
                <a:ea typeface="宋体"/>
              </a:rPr>
              <a:t>With Embedded Mutants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nt Min (int A, int B)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nt minVal;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minVal = A;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4546a"/>
                </a:solidFill>
                <a:latin typeface="Calibri"/>
                <a:ea typeface="宋体"/>
              </a:rPr>
              <a:t>∆</a:t>
            </a:r>
            <a:r>
              <a:rPr b="1" lang="en-US" sz="1800" spc="-1" strike="noStrike">
                <a:solidFill>
                  <a:srgbClr val="44546a"/>
                </a:solidFill>
                <a:latin typeface="Calibri"/>
                <a:ea typeface="宋体"/>
              </a:rPr>
              <a:t> </a:t>
            </a:r>
            <a:r>
              <a:rPr b="1" lang="en-US" sz="1800" spc="-1" strike="noStrike">
                <a:solidFill>
                  <a:srgbClr val="44546a"/>
                </a:solidFill>
                <a:latin typeface="Calibri"/>
                <a:ea typeface="宋体"/>
              </a:rPr>
              <a:t>1  minVal = B;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f (B &lt; A)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4546a"/>
                </a:solidFill>
                <a:latin typeface="Calibri"/>
                <a:ea typeface="宋体"/>
              </a:rPr>
              <a:t>∆</a:t>
            </a:r>
            <a:r>
              <a:rPr b="1" lang="en-US" sz="1800" spc="-1" strike="noStrike">
                <a:solidFill>
                  <a:srgbClr val="44546a"/>
                </a:solidFill>
                <a:latin typeface="Calibri"/>
                <a:ea typeface="宋体"/>
              </a:rPr>
              <a:t> </a:t>
            </a:r>
            <a:r>
              <a:rPr b="1" lang="en-US" sz="1800" spc="-1" strike="noStrike">
                <a:solidFill>
                  <a:srgbClr val="44546a"/>
                </a:solidFill>
                <a:latin typeface="Calibri"/>
                <a:ea typeface="宋体"/>
              </a:rPr>
              <a:t>2  if (B </a:t>
            </a:r>
            <a:r>
              <a:rPr b="1" i="1" lang="en-US" sz="1800" spc="-1" strike="noStrike">
                <a:solidFill>
                  <a:srgbClr val="44546a"/>
                </a:solidFill>
                <a:latin typeface="Calibri"/>
                <a:ea typeface="宋体"/>
              </a:rPr>
              <a:t>&gt; </a:t>
            </a:r>
            <a:r>
              <a:rPr b="1" lang="en-US" sz="1800" spc="-1" strike="noStrike">
                <a:solidFill>
                  <a:srgbClr val="44546a"/>
                </a:solidFill>
                <a:latin typeface="Calibri"/>
                <a:ea typeface="宋体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4546a"/>
                </a:solidFill>
                <a:latin typeface="Calibri"/>
                <a:ea typeface="宋体"/>
              </a:rPr>
              <a:t>∆</a:t>
            </a:r>
            <a:r>
              <a:rPr b="1" lang="en-US" sz="1800" spc="-1" strike="noStrike">
                <a:solidFill>
                  <a:srgbClr val="44546a"/>
                </a:solidFill>
                <a:latin typeface="Calibri"/>
                <a:ea typeface="宋体"/>
              </a:rPr>
              <a:t> </a:t>
            </a:r>
            <a:r>
              <a:rPr b="1" lang="en-US" sz="1800" spc="-1" strike="noStrike">
                <a:solidFill>
                  <a:srgbClr val="44546a"/>
                </a:solidFill>
                <a:latin typeface="Calibri"/>
                <a:ea typeface="宋体"/>
              </a:rPr>
              <a:t>3  if (B &lt; minVal)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minVal = B;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4546a"/>
                </a:solidFill>
                <a:latin typeface="Calibri"/>
                <a:ea typeface="宋体"/>
              </a:rPr>
              <a:t>∆</a:t>
            </a:r>
            <a:r>
              <a:rPr b="1" lang="en-US" sz="1800" spc="-1" strike="noStrike">
                <a:solidFill>
                  <a:srgbClr val="44546a"/>
                </a:solidFill>
                <a:latin typeface="Calibri"/>
                <a:ea typeface="宋体"/>
              </a:rPr>
              <a:t> </a:t>
            </a:r>
            <a:r>
              <a:rPr b="1" lang="en-US" sz="1800" spc="-1" strike="noStrike">
                <a:solidFill>
                  <a:srgbClr val="44546a"/>
                </a:solidFill>
                <a:latin typeface="Calibri"/>
                <a:ea typeface="宋体"/>
              </a:rPr>
              <a:t>4          Bomb ();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4546a"/>
                </a:solidFill>
                <a:latin typeface="Calibri"/>
                <a:ea typeface="宋体"/>
              </a:rPr>
              <a:t>∆</a:t>
            </a:r>
            <a:r>
              <a:rPr b="1" lang="en-US" sz="1800" spc="-1" strike="noStrike">
                <a:solidFill>
                  <a:srgbClr val="44546a"/>
                </a:solidFill>
                <a:latin typeface="Calibri"/>
                <a:ea typeface="宋体"/>
              </a:rPr>
              <a:t> </a:t>
            </a:r>
            <a:r>
              <a:rPr b="1" lang="en-US" sz="1800" spc="-1" strike="noStrike">
                <a:solidFill>
                  <a:srgbClr val="44546a"/>
                </a:solidFill>
                <a:latin typeface="Calibri"/>
                <a:ea typeface="宋体"/>
              </a:rPr>
              <a:t>5          minVal = A;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return (minVal);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} // end Min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1070" name="Group 7"/>
          <p:cNvGrpSpPr/>
          <p:nvPr/>
        </p:nvGrpSpPr>
        <p:grpSpPr>
          <a:xfrm>
            <a:off x="2108160" y="3989520"/>
            <a:ext cx="2182680" cy="2332440"/>
            <a:chOff x="2108160" y="3989520"/>
            <a:chExt cx="2182680" cy="2332440"/>
          </a:xfrm>
        </p:grpSpPr>
        <p:sp>
          <p:nvSpPr>
            <p:cNvPr id="1071" name="Text Box 5"/>
            <p:cNvSpPr/>
            <p:nvPr/>
          </p:nvSpPr>
          <p:spPr>
            <a:xfrm>
              <a:off x="2108160" y="5154480"/>
              <a:ext cx="2182680" cy="1167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Calibri"/>
                  <a:ea typeface="굴림"/>
                </a:rPr>
                <a:t>5 mutants</a:t>
              </a:r>
              <a:endParaRPr b="0" lang="en-US" sz="2000" spc="-1" strike="noStrike">
                <a:solidFill>
                  <a:srgbClr val="000000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Calibri"/>
                  <a:ea typeface="굴림"/>
                </a:rPr>
                <a:t>Each represents a separate program</a:t>
              </a:r>
              <a:endParaRPr b="0" lang="en-US" sz="2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072" name="Line 6"/>
            <p:cNvSpPr/>
            <p:nvPr/>
          </p:nvSpPr>
          <p:spPr>
            <a:xfrm flipV="1">
              <a:off x="3273480" y="3989520"/>
              <a:ext cx="982440" cy="11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  <p:grpSp>
        <p:nvGrpSpPr>
          <p:cNvPr id="1073" name="Group 19"/>
          <p:cNvGrpSpPr/>
          <p:nvPr/>
        </p:nvGrpSpPr>
        <p:grpSpPr>
          <a:xfrm>
            <a:off x="5821200" y="1714680"/>
            <a:ext cx="3394080" cy="3085920"/>
            <a:chOff x="5821200" y="1714680"/>
            <a:chExt cx="3394080" cy="3085920"/>
          </a:xfrm>
        </p:grpSpPr>
        <p:sp>
          <p:nvSpPr>
            <p:cNvPr id="1074" name="Text Box 9"/>
            <p:cNvSpPr/>
            <p:nvPr/>
          </p:nvSpPr>
          <p:spPr>
            <a:xfrm>
              <a:off x="6975360" y="1714680"/>
              <a:ext cx="2239920" cy="642600"/>
            </a:xfrm>
            <a:prstGeom prst="rect">
              <a:avLst/>
            </a:prstGeom>
            <a:solidFill>
              <a:srgbClr val="00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afd00"/>
                  </a:solidFill>
                  <a:latin typeface="Calibri"/>
                </a:rPr>
                <a:t>Replace one variable with another</a:t>
              </a:r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075" name="Line 13"/>
            <p:cNvSpPr/>
            <p:nvPr/>
          </p:nvSpPr>
          <p:spPr>
            <a:xfrm flipH="1">
              <a:off x="5821200" y="1932120"/>
              <a:ext cx="1154160" cy="82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076" name="Line 14"/>
            <p:cNvSpPr/>
            <p:nvPr/>
          </p:nvSpPr>
          <p:spPr>
            <a:xfrm flipH="1">
              <a:off x="6130440" y="2114640"/>
              <a:ext cx="833400" cy="152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077" name="Line 15"/>
            <p:cNvSpPr/>
            <p:nvPr/>
          </p:nvSpPr>
          <p:spPr>
            <a:xfrm flipH="1">
              <a:off x="6564240" y="2263680"/>
              <a:ext cx="411120" cy="253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  <p:grpSp>
        <p:nvGrpSpPr>
          <p:cNvPr id="1078" name="Group 20"/>
          <p:cNvGrpSpPr/>
          <p:nvPr/>
        </p:nvGrpSpPr>
        <p:grpSpPr>
          <a:xfrm>
            <a:off x="5616720" y="2610000"/>
            <a:ext cx="3698280" cy="819000"/>
            <a:chOff x="5616720" y="2610000"/>
            <a:chExt cx="3698280" cy="819000"/>
          </a:xfrm>
        </p:grpSpPr>
        <p:sp>
          <p:nvSpPr>
            <p:cNvPr id="1079" name="Text Box 10"/>
            <p:cNvSpPr/>
            <p:nvPr/>
          </p:nvSpPr>
          <p:spPr>
            <a:xfrm>
              <a:off x="7075440" y="2610000"/>
              <a:ext cx="2239560" cy="368280"/>
            </a:xfrm>
            <a:prstGeom prst="rect">
              <a:avLst/>
            </a:prstGeom>
            <a:solidFill>
              <a:srgbClr val="00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afd00"/>
                  </a:solidFill>
                  <a:latin typeface="Calibri"/>
                </a:rPr>
                <a:t>Changes operator</a:t>
              </a:r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080" name="Line 16"/>
            <p:cNvSpPr/>
            <p:nvPr/>
          </p:nvSpPr>
          <p:spPr>
            <a:xfrm flipH="1">
              <a:off x="5616720" y="2789280"/>
              <a:ext cx="145080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  <p:grpSp>
        <p:nvGrpSpPr>
          <p:cNvPr id="1081" name="Group 21"/>
          <p:cNvGrpSpPr/>
          <p:nvPr/>
        </p:nvGrpSpPr>
        <p:grpSpPr>
          <a:xfrm>
            <a:off x="6163920" y="3230640"/>
            <a:ext cx="3262680" cy="1319040"/>
            <a:chOff x="6163920" y="3230640"/>
            <a:chExt cx="3262680" cy="1319040"/>
          </a:xfrm>
        </p:grpSpPr>
        <p:sp>
          <p:nvSpPr>
            <p:cNvPr id="1082" name="Text Box 11"/>
            <p:cNvSpPr/>
            <p:nvPr/>
          </p:nvSpPr>
          <p:spPr>
            <a:xfrm>
              <a:off x="7186320" y="3230640"/>
              <a:ext cx="2240280" cy="642600"/>
            </a:xfrm>
            <a:prstGeom prst="rect">
              <a:avLst/>
            </a:prstGeom>
            <a:solidFill>
              <a:srgbClr val="00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afd00"/>
                  </a:solidFill>
                  <a:latin typeface="Calibri"/>
                </a:rPr>
                <a:t>Immediate runtime failure … if reached</a:t>
              </a:r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083" name="Line 17"/>
            <p:cNvSpPr/>
            <p:nvPr/>
          </p:nvSpPr>
          <p:spPr>
            <a:xfrm flipH="1">
              <a:off x="6163920" y="3543480"/>
              <a:ext cx="1028520" cy="100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44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ug Observability/Detection Model:  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achability, </a:t>
            </a: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I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fection, </a:t>
            </a: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P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opagation, and </a:t>
            </a: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vealation (RIPR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433080" y="1969920"/>
            <a:ext cx="340524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7760" indent="-167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4000" indent="-1677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Faul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static defect in a program text (a.k.a a bu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4000" indent="-1677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rr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dynamic (intermediate) behavior that deviates from its (internal) intended go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39880" indent="-167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fault causes an error (i.e. error is a symptom of faul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04000" indent="-1677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Failiu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dynamic behavior which violates a ultimate goal of a target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39880" indent="-167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 every error leads to failure due to error masking or fault toler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내용 개체 틀 2"/>
          <p:cNvSpPr/>
          <p:nvPr/>
        </p:nvSpPr>
        <p:spPr>
          <a:xfrm>
            <a:off x="3871800" y="1933560"/>
            <a:ext cx="56530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Graph coverage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Test requirement satisfaction ==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맑은 고딕"/>
              </a:rPr>
              <a:t>Reachability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맑은 고딕"/>
              </a:rPr>
              <a:t>the fault in the code has to be reached  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Logic coverage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Test requirement satisfaction 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==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맑은 고딕"/>
              </a:rPr>
              <a:t>Reachability +Infection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맑은 고딕"/>
              </a:rPr>
              <a:t>the fault has to put the program into an error state. 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Note that a program is in an error state does not mean that it will always produce the failure  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Mutation coverage 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Test requirement satisfaction 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맑은 고딕"/>
              </a:rPr>
              <a:t>==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맑은 고딕"/>
              </a:rPr>
              <a:t>Reachability +Infection + Propagation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맑은 고딕"/>
              </a:rPr>
              <a:t>the program needs to exhibit incorrect outputs  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Furthermore, test oracle plays critical role to reveal failure of a target program (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맑은 고딕"/>
              </a:rPr>
              <a:t>Reveal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FD3D-03D0-4DA0-933F-E6ED3136F625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6" name="직사각형 47"/>
          <p:cNvSpPr/>
          <p:nvPr/>
        </p:nvSpPr>
        <p:spPr>
          <a:xfrm>
            <a:off x="322200" y="549360"/>
            <a:ext cx="1778040" cy="7142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7" name="TextBox 9"/>
          <p:cNvSpPr/>
          <p:nvPr/>
        </p:nvSpPr>
        <p:spPr>
          <a:xfrm>
            <a:off x="396720" y="692640"/>
            <a:ext cx="16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목  차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8" name="직사각형 49"/>
          <p:cNvSpPr/>
          <p:nvPr/>
        </p:nvSpPr>
        <p:spPr>
          <a:xfrm>
            <a:off x="2022480" y="596880"/>
            <a:ext cx="77760" cy="58482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655640" y="1214280"/>
          <a:ext cx="7508880" cy="4345200"/>
        </p:xfrm>
        <a:graphic>
          <a:graphicData uri="http://schemas.openxmlformats.org/drawingml/2006/table">
            <a:tbl>
              <a:tblPr/>
              <a:tblGrid>
                <a:gridCol w="5970600"/>
                <a:gridCol w="1538280"/>
              </a:tblGrid>
              <a:tr h="436680">
                <a:tc>
                  <a:txBody>
                    <a:bodyPr lIns="105480" rIns="105480" tIns="18000" bIns="18000" anchor="ctr">
                      <a:noAutofit/>
                    </a:bodyPr>
                    <a:p>
                      <a:pPr lvl="1" marL="479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 추진 배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5480" rIns="10548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3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105480" rIns="105480" tIns="18000" bIns="18000" anchor="ctr">
                      <a:noAutofit/>
                    </a:bodyPr>
                    <a:p>
                      <a:pPr lvl="1" marL="479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목표 및 기대효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5480" rIns="10548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4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320">
                <a:tc>
                  <a:txBody>
                    <a:bodyPr lIns="105480" rIns="105480" tIns="18000" bIns="18000" anchor="ctr">
                      <a:noAutofit/>
                    </a:bodyPr>
                    <a:p>
                      <a:pPr lvl="1" marL="479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계획 대비 진행상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5480" rIns="10548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5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105480" rIns="105480" tIns="18000" bIns="18000" anchor="ctr">
                      <a:noAutofit/>
                    </a:bodyPr>
                    <a:p>
                      <a:pPr lvl="1" marL="479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연구내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5480" rIns="10548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105480" rIns="105480" tIns="18000" bIns="18000" anchor="ctr">
                      <a:noAutofit/>
                    </a:bodyPr>
                    <a:p>
                      <a:pPr lvl="2" marL="900000" indent="572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) Concolic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테스팅 도구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Windows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포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5480" rIns="10548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6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105480" rIns="105480" tIns="18000" bIns="18000" anchor="ctr">
                      <a:noAutofit/>
                    </a:bodyPr>
                    <a:p>
                      <a:pPr lvl="2" marL="900000" indent="572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) Undefined behavior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탐지를 위한 자동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ssertion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삽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5480" rIns="10548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8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105480" rIns="105480" tIns="18000" bIns="18000" anchor="ctr">
                      <a:noAutofit/>
                    </a:bodyPr>
                    <a:p>
                      <a:pPr lvl="2" marL="900000" indent="572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3) MC/DC </a:t>
                      </a:r>
                      <a:r>
                        <a:rPr b="0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커버리지 향상을 위한 도구 개발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및 이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5480" rIns="10548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-10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105480" rIns="105480" tIns="18000" bIns="18000" anchor="ctr">
                      <a:noAutofit/>
                    </a:bodyPr>
                    <a:p>
                      <a:pPr lvl="2" marL="900000" indent="572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4) Integer Overflow </a:t>
                      </a:r>
                      <a:r>
                        <a:rPr b="0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탐지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assertion </a:t>
                      </a:r>
                      <a:r>
                        <a:rPr b="0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삽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5480" rIns="10548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-17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105480" rIns="105480" tIns="18000" bIns="18000" anchor="ctr">
                      <a:noAutofit/>
                    </a:bodyPr>
                    <a:p>
                      <a:pPr lvl="2" marL="900000" indent="572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5) </a:t>
                      </a:r>
                      <a:r>
                        <a:rPr b="0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현대차 개발 코드 적용 사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5480" rIns="10548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-23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840">
                <a:tc>
                  <a:txBody>
                    <a:bodyPr lIns="105480" rIns="105480" tIns="18000" bIns="18000" anchor="ctr">
                      <a:noAutofit/>
                    </a:bodyPr>
                    <a:p>
                      <a:pPr lvl="1" marL="479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 결과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lvl="1" marL="479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년도 연구 제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5480" rIns="10548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5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6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320">
                <a:tc>
                  <a:txBody>
                    <a:bodyPr lIns="105480" rIns="105480" tIns="18000" bIns="18000" anchor="ctr">
                      <a:noAutofit/>
                    </a:bodyPr>
                    <a:p>
                      <a:pPr lvl="1" marL="479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5480" rIns="10548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105480" rIns="105480" tIns="18000" bIns="18000" anchor="ctr">
                      <a:noAutofit/>
                    </a:bodyPr>
                    <a:p>
                      <a:pPr lvl="1" marL="479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5480" rIns="10548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05480" marR="10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5038-B035-4F51-94C0-E92C90CF26AE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1240" y="-360"/>
            <a:ext cx="9704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추진 배경</a:t>
            </a:r>
            <a:endParaRPr b="0" lang="en-US" sz="2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342" name="AutoShape 176"/>
          <p:cNvSpPr/>
          <p:nvPr/>
        </p:nvSpPr>
        <p:spPr>
          <a:xfrm>
            <a:off x="322200" y="619200"/>
            <a:ext cx="9426600" cy="469800"/>
          </a:xfrm>
          <a:prstGeom prst="roundRect">
            <a:avLst>
              <a:gd name="adj" fmla="val 10718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marL="179280" indent="-179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colic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테스팅의 효과 향상 및 확산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3" name="Text Box 177"/>
          <p:cNvSpPr/>
          <p:nvPr/>
        </p:nvSpPr>
        <p:spPr>
          <a:xfrm>
            <a:off x="361800" y="1268280"/>
            <a:ext cx="92188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 2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년도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colic Testing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법 적용 성과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08080"/>
              </a:buClr>
              <a:buSzPct val="80000"/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H PE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 주행모드통합제어 타겟 프로그램에서 코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양 불일치를 발견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08080"/>
              </a:buClr>
              <a:buSzPct val="80000"/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행모드통합제어 등 타겟 프로그램에서 평균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0%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의 높은 커버리지를 달성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08080"/>
              </a:buClr>
              <a:buSzPct val="80000"/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능 개선 요구사항 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08080"/>
              </a:buClr>
              <a:buSzPct val="80000"/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제 개발자들의 개발 환경인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dows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환경에서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colic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테스팅을 수행 필요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08080"/>
              </a:buClr>
              <a:buSzPct val="80000"/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효과적으로 버그를 찾기 위해서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대표적인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ndefined behavior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탐지하기 위한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ion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삽입 필요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08080"/>
              </a:buClr>
              <a:buSzPct val="80000"/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동차 제어 소프트웨어 안전 요구사항에서 요구하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/DC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버리지 향상 필요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C1DD-0C51-4144-A712-7EE8770C1EE8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01240" y="6480"/>
            <a:ext cx="9704520" cy="5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목표 및 기대효과</a:t>
            </a:r>
            <a:endParaRPr b="0" lang="en-US" sz="2200" spc="-1" strike="noStrike">
              <a:solidFill>
                <a:srgbClr val="ffffff"/>
              </a:solidFill>
              <a:latin typeface="HY헤드라인M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322200" y="728640"/>
          <a:ext cx="9312480" cy="5626080"/>
        </p:xfrm>
        <a:graphic>
          <a:graphicData uri="http://schemas.openxmlformats.org/drawingml/2006/table">
            <a:tbl>
              <a:tblPr/>
              <a:tblGrid>
                <a:gridCol w="1176480"/>
                <a:gridCol w="8136000"/>
              </a:tblGrid>
              <a:tr h="2343240">
                <a:tc>
                  <a:txBody>
                    <a:bodyPr lIns="78120" rIns="78120" tIns="36000" bIns="36000" anchor="ctr" anchorCtr="1">
                      <a:noAutofit/>
                    </a:bodyPr>
                    <a:p>
                      <a:pPr marL="304920" indent="-304920">
                        <a:lnSpc>
                          <a:spcPct val="1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목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78120" marR="7812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85640" indent="-304560">
                        <a:lnSpc>
                          <a:spcPct val="13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성 확대를 위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Window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환경으로의 포팅 작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485640" indent="-304560">
                        <a:lnSpc>
                          <a:spcPct val="13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) Undefined behavior(Crash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버그를 야기하는 잘못된 메모리 참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배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verflow/underflow, 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으로 나누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탐지를 위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ssertio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동 삽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485640" indent="-304560">
                        <a:lnSpc>
                          <a:spcPct val="13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) Concolic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테스팅을 통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C/DC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커버리지 향상을 위한 도구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485640" indent="-304560">
                        <a:lnSpc>
                          <a:spcPct val="13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) Concolic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테스팅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제 적용 사례 연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82840">
                <a:tc>
                  <a:txBody>
                    <a:bodyPr lIns="78120" rIns="78120" tIns="36000" bIns="36000" anchor="ctr" anchorCtr="1">
                      <a:noAutofit/>
                    </a:bodyPr>
                    <a:p>
                      <a:pPr marL="304920" indent="-304920" algn="ctr">
                        <a:lnSpc>
                          <a:spcPct val="1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대효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78120" marR="7812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85640" indent="-304560">
                        <a:lnSpc>
                          <a:spcPct val="130000"/>
                        </a:lnSpc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맑은 고딕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량 제어 소프트웨어와 같은 안전 필수 소프트웨어의 효과적인 검증을 통한 고신뢰성 확보 가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485640" indent="-304560">
                        <a:lnSpc>
                          <a:spcPct val="130000"/>
                        </a:lnSpc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맑은 고딕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n-linea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산 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floating-point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산을 사용하는 복잡한 차량 제어 소프트웨어에서도 높은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C/D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커버리지를 갖는 테스트 케이스를 효율적으로 자동 생성할 수 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485640" indent="-304560">
                        <a:lnSpc>
                          <a:spcPct val="130000"/>
                        </a:lnSpc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맑은 고딕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제 차량 탑재 및 현장 테스트 이전의 소프트웨어 테스트 단계에서 효과적인 오류 검출을 통해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유지보수 비용 감소 효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485640" indent="-304560">
                        <a:lnSpc>
                          <a:spcPct val="130000"/>
                        </a:lnSpc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맑은 고딕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ncolic Testing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적용을 통한 소프트웨어의 안정성 및 신뢰성 향상을 통해 차량 소프트웨어 오류 사고로 인한 사회 비용 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485640" indent="-304560">
                        <a:lnSpc>
                          <a:spcPct val="130000"/>
                        </a:lnSpc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맑은 고딕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유럽 등의 선진국 시장에서 차량 제어 소프트웨어 안정성 및 신뢰성 인증을 통한 무역 장벽에 효과적으로 대처하여 시장 선점 효과를 기대할 수 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485640" indent="-3045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HY헤드라인M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6DE5-C4C6-434F-AF7C-E8AF08F5E327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01240" y="7560"/>
            <a:ext cx="97045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계획 대비 진행상황</a:t>
            </a:r>
            <a:endParaRPr b="0" lang="en-US" sz="2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349" name="Rectangle 576"/>
          <p:cNvSpPr/>
          <p:nvPr/>
        </p:nvSpPr>
        <p:spPr>
          <a:xfrm>
            <a:off x="472680" y="723960"/>
            <a:ext cx="84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 년도 착수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50" name="Line 577"/>
          <p:cNvSpPr/>
          <p:nvPr/>
        </p:nvSpPr>
        <p:spPr>
          <a:xfrm>
            <a:off x="2317680" y="1614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51" name="Line 578"/>
          <p:cNvSpPr/>
          <p:nvPr/>
        </p:nvSpPr>
        <p:spPr>
          <a:xfrm>
            <a:off x="2317680" y="207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52" name="Line 579"/>
          <p:cNvSpPr/>
          <p:nvPr/>
        </p:nvSpPr>
        <p:spPr>
          <a:xfrm>
            <a:off x="2317680" y="4129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12840" y="996840"/>
          <a:ext cx="9320040" cy="4819680"/>
        </p:xfrm>
        <a:graphic>
          <a:graphicData uri="http://schemas.openxmlformats.org/drawingml/2006/table">
            <a:tbl>
              <a:tblPr/>
              <a:tblGrid>
                <a:gridCol w="1579320"/>
                <a:gridCol w="3218040"/>
                <a:gridCol w="503280"/>
                <a:gridCol w="501480"/>
                <a:gridCol w="503280"/>
                <a:gridCol w="503280"/>
                <a:gridCol w="501480"/>
                <a:gridCol w="503280"/>
                <a:gridCol w="503280"/>
                <a:gridCol w="500040"/>
                <a:gridCol w="503280"/>
              </a:tblGrid>
              <a:tr h="517680"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행 항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세부 항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457200"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ncolic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테스팅 도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Windows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ff9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ncolic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테스팅 도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Windows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0" marR="68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ff9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42800">
                <a:tc rowSpan="2"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Undefined behavio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탐지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ssertio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동 삽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ff9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Undefined behavio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탐지를 위한 자동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ssertio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삽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0" marR="68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ff9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선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ncolic Testing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구 적용 및 개선 사항 평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Windows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환경 지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assertion</a:t>
                      </a:r>
                      <a:br>
                        <a:rPr sz="1200"/>
                      </a:b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삽입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0" marR="68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ff9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41360">
                <a:tc rowSpan="2"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C/DC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커버리지 향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ff9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C/DC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커버리지 향상을 위한 추가 조건문 삽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0" marR="68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ff9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4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맑은 고딕"/>
                          <a:ea typeface="맑은 고딕"/>
                        </a:rPr>
                        <a:t>MC/DC </a:t>
                      </a:r>
                      <a:r>
                        <a:rPr b="0" lang="ko-KR" sz="1200" spc="-1" strike="noStrike">
                          <a:solidFill>
                            <a:srgbClr val="808080"/>
                          </a:solidFill>
                          <a:latin typeface="맑은 고딕"/>
                          <a:ea typeface="맑은 고딕"/>
                        </a:rPr>
                        <a:t>커버리지 향상을 위한 효율적인</a:t>
                      </a:r>
                      <a:br>
                        <a:rPr sz="1200"/>
                      </a:br>
                      <a:r>
                        <a:rPr b="0" lang="ko-KR" sz="1200" spc="-1" strike="noStrike">
                          <a:solidFill>
                            <a:srgbClr val="808080"/>
                          </a:solidFill>
                          <a:latin typeface="맑은 고딕"/>
                          <a:ea typeface="맑은 고딕"/>
                        </a:rPr>
                        <a:t>테스트 케이스 생성 최적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0" marR="68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ff9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Integer overflow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탐지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assertion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자동 삽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ff9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Integer overflow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탐지를 위한 자동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assertion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삽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0" marR="68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ff9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43160">
                <a:tc rowSpan="2"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겟 적용 및 평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ff9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선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ncolic Testing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구 적용 및 개선 사항 평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Integer overflow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탐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0" marR="68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ff9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4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선결과 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ncolic Testing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적용 결과 종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0" marR="68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ff9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고서 작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9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고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9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99000" marR="99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4" name="Group 801"/>
          <p:cNvGrpSpPr/>
          <p:nvPr/>
        </p:nvGrpSpPr>
        <p:grpSpPr>
          <a:xfrm>
            <a:off x="7745400" y="655560"/>
            <a:ext cx="1144440" cy="361800"/>
            <a:chOff x="7745400" y="655560"/>
            <a:chExt cx="1144440" cy="361800"/>
          </a:xfrm>
        </p:grpSpPr>
        <p:sp>
          <p:nvSpPr>
            <p:cNvPr id="355" name="Rectangle 574"/>
            <p:cNvSpPr/>
            <p:nvPr/>
          </p:nvSpPr>
          <p:spPr>
            <a:xfrm>
              <a:off x="7745400" y="731880"/>
              <a:ext cx="679680" cy="82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356" name="Text Box 575"/>
            <p:cNvSpPr/>
            <p:nvPr/>
          </p:nvSpPr>
          <p:spPr>
            <a:xfrm>
              <a:off x="8465400" y="6555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진행계획</a:t>
              </a:r>
              <a:endParaRPr b="0" lang="en-US" sz="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357" name="AutoShape 787"/>
            <p:cNvSpPr/>
            <p:nvPr/>
          </p:nvSpPr>
          <p:spPr>
            <a:xfrm>
              <a:off x="7750440" y="861840"/>
              <a:ext cx="696960" cy="109440"/>
            </a:xfrm>
            <a:prstGeom prst="rightArrow">
              <a:avLst>
                <a:gd name="adj1" fmla="val 51315"/>
                <a:gd name="adj2" fmla="val 94937"/>
              </a:avLst>
            </a:prstGeom>
            <a:solidFill>
              <a:srgbClr val="6d6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16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358" name="Text Box 788"/>
            <p:cNvSpPr/>
            <p:nvPr/>
          </p:nvSpPr>
          <p:spPr>
            <a:xfrm>
              <a:off x="8465400" y="8017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진행정도</a:t>
              </a:r>
              <a:endParaRPr b="0" lang="en-US" sz="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  <p:sp>
        <p:nvSpPr>
          <p:cNvPr id="359" name="Line 799"/>
          <p:cNvSpPr/>
          <p:nvPr/>
        </p:nvSpPr>
        <p:spPr>
          <a:xfrm>
            <a:off x="6122880" y="2168640"/>
            <a:ext cx="990720" cy="0"/>
          </a:xfrm>
          <a:prstGeom prst="line">
            <a:avLst/>
          </a:prstGeom>
          <a:ln w="76320">
            <a:solidFill>
              <a:srgbClr val="6d6dc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0" name="Line 799"/>
          <p:cNvSpPr/>
          <p:nvPr/>
        </p:nvSpPr>
        <p:spPr>
          <a:xfrm>
            <a:off x="5087880" y="1763640"/>
            <a:ext cx="1035000" cy="0"/>
          </a:xfrm>
          <a:prstGeom prst="line">
            <a:avLst/>
          </a:prstGeom>
          <a:ln w="76320">
            <a:solidFill>
              <a:srgbClr val="6d6dc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1" name="Line 799"/>
          <p:cNvSpPr/>
          <p:nvPr/>
        </p:nvSpPr>
        <p:spPr>
          <a:xfrm>
            <a:off x="6618240" y="2708280"/>
            <a:ext cx="495360" cy="1440"/>
          </a:xfrm>
          <a:prstGeom prst="line">
            <a:avLst/>
          </a:prstGeom>
          <a:ln w="76320">
            <a:solidFill>
              <a:srgbClr val="6d6dc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2" name="Line 799"/>
          <p:cNvSpPr/>
          <p:nvPr/>
        </p:nvSpPr>
        <p:spPr>
          <a:xfrm>
            <a:off x="7120080" y="3168720"/>
            <a:ext cx="493560" cy="0"/>
          </a:xfrm>
          <a:prstGeom prst="line">
            <a:avLst/>
          </a:prstGeom>
          <a:ln w="76320">
            <a:solidFill>
              <a:srgbClr val="6d6dc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3" name="Line 799"/>
          <p:cNvSpPr/>
          <p:nvPr/>
        </p:nvSpPr>
        <p:spPr>
          <a:xfrm>
            <a:off x="7653240" y="4194000"/>
            <a:ext cx="944640" cy="0"/>
          </a:xfrm>
          <a:prstGeom prst="line">
            <a:avLst/>
          </a:prstGeom>
          <a:ln w="76320">
            <a:solidFill>
              <a:srgbClr val="6d6dc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4" name="Line 799"/>
          <p:cNvSpPr/>
          <p:nvPr/>
        </p:nvSpPr>
        <p:spPr>
          <a:xfrm>
            <a:off x="8126280" y="4734000"/>
            <a:ext cx="944640" cy="0"/>
          </a:xfrm>
          <a:prstGeom prst="line">
            <a:avLst/>
          </a:prstGeom>
          <a:ln w="76320">
            <a:solidFill>
              <a:srgbClr val="6d6dc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5" name="Line 799"/>
          <p:cNvSpPr/>
          <p:nvPr/>
        </p:nvSpPr>
        <p:spPr>
          <a:xfrm>
            <a:off x="8126280" y="5138640"/>
            <a:ext cx="944640" cy="0"/>
          </a:xfrm>
          <a:prstGeom prst="line">
            <a:avLst/>
          </a:prstGeom>
          <a:ln w="76320">
            <a:solidFill>
              <a:srgbClr val="6d6dc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6" name="Line 799"/>
          <p:cNvSpPr/>
          <p:nvPr/>
        </p:nvSpPr>
        <p:spPr>
          <a:xfrm>
            <a:off x="8636040" y="5589720"/>
            <a:ext cx="471600" cy="7920"/>
          </a:xfrm>
          <a:prstGeom prst="line">
            <a:avLst/>
          </a:prstGeom>
          <a:ln w="76320">
            <a:solidFill>
              <a:srgbClr val="6d6dc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8A7B-8629-491F-BE61-DE531D28A9BC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8" name="AutoShape 45"/>
          <p:cNvSpPr/>
          <p:nvPr/>
        </p:nvSpPr>
        <p:spPr>
          <a:xfrm>
            <a:off x="264960" y="638280"/>
            <a:ext cx="9428400" cy="1170000"/>
          </a:xfrm>
          <a:prstGeom prst="roundRect">
            <a:avLst>
              <a:gd name="adj" fmla="val 10718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Windows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환경에서 사용이 가능하도록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REST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팅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536400" indent="-88560">
              <a:lnSpc>
                <a:spcPct val="130000"/>
              </a:lnSpc>
              <a:spcBef>
                <a:spcPts val="349"/>
              </a:spcBef>
              <a:buClr>
                <a:srgbClr val="808080"/>
              </a:buClr>
              <a:buSzPct val="80000"/>
              <a:buFont typeface="맑은 고딕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sual Studi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컴파일러 사용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lvl="1" marL="536400" indent="-88560">
              <a:lnSpc>
                <a:spcPct val="130000"/>
              </a:lnSpc>
              <a:spcBef>
                <a:spcPts val="349"/>
              </a:spcBef>
              <a:buClr>
                <a:srgbClr val="808080"/>
              </a:buClr>
              <a:buSzPct val="80000"/>
              <a:buFont typeface="맑은 고딕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dows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서 실행 가능하게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REST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정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9" name="Rectangle 179"/>
          <p:cNvSpPr/>
          <p:nvPr/>
        </p:nvSpPr>
        <p:spPr>
          <a:xfrm>
            <a:off x="125280" y="6480"/>
            <a:ext cx="97045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연구내용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0" name="가로로 말린 두루마리 모양 10"/>
          <p:cNvSpPr/>
          <p:nvPr/>
        </p:nvSpPr>
        <p:spPr>
          <a:xfrm>
            <a:off x="968400" y="1870200"/>
            <a:ext cx="1714320" cy="107136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 source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1" name="가로로 말린 두루마리 모양 11"/>
          <p:cNvSpPr/>
          <p:nvPr/>
        </p:nvSpPr>
        <p:spPr>
          <a:xfrm>
            <a:off x="2773440" y="2987640"/>
            <a:ext cx="1928880" cy="128592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strumented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2" name="직사각형 12"/>
          <p:cNvSpPr/>
          <p:nvPr/>
        </p:nvSpPr>
        <p:spPr>
          <a:xfrm>
            <a:off x="3182760" y="2013120"/>
            <a:ext cx="928800" cy="6426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IL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3" name="오른쪽 화살표 13"/>
          <p:cNvSpPr/>
          <p:nvPr/>
        </p:nvSpPr>
        <p:spPr>
          <a:xfrm>
            <a:off x="2754360" y="222732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4" name="오른쪽 화살표 14"/>
          <p:cNvSpPr/>
          <p:nvPr/>
        </p:nvSpPr>
        <p:spPr>
          <a:xfrm rot="5400000">
            <a:off x="3575520" y="2799360"/>
            <a:ext cx="357480" cy="285840"/>
          </a:xfrm>
          <a:prstGeom prst="rightArrow">
            <a:avLst>
              <a:gd name="adj1" fmla="val 50000"/>
              <a:gd name="adj2" fmla="val 50025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5" name="덧셈 기호 16"/>
          <p:cNvSpPr/>
          <p:nvPr/>
        </p:nvSpPr>
        <p:spPr>
          <a:xfrm>
            <a:off x="4773600" y="3416400"/>
            <a:ext cx="357120" cy="357120"/>
          </a:xfrm>
          <a:custGeom>
            <a:avLst/>
            <a:gdLst/>
            <a:ahLst/>
            <a:rect l="l" t="t" r="r" b="b"/>
            <a:pathLst>
              <a:path w="357187" h="357188">
                <a:moveTo>
                  <a:pt x="47345" y="136589"/>
                </a:moveTo>
                <a:lnTo>
                  <a:pt x="136588" y="136589"/>
                </a:lnTo>
                <a:lnTo>
                  <a:pt x="136588" y="47345"/>
                </a:lnTo>
                <a:lnTo>
                  <a:pt x="220599" y="47345"/>
                </a:lnTo>
                <a:lnTo>
                  <a:pt x="220599" y="136589"/>
                </a:lnTo>
                <a:lnTo>
                  <a:pt x="309842" y="136589"/>
                </a:lnTo>
                <a:lnTo>
                  <a:pt x="309842" y="220599"/>
                </a:lnTo>
                <a:lnTo>
                  <a:pt x="220599" y="220599"/>
                </a:lnTo>
                <a:lnTo>
                  <a:pt x="220599" y="309843"/>
                </a:lnTo>
                <a:lnTo>
                  <a:pt x="136588" y="309843"/>
                </a:lnTo>
                <a:lnTo>
                  <a:pt x="136588" y="220599"/>
                </a:lnTo>
                <a:lnTo>
                  <a:pt x="47345" y="220599"/>
                </a:lnTo>
                <a:lnTo>
                  <a:pt x="47345" y="136589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6" name="오른쪽 화살표 17"/>
          <p:cNvSpPr/>
          <p:nvPr/>
        </p:nvSpPr>
        <p:spPr>
          <a:xfrm rot="5400000">
            <a:off x="4843080" y="4001760"/>
            <a:ext cx="249120" cy="7858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7" name="직사각형 18"/>
          <p:cNvSpPr/>
          <p:nvPr/>
        </p:nvSpPr>
        <p:spPr>
          <a:xfrm>
            <a:off x="1932120" y="5549760"/>
            <a:ext cx="1071360" cy="571680"/>
          </a:xfrm>
          <a:prstGeom prst="rect">
            <a:avLst/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MT Solver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8" name="직사각형 19"/>
          <p:cNvSpPr/>
          <p:nvPr/>
        </p:nvSpPr>
        <p:spPr>
          <a:xfrm>
            <a:off x="4289400" y="5549760"/>
            <a:ext cx="1357200" cy="571680"/>
          </a:xfrm>
          <a:prstGeom prst="rect">
            <a:avLst/>
          </a:prstGeom>
          <a:solidFill>
            <a:srgbClr val="2d2d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un_crest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9" name="오른쪽 화살표 20"/>
          <p:cNvSpPr/>
          <p:nvPr/>
        </p:nvSpPr>
        <p:spPr>
          <a:xfrm rot="5400000">
            <a:off x="4826520" y="4987080"/>
            <a:ext cx="250920" cy="7858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80" name="오른쪽 화살표 21"/>
          <p:cNvSpPr/>
          <p:nvPr/>
        </p:nvSpPr>
        <p:spPr>
          <a:xfrm rot="10800000">
            <a:off x="3217680" y="5549760"/>
            <a:ext cx="857160" cy="285840"/>
          </a:xfrm>
          <a:prstGeom prst="right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81" name="오른쪽 화살표 22"/>
          <p:cNvSpPr/>
          <p:nvPr/>
        </p:nvSpPr>
        <p:spPr>
          <a:xfrm>
            <a:off x="3218040" y="5835600"/>
            <a:ext cx="857160" cy="285840"/>
          </a:xfrm>
          <a:prstGeom prst="right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82" name="직사각형 23"/>
          <p:cNvSpPr/>
          <p:nvPr/>
        </p:nvSpPr>
        <p:spPr>
          <a:xfrm>
            <a:off x="5202360" y="3059280"/>
            <a:ext cx="1928520" cy="1071360"/>
          </a:xfrm>
          <a:prstGeom prst="rect">
            <a:avLst/>
          </a:prstGeom>
          <a:solidFill>
            <a:srgbClr val="2d2d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EST symbolic execution library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83" name="TextBox 24"/>
          <p:cNvSpPr/>
          <p:nvPr/>
        </p:nvSpPr>
        <p:spPr>
          <a:xfrm>
            <a:off x="2981160" y="5043600"/>
            <a:ext cx="129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xt symbolic path formula </a:t>
            </a: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84" name="TextBox 25"/>
          <p:cNvSpPr/>
          <p:nvPr/>
        </p:nvSpPr>
        <p:spPr>
          <a:xfrm>
            <a:off x="3049560" y="6046920"/>
            <a:ext cx="123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xt input (i.e. solution of </a:t>
            </a: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385" name="그룹 1"/>
          <p:cNvGrpSpPr/>
          <p:nvPr/>
        </p:nvGrpSpPr>
        <p:grpSpPr>
          <a:xfrm>
            <a:off x="7920" y="4835520"/>
            <a:ext cx="1160640" cy="2000160"/>
            <a:chOff x="7920" y="4835520"/>
            <a:chExt cx="1160640" cy="2000160"/>
          </a:xfrm>
        </p:grpSpPr>
        <p:sp>
          <p:nvSpPr>
            <p:cNvPr id="386" name="가로로 말린 두루마리 모양 27"/>
            <p:cNvSpPr/>
            <p:nvPr/>
          </p:nvSpPr>
          <p:spPr>
            <a:xfrm>
              <a:off x="150840" y="5121000"/>
              <a:ext cx="857520" cy="571320"/>
            </a:xfrm>
            <a:prstGeom prst="horizontalScroll">
              <a:avLst>
                <a:gd name="adj" fmla="val 12500"/>
              </a:avLst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HY헤드라인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387" name="직사각형 28"/>
            <p:cNvSpPr/>
            <p:nvPr/>
          </p:nvSpPr>
          <p:spPr>
            <a:xfrm>
              <a:off x="150840" y="5724360"/>
              <a:ext cx="857520" cy="46836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External</a:t>
              </a:r>
              <a:endParaRPr b="0" lang="en-US" sz="1400" spc="-1" strike="noStrike">
                <a:solidFill>
                  <a:srgbClr val="000000"/>
                </a:solidFill>
                <a:latin typeface="HY헤드라인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tool</a:t>
              </a:r>
              <a:endParaRPr b="0" lang="en-US" sz="14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388" name="직사각형 29"/>
            <p:cNvSpPr/>
            <p:nvPr/>
          </p:nvSpPr>
          <p:spPr>
            <a:xfrm>
              <a:off x="150840" y="6276960"/>
              <a:ext cx="857520" cy="41580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REST</a:t>
              </a:r>
              <a:endParaRPr b="0" lang="en-US" sz="14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389" name="TextBox 30"/>
            <p:cNvSpPr/>
            <p:nvPr/>
          </p:nvSpPr>
          <p:spPr>
            <a:xfrm>
              <a:off x="150840" y="4835520"/>
              <a:ext cx="92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Legend</a:t>
              </a:r>
              <a:endParaRPr b="0" lang="en-US" sz="16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390" name="직사각형 31"/>
            <p:cNvSpPr/>
            <p:nvPr/>
          </p:nvSpPr>
          <p:spPr>
            <a:xfrm>
              <a:off x="7920" y="4835520"/>
              <a:ext cx="1160640" cy="200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  <p:sp>
        <p:nvSpPr>
          <p:cNvPr id="391" name="직사각형 32"/>
          <p:cNvSpPr/>
          <p:nvPr/>
        </p:nvSpPr>
        <p:spPr>
          <a:xfrm>
            <a:off x="4111560" y="2013120"/>
            <a:ext cx="571680" cy="642600"/>
          </a:xfrm>
          <a:prstGeom prst="rect">
            <a:avLst/>
          </a:prstGeom>
          <a:solidFill>
            <a:srgbClr val="2d2d8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T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92" name="TextBox 33"/>
          <p:cNvSpPr/>
          <p:nvPr/>
        </p:nvSpPr>
        <p:spPr>
          <a:xfrm>
            <a:off x="7207200" y="201600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93" name="TextBox 34"/>
          <p:cNvSpPr/>
          <p:nvPr/>
        </p:nvSpPr>
        <p:spPr>
          <a:xfrm>
            <a:off x="7201080" y="28908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94" name="TextBox 35"/>
          <p:cNvSpPr/>
          <p:nvPr/>
        </p:nvSpPr>
        <p:spPr>
          <a:xfrm>
            <a:off x="7219080" y="481176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95" name="TextBox 36"/>
          <p:cNvSpPr/>
          <p:nvPr/>
        </p:nvSpPr>
        <p:spPr>
          <a:xfrm>
            <a:off x="7180200" y="2367000"/>
            <a:ext cx="258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cil/src/main.ml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cil/src/cil.ml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96" name="TextBox 37"/>
          <p:cNvSpPr/>
          <p:nvPr/>
        </p:nvSpPr>
        <p:spPr>
          <a:xfrm>
            <a:off x="7180200" y="3238560"/>
            <a:ext cx="2725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rc/libcrest/crest.h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rc/libcrest/logger.cc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rc/libcrest/symbolic_memory_writer.cc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rc/libcrest/symbolic_memory_writer.h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rc/libcrest/symbolic_interpreter.h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rc/process_cfg/process_cfg.cc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rc/run_crest/symbolic_memory.cc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rc/run_crest/concolic_search.h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97" name="TextBox 38"/>
          <p:cNvSpPr/>
          <p:nvPr/>
        </p:nvSpPr>
        <p:spPr>
          <a:xfrm>
            <a:off x="7180200" y="5213520"/>
            <a:ext cx="307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rc/run_crest/run_crest.cc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rc/run_crest/concolic_search.cc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rc/run_crest/z3_solver.cc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398" name="Group 37"/>
          <p:cNvGrpSpPr/>
          <p:nvPr/>
        </p:nvGrpSpPr>
        <p:grpSpPr>
          <a:xfrm>
            <a:off x="1217520" y="2889360"/>
            <a:ext cx="8612280" cy="3679560"/>
            <a:chOff x="1217520" y="2889360"/>
            <a:chExt cx="8612280" cy="3679560"/>
          </a:xfrm>
        </p:grpSpPr>
        <p:sp>
          <p:nvSpPr>
            <p:cNvPr id="399" name="AutoShape 3"/>
            <p:cNvSpPr/>
            <p:nvPr/>
          </p:nvSpPr>
          <p:spPr>
            <a:xfrm>
              <a:off x="1217520" y="3397320"/>
              <a:ext cx="2852640" cy="3171600"/>
            </a:xfrm>
            <a:custGeom>
              <a:avLst/>
              <a:gdLst>
                <a:gd name="textAreaLeft" fmla="*/ 50040 w 2852640"/>
                <a:gd name="textAreaRight" fmla="*/ 2802600 w 2852640"/>
                <a:gd name="textAreaTop" fmla="*/ 50040 h 3171600"/>
                <a:gd name="textAreaBottom" fmla="*/ 3121560 h 3171600"/>
              </a:gdLst>
              <a:ahLst/>
              <a:rect l="textAreaLeft" t="textAreaTop" r="textAreaRight" b="textAreaBottom"/>
              <a:pathLst>
                <a:path w="21600" h="24015">
                  <a:moveTo>
                    <a:pt x="1300" y="0"/>
                  </a:moveTo>
                  <a:arcTo wR="1300" hR="1300" stAng="16200000" swAng="-5400000"/>
                  <a:lnTo>
                    <a:pt x="0" y="22715"/>
                  </a:lnTo>
                  <a:arcTo wR="1300" hR="1300" stAng="10800000" swAng="-5400000"/>
                  <a:lnTo>
                    <a:pt x="20300" y="24015"/>
                  </a:lnTo>
                  <a:arcTo wR="1300" hR="1300" stAng="5400000" swAng="-5400000"/>
                  <a:lnTo>
                    <a:pt x="21600" y="1300"/>
                  </a:lnTo>
                  <a:arcTo wR="1300" hR="1300" stAng="0" swAng="-5400000"/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0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개선</a:t>
              </a: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 Windows </a:t>
              </a:r>
              <a:r>
                <a:rPr b="1" lang="ko-KR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에서 실행 가능하게 </a:t>
              </a: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REST </a:t>
              </a:r>
              <a:r>
                <a:rPr b="1" lang="ko-KR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수정</a:t>
              </a:r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336699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문제</a:t>
              </a:r>
              <a:r>
                <a:rPr b="1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: Windows </a:t>
              </a:r>
              <a:r>
                <a:rPr b="1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에서 지원하지 않는 </a:t>
              </a:r>
              <a:r>
                <a:rPr b="1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Linux/Unix </a:t>
              </a:r>
              <a:r>
                <a:rPr b="1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의 </a:t>
              </a:r>
              <a:r>
                <a:rPr b="1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POSIX </a:t>
              </a:r>
              <a:r>
                <a:rPr b="1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표준 함수 사용</a:t>
              </a:r>
              <a:endParaRPr b="0" lang="en-US" sz="1600" spc="-1" strike="noStrike">
                <a:solidFill>
                  <a:srgbClr val="000000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336699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해결책</a:t>
              </a:r>
              <a:r>
                <a:rPr b="1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유사한 </a:t>
              </a:r>
              <a:r>
                <a:rPr b="1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Windows API</a:t>
              </a:r>
              <a:r>
                <a:rPr b="1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로 대체하거나 동일한 기능 수행 함수 신규 구현</a:t>
              </a:r>
              <a:endParaRPr b="0" lang="en-US" sz="16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400" name="직사각형 2"/>
            <p:cNvSpPr/>
            <p:nvPr/>
          </p:nvSpPr>
          <p:spPr>
            <a:xfrm>
              <a:off x="7180200" y="2889360"/>
              <a:ext cx="2649600" cy="2970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Autofit/>
            </a:bodyPr>
            <a:p>
              <a:pPr marL="777960" indent="-298440">
                <a:lnSpc>
                  <a:spcPct val="160000"/>
                </a:lnSpc>
                <a:spcBef>
                  <a:spcPts val="45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  <p:sp>
        <p:nvSpPr>
          <p:cNvPr id="401" name="직사각형 15"/>
          <p:cNvSpPr/>
          <p:nvPr/>
        </p:nvSpPr>
        <p:spPr>
          <a:xfrm>
            <a:off x="4176720" y="4591080"/>
            <a:ext cx="1469880" cy="571320"/>
          </a:xfrm>
          <a:prstGeom prst="rect">
            <a:avLst/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isual Studio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piler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402" name="Group 36"/>
          <p:cNvGrpSpPr/>
          <p:nvPr/>
        </p:nvGrpSpPr>
        <p:grpSpPr>
          <a:xfrm>
            <a:off x="4054320" y="1193760"/>
            <a:ext cx="5775480" cy="3006720"/>
            <a:chOff x="4054320" y="1193760"/>
            <a:chExt cx="5775480" cy="3006720"/>
          </a:xfrm>
        </p:grpSpPr>
        <p:sp>
          <p:nvSpPr>
            <p:cNvPr id="403" name="AutoShape 3"/>
            <p:cNvSpPr/>
            <p:nvPr/>
          </p:nvSpPr>
          <p:spPr>
            <a:xfrm>
              <a:off x="4054320" y="1193760"/>
              <a:ext cx="3057480" cy="3006720"/>
            </a:xfrm>
            <a:prstGeom prst="roundRect">
              <a:avLst>
                <a:gd name="adj" fmla="val 6019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0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개선</a:t>
              </a: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Visual Studio </a:t>
              </a:r>
              <a:r>
                <a:rPr b="1" lang="ko-KR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컴파일러 사용</a:t>
              </a:r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336699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문제</a:t>
              </a:r>
              <a:r>
                <a:rPr b="1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현대차 개발 환경에서 사용하는 </a:t>
              </a:r>
              <a:r>
                <a:rPr b="1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Visual Studio </a:t>
              </a:r>
              <a:r>
                <a:rPr b="1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컴파일러 지원 필요</a:t>
              </a:r>
              <a:endParaRPr b="0" lang="en-US" sz="1600" spc="-1" strike="noStrike">
                <a:solidFill>
                  <a:srgbClr val="000000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336699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해결책</a:t>
              </a:r>
              <a:r>
                <a:rPr b="1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기존 </a:t>
              </a:r>
              <a:r>
                <a:rPr b="1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GCC </a:t>
              </a:r>
              <a:r>
                <a:rPr b="1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컴파일러만 타겟하던 </a:t>
              </a:r>
              <a:r>
                <a:rPr b="1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Front-end</a:t>
              </a:r>
              <a:r>
                <a:rPr b="1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를 수정하여 </a:t>
              </a:r>
              <a:r>
                <a:rPr b="1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Visual Studio </a:t>
              </a:r>
              <a:r>
                <a:rPr b="1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컴파일러가 컴파일 가능한 코드 생성</a:t>
              </a:r>
              <a:endParaRPr b="0" lang="en-US" sz="16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404" name="직사각형 2"/>
            <p:cNvSpPr/>
            <p:nvPr/>
          </p:nvSpPr>
          <p:spPr>
            <a:xfrm>
              <a:off x="7180200" y="2096280"/>
              <a:ext cx="2649600" cy="7959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Autofit/>
            </a:bodyPr>
            <a:p>
              <a:pPr marL="777960" indent="-298440">
                <a:lnSpc>
                  <a:spcPct val="160000"/>
                </a:lnSpc>
                <a:spcBef>
                  <a:spcPts val="451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CC49-F3F7-4C3F-ADDE-AB679EF8E7AB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06" name="AutoShape 45"/>
          <p:cNvSpPr/>
          <p:nvPr/>
        </p:nvSpPr>
        <p:spPr>
          <a:xfrm>
            <a:off x="264960" y="638280"/>
            <a:ext cx="9428400" cy="404640"/>
          </a:xfrm>
          <a:prstGeom prst="roundRect">
            <a:avLst>
              <a:gd name="adj" fmla="val 10718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inux/Windows CREST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행 결과 비교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07" name="Rectangle 179"/>
          <p:cNvSpPr/>
          <p:nvPr/>
        </p:nvSpPr>
        <p:spPr>
          <a:xfrm>
            <a:off x="125280" y="6480"/>
            <a:ext cx="97045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연구내용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08" name="Text Box 177"/>
          <p:cNvSpPr/>
          <p:nvPr/>
        </p:nvSpPr>
        <p:spPr>
          <a:xfrm>
            <a:off x="368280" y="1042920"/>
            <a:ext cx="9218520" cy="17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맑은 고딕"/>
              </a:rPr>
              <a:t>Target Program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8002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KAIST </a:t>
            </a:r>
            <a:r>
              <a:rPr b="0" lang="ko-KR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가 보유한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Floating-point </a:t>
            </a:r>
            <a:r>
              <a:rPr b="0" lang="ko-KR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공용 함수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(ICSC_COM_LinearInterpolation.c) 3</a:t>
            </a:r>
            <a:r>
              <a:rPr b="0" lang="ko-KR" sz="1600" spc="-1" strike="noStrike">
                <a:solidFill>
                  <a:srgbClr val="000000"/>
                </a:solidFill>
                <a:latin typeface="Calibri"/>
                <a:ea typeface="맑은 고딕"/>
              </a:rPr>
              <a:t>개 함수 및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ger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용함수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DC_Lib.c) 9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함수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행환경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Host: I5-3570K 3.4GHz (4 cores), 16GB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모리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Guest: 1 vcore, 2GB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모리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OS: Ubuntu 14.04 64bit, Windows 7 64bit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Linux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버전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dows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버전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RES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는 동일한 수의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C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생성해서 동일한 커버리지를 달성하였으며 실행 시간도 거의 같음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63520" y="3014640"/>
          <a:ext cx="9242280" cy="3594240"/>
        </p:xfrm>
        <a:graphic>
          <a:graphicData uri="http://schemas.openxmlformats.org/drawingml/2006/table">
            <a:tbl>
              <a:tblPr/>
              <a:tblGrid>
                <a:gridCol w="2535120"/>
                <a:gridCol w="908280"/>
                <a:gridCol w="1031760"/>
                <a:gridCol w="1449360"/>
                <a:gridCol w="907920"/>
                <a:gridCol w="1032120"/>
                <a:gridCol w="1377720"/>
              </a:tblGrid>
              <a:tr h="239760">
                <a:tc rowSpan="2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arget Fun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inux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버전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R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Windows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버전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R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Cov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t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xec. Time(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Cov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t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xec.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nd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6/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6/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xterp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/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/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ea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/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/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dd_int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7/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7/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ide_int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/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/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t64_Divide_64_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t64_Multiply_64_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2/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2/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t64_Multiply_u32_u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ultiply_int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/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/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_Multiply_int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5/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5/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_Multi_Divide_int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8/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8/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ubtract_int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7/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7/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평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.5/2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.5/2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슬라이드 번호 개체 틀 5"/>
          <p:cNvSpPr/>
          <p:nvPr/>
        </p:nvSpPr>
        <p:spPr>
          <a:xfrm>
            <a:off x="9478800" y="6588000"/>
            <a:ext cx="482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56CA-3C9D-4D01-9CD3-1DB7AA6723F5}" type="slidenum">
              <a:rPr b="0" lang="en-US" sz="1200" spc="-1" strike="noStrike">
                <a:solidFill>
                  <a:srgbClr val="00009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11" name="AutoShape 45"/>
          <p:cNvSpPr/>
          <p:nvPr/>
        </p:nvSpPr>
        <p:spPr>
          <a:xfrm>
            <a:off x="264960" y="638280"/>
            <a:ext cx="9428400" cy="404640"/>
          </a:xfrm>
          <a:prstGeom prst="roundRect">
            <a:avLst>
              <a:gd name="adj" fmla="val 10718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Undefined behavior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탐지를 위한 자동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ion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12" name="Rectangle 179"/>
          <p:cNvSpPr/>
          <p:nvPr/>
        </p:nvSpPr>
        <p:spPr>
          <a:xfrm>
            <a:off x="125280" y="6480"/>
            <a:ext cx="97045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연구내용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13" name="Text Box 177"/>
          <p:cNvSpPr/>
          <p:nvPr/>
        </p:nvSpPr>
        <p:spPr>
          <a:xfrm>
            <a:off x="317520" y="1087560"/>
            <a:ext cx="921852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ULL pointer dereference, divide-by-zero, static array overflow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탐지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()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문 삽입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2" marL="1047600" indent="-2286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lang C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 도구를 사용하여 포인터 참조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, %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산 구문 및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atic array 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역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수로 스택에 정의한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rray)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근 구문을 실행하기 직전에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ULL pointer dereference, divide-by-zero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rray overflow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체크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sert()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문 삽입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47640" indent="-28584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677880" y="2495520"/>
            <a:ext cx="8370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void int f(int a, int b){ 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int array[5], c;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assert(b!=0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// divide-by-zero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  <a:ea typeface="맑은 고딕"/>
              </a:rPr>
              <a:t>체크를 위해 삽입된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sert()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=a/b;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맑은 고딕"/>
              </a:rPr>
              <a:t>5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맑은 고딕"/>
              </a:rPr>
              <a:t>assert(0 &lt;= c &amp;&amp; c &lt; 5);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맑은 고딕"/>
              </a:rPr>
              <a:t>// array overflow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  <a:ea typeface="맑은 고딕"/>
              </a:rPr>
              <a:t>체크를 위해 삽입된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맑은 고딕"/>
              </a:rPr>
              <a:t>assert()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array[c] = 0; 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 }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33:13Z</dcterms:created>
  <dc:creator>William</dc:creator>
  <dc:description/>
  <dc:language>en-US</dc:language>
  <cp:lastModifiedBy>Windows 사용자</cp:lastModifiedBy>
  <cp:lastPrinted>2017-11-30T15:26:10Z</cp:lastPrinted>
  <dcterms:modified xsi:type="dcterms:W3CDTF">2017-11-30T17:25:48Z</dcterms:modified>
  <cp:revision>864</cp:revision>
  <dc:subject/>
  <dc:title>2006 Hyundai Wiring Design Propose</dc:title>
</cp:coreProperties>
</file>